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CCD-4CA8-48AC-81AC-B87ABB2C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6C3-6E07-49CE-80BC-2E070A2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3EF-1EEF-4FED-B984-2E2353B2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A56-5271-4644-AB62-7CF901F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AD5-29FE-480D-ABC0-C1B3E67A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6A4-5A11-46B2-BB08-0830E0D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32A-A093-4800-A7F0-8AB54D65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1FF-8C59-4E1D-B36B-50A279D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A5A-DCFB-4E11-AB6E-71B7EA6B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C70-60ED-4FF6-AD3E-75E40F4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CD5-3F76-4E53-B0EC-74F5C08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72B-B88D-49F4-B1EB-A411129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C86-02D7-4EBB-8A47-EF6AC3ED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estgov.org/wga/initiatives/wrez/gtm/documents/WREZTxChar1_30_09.xl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iminary Transmission Input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for detailed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76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1:54Z</dcterms:created>
  <dc:creator>Jerry Vaninetti</dc:creator>
  <dc:description/>
  <dc:language>en-US</dc:language>
  <cp:lastModifiedBy>annymous</cp:lastModifiedBy>
  <dcterms:modified xsi:type="dcterms:W3CDTF">2009-01-30T18:58:27Z</dcterms:modified>
  <cp:revision>14</cp:revision>
  <dc:subject/>
  <dc:title>WREZ Transmission Assumptions</dc:title>
</cp:coreProperties>
</file>