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464D-5552-4061-8FDA-D23EA945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4203-94E2-463C-A212-0A1960F3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F611-A54E-479B-B7CA-5006A98A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9CCE-15FD-4FCE-A77F-0DD713CB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7F9-0B1C-4145-A471-15C2DAFB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91EA-57D6-421B-8AFE-EB282DEA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50F9-A70F-44D6-A482-0616F6F3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87AA-F7B9-4290-AF82-FBB213BC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950C-4562-4499-8220-FCADEE87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208F-8059-4BB8-B0FA-33489A49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0462-0A87-4FE8-8FE3-2164990F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8742-BB57-49C0-A15A-7F87F3B1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264D-B85F-454F-83B8-BE202D741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estgov.org/wga/initiatives/wrez/gtm/documents/WREZTxChar1_30_09.xls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liminary Transmission Input Assum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57150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ck here for detailed 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8763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8:21:54Z</dcterms:created>
  <dc:creator>Jerry Vaninetti</dc:creator>
  <dc:description/>
  <dc:language>en-US</dc:language>
  <cp:lastModifiedBy>annymous</cp:lastModifiedBy>
  <dcterms:modified xsi:type="dcterms:W3CDTF">2009-01-30T18:58:27Z</dcterms:modified>
  <cp:revision>14</cp:revision>
  <dc:subject/>
  <dc:title>WREZ Transmission Assumptions</dc:title>
</cp:coreProperties>
</file>