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412-F945-4A57-A3A9-6D09089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6B6-04EB-4433-9B7F-C91EF7A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1DF-1F19-4F30-A0B0-9B2C85DE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C05-5017-4749-9FFB-011A23EA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1C5-54F7-4286-80F9-B0330A88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A14-3FC2-4732-BBB2-D5757F53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B76-7588-4369-82F5-CC0E2FB6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AE4-EB75-49CA-AC83-BDB3E56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B50-E3C5-413D-82EA-87BA34D7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91E-7117-4482-B17F-AF2B4E65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0AA-429C-47E0-B385-14C4BEA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774-500F-4B8C-8F3B-42CC033D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ECB-778C-486B-9228-359BD8DE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estgov.org/wga/initiatives/wrez/gtm/documents/WREZTxChar1_30_09.xl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liminary Transmission Input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for detailed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76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21:54Z</dcterms:created>
  <dc:creator>Jerry Vaninetti</dc:creator>
  <dc:description/>
  <dc:language>en-US</dc:language>
  <cp:lastModifiedBy>annymous</cp:lastModifiedBy>
  <dcterms:modified xsi:type="dcterms:W3CDTF">2009-01-30T18:58:27Z</dcterms:modified>
  <cp:revision>14</cp:revision>
  <dc:subject/>
  <dc:title>WREZ Transmission Assumptions</dc:title>
</cp:coreProperties>
</file>