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85B0-1298-4821-B46F-72FCB90D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6A84-B3BE-41F5-98C0-73FF6A8C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A7C6-4115-4362-A15E-B757FDB3E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31B3-80ED-4DFF-B2BC-6BDCB4FC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B849-801D-49F3-AE0E-090C6A16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9AD4-9B84-427B-A92A-A1FDA683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0C29-2E3D-4631-B26A-95D2E1D5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656D-331A-4BD0-8494-20D9EABC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EFC3-556F-44D6-8C3F-53B47A7C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450C-3498-41FB-A392-2622CE3F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5F98-A777-44A8-B8D0-888DC50B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2477-83FC-4D00-9EF9-22D3AB8C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478D-D007-453F-BD4A-FCD18DB82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estgov.org/wga/initiatives/wrez/gtm/documents/WREZTxChar1_30_09.xls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liminary Transmission Input Assum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57150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ick here for detailed 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87631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8:21:54Z</dcterms:created>
  <dc:creator>Jerry Vaninetti</dc:creator>
  <dc:description/>
  <dc:language>en-US</dc:language>
  <cp:lastModifiedBy>annymous</cp:lastModifiedBy>
  <dcterms:modified xsi:type="dcterms:W3CDTF">2009-01-30T18:58:27Z</dcterms:modified>
  <cp:revision>14</cp:revision>
  <dc:subject/>
  <dc:title>WREZ Transmission Assumptions</dc:title>
</cp:coreProperties>
</file>