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DA9-B432-4119-B4F0-3D8F58C6B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06D-D347-4149-A5BD-6CE11FBDE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56AC-E029-44C2-A568-FD4D4596D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AB3-D060-406A-8FFE-DB04DA837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1C1-31FE-4A96-B4B3-574A880D8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B99-A1FE-4B9B-BB91-1588D11D2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047-5EEA-4563-8235-4DC85850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553-B743-4FDB-A18E-CEB953AD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1BD-AC23-449D-9E16-35336C1E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62B-4AA4-4DD3-94D6-D5B0397D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BB5C-9633-40DE-9B5C-219F826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613B-0BF9-4218-8C09-C53E620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DEF6-0432-4F3F-88F0-266094A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507-BDB3-4E69-B9DB-0690C4F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5A3-8584-48DC-9C19-C029A710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DDC6-A93D-407C-9684-44F3B70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EE2-B756-4DD9-BC37-A5046221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D2-C7D4-4EAB-BE22-400A7DF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8D7F-0755-4FE3-87F6-E338D64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B148-00A1-46FF-AF58-0E3CBAD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4A4-37B9-4700-ADA4-FE2B6F55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455-BEE7-401E-A57D-9D76E1DD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B94B-BAE1-41C6-9136-A9578793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E09CA-A281-4583-B8F6-2DD0282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8E6E8-CE1A-4156-B8BC-23393F9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05045-D604-48BD-B83F-9E85955F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B80E8-74C5-4DCA-8968-D417FB9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3F1EF-4BD9-44D0-8D96-8B94890E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8DE-EBAE-4EC6-8EAA-7F7E244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BD666-2E31-4453-867F-96F6585B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B9638-F8C9-414D-A700-0EE098F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F3560-17FE-4200-AF9F-D2E3B73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CF54A-D3A1-4F35-B4AE-02B91AE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23438-F553-42E8-80F2-79E6617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6F13A-D675-4499-95D4-24D53D4D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F156F-5F8D-4DA1-866F-3F5A5C99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A5B-B8EA-4897-99C3-0BFD5B8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6BC-6F51-48DA-BE21-9FF7EE33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59E-B462-41C5-9779-ADB55EA6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294-FCAA-4120-BB9A-8B772EC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67F-1B16-4CF9-A71E-62A52F8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2B2-F48A-4804-8FA2-EEA3E21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E3D1-82D9-4160-B82A-49A8EF2D1D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513-F808-4FA0-B467-0784CB0D9A5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7BE3-B4D4-446F-BB52-102A29F6F1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Vehicle Efficiency Committee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 Boes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nsportation Fuels for the Future Workshop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ctober 10-12 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ehicle and System Efficiency in the Wes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-- Backgroun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10"/>
          <p:cNvSpPr/>
          <p:nvPr/>
        </p:nvSpPr>
        <p:spPr>
          <a:xfrm>
            <a:off x="60948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fficiency of vehicles in the West has stagnated over the last 22 years – consistent with trends in the rest of the cou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less vehicle efficiency is increased significantly energy security problems will persist for at least another 25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tween 1975-1985 effective public policy resulted in dramatic gains in passenger car and light truck fuel ec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ales weighted average passenger car mpg increased from 15.8 in 1975 to 27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ght truck fuel economy rose from 13.7 in 1975 to 20.6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echnology didn’t stagnate, the policy direction to use it d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) Each Western State should adopt a goal and a timeline for cutting its petroleum consumption (on a statewide basis) while also reducing greenhouse gas emis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2003 both the California Energy Commission and the Air Resources Board agreed to the following goals:  by 2020 the state will consume 15% less oil compared to 2003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e:  CA’s gasoline consumption in 2006 was 15.83 billion gallons compared to 15.94 billion gallons in 200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deally each Western State would adopt the CEC/CARB goa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provide data on its annual oil consumption to the WGA which will publish the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le working toward these goals, the states should also seek to reduce its net greenhouse gas emissions from the transportation sector by 10% (compared to 2003 level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)  Governors should lobby Congress to strengthen federal fuel economy standards and eliminate loopho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roup unable to reach consensus on which specific bill to suppor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)  Incentives Are Helpful and Necess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tates should provide incentive funding to encourage the deployment of more efficient vehicles (i.e. Colorado’s hybrid tax credit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hould apply to passenger and commercial vehicl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’s should lobby congress to create long-term extensions of the existing alternative fuel and efficient vehicle tax credi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Federal tax credits due to expire in 2009 should be extended until 2020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also encourage Congress to support next generation low carbon fuel and efficient vehicle R&amp;D funding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ere are tools in the toolkit but better ones would be helpfu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)  Leading By Example – State Fleets Walking The Wal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sistent with the state-wide goals for petroleum reduction the state’s fleet should be a model for those in local government and the private secto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recruit major fleets to join the effort and commit to similar goals (and participate in an annual reporting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)  Governor’s Should Become Energy Security Story Tell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f all regions in the country Westerners are most likely to take pride in reducing our dependence on oil and preventing global warm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6)  Fuel efficiency labeling for tires and vehic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as stations should be required to provide free ai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7)  Trucks in State Fleet should become members of EPA’s Smart Ways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8)  Western states should adopt rules restricting truck idling – and ensure proper enforc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unding should be provided for truck stop electrific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9)  Pay As You Drive Insurance can be effective in reducing oil consumption and should be adopted by the st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der such plans those who drive more pay more in insura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Higher prices do encourage conserv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f unwilling to support standard gas tax increases the Governors should consider a program whereby gas taxes are increased steadily over a decade while providing rebates resulting in revenue neutral progra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Governors should support a national cap and trade program to reduce greenhouse gas emissions from the transportation 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the absence of federal action the Western States, either collectively or individually, should consider adopting their/its own cap and trade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1) Feebates (fees on less efficient vehicles used to provide incentives for more efficient vehicles) can be helpful if structured properly – Consensus not reach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Governors should be looking at the over-all energy consumed in the transportation system as a who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re are limits on how much oil dependence can be cut by looking at the vehicle and fuels alon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seek ways to encourage energy efficient land-use planning and decision mak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Mixed-use development, combining light commercial with residential, reduces the need for vehicle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Portland has combined growth boundaries with efficient, attractive, and easily accessible transit to cut down on car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ates may be able to use its own infrastructure investments to encourage improved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GA should commission a report on how state funding can best be used to encourage energy efficient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ants can be provided for communities to develop low carbon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71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Systems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1T13:32:22Z</dcterms:modified>
  <cp:revision>45</cp:revision>
  <dc:subject/>
  <dc:title>WGA Transportation Fuels for the future Initiative</dc:title>
</cp:coreProperties>
</file>