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0955-B549-4D01-AF00-499CB5E7B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D2D0-0651-4470-BD03-7D357CEFF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4A9-6F69-4B6B-941C-96C280C54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CAA5-37BD-4476-9B2F-D6C10521B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945F-0F46-45A0-A084-A839401A1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55E5-7DFE-4E01-B6F5-6AC90CFDB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319-1DBE-4C35-A080-BCA65C82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E6A-AF86-42C8-A7A5-11C90518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880-6C72-47EE-9C0E-5886CE8E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E7E-5620-4B96-B3EB-870C461F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F766-B36B-4FE7-8832-B1B64573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E80E-9908-46E2-A111-105596C2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8148-F0B8-423F-9BBD-022A47D2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71BF-47EF-4124-B950-D4A8AB4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E4DF-A2AC-48FB-BCD8-536324EF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F0B9-7011-4E0B-9F1E-A0E8C31A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B311-DA99-4A66-A63E-9E19BA43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AEC-DFA1-4DB7-9D9A-984447B7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AEAE-218E-4F8A-9F7C-D67CDC2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63CF-91E0-4619-A6C0-9E573056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A739-E941-4254-8967-4851783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8151-B130-4AE4-A74F-C3F59EB7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4CD-717D-4C5C-B62C-C8285139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0AF00-52CD-4FE4-831B-BF197071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2C995-7C01-4524-8293-DCE9200A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93ED4-35A5-49BD-AAF0-D131A17F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13E80-B14F-4229-ACCC-DEC4A910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7675D-FBF6-4C03-B094-44C26881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60E-FD29-4C97-9AEF-7BB9D10F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38375-7D9F-40C5-A1EC-9B8B5F2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BE161-44A1-41B1-A81E-0FDBE20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BE22C-3414-44F5-B0EB-833A021C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B459B-19A3-4119-8192-CDF05ED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98098-9229-4647-9C61-76138D36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DB9AA-5B57-46BF-88B6-7B440F67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905C1-C80F-413F-9F32-E7189862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ECC-B614-4A61-8C1A-8F7278FC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83C-FEB5-4633-9A87-5506F501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91E-CE12-46C2-92B7-D28E931D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649-BE75-4CC6-8B1B-F388D213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DB8-BEE7-42D7-879A-DDDB13F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C93-2E94-48DA-8C41-4F842796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438A-6C26-4FD3-9814-4584AB2570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5EE0-CF9B-4E83-9234-5997BF36499B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170D-B1A1-4ECF-9106-8CDF21F237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36232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WGA TRANSPORTATION FUELS FOR THE FUTURE INITIATIVE</a:t>
            </a:r>
            <a:br>
              <a:rPr sz="40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Vehicle Efficiency Committee Report Summary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John Boes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198108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39625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7"/>
          <a:srcRect l="0" t="0" r="0" b="26717"/>
          <a:stretch/>
        </p:blipFill>
        <p:spPr>
          <a:xfrm>
            <a:off x="4952880" y="83808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1"/>
          <p:cNvSpPr/>
          <p:nvPr/>
        </p:nvSpPr>
        <p:spPr>
          <a:xfrm>
            <a:off x="1523880" y="43434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ransportation Fuels for the Future Workshop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ver, C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ctober 10-12 , 2007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Vehicle and System Efficiency in the West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-- Backgroun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152" name="Content Placeholder 10"/>
          <p:cNvSpPr/>
          <p:nvPr/>
        </p:nvSpPr>
        <p:spPr>
          <a:xfrm>
            <a:off x="60948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fficiency of vehicles in the West has stagnated over the last 22 years – consistent with trends in the rest of the count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less vehicle efficiency is increased significantly energy security problems will persist for at least another 25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etween 1975-1985 effective public policy resulted in dramatic gains in passenger car and light truck fuel ec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ales weighted average passenger car mpg increased from 15.8 in 1975 to 27 in 198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ght truck fuel economy rose from 13.7 in 1975 to 20.6 in 198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technology didn’t stagnate, the policy direction to use it di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) Each Western State should adopt a goal and a timeline for cutting its petroleum consumption (on a statewide basis) while also reducing greenhouse gas emis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2003 both the California Energy Commission and the Air Resources Board agreed to the following goals:  by 2020 the state will consume 15% less oil compared to 2003 level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te:  CA’s gasoline consumption in 2006 was 15.83 billion gallons compared to 15.94 billion gallons in 200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deally each Western State would adopt the CEC/CARB goa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state should provide data on its annual oil consumption to the WGA which will publish the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le working toward these goals, the states should also seek to reduce its net greenhouse gas emissions from the transportation sector by 10% (compared to 2003 level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2)  Governors should lobby Congress to strengthen federal fuel economy standards and eliminate loopho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roup unable to reach consensus on which specific bill to suppor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)  Incentives Are Helpful and Necess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tates should provide incentive funding to encourage the deployment of more efficient vehicles (i.e. Colorado’s hybrid tax credit program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Should apply to passenger and commercial vehicle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’s should lobby congress to create long-term extensions of the existing alternative fuel and efficient vehicle tax credit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Federal tax credits due to expire in 2009 should be extended until 2020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 should also encourage Congress to support next generation low carbon fuel and efficient vehicle R&amp;D funding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here are tools in the toolkit but better ones would be helpfu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)  Leading By Example – State Fleets Walking The Wal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onsistent with the state-wide goals for petroleum reduction the state’s fleet should be a model for those in local government and the private secto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 should recruit major fleets to join the effort and commit to similar goals (and participate in an annual reporting program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5)  Governor’s Should Become Energy Security Story Tell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Of all regions in the country Westerners are most likely to take pride in reducing our dependence on oil and preventing global warming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6)  Fuel efficiency labeling for tires and vehic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as stations should be required to provide free ai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7)  Trucks in State Fleet should become members of EPA’s Smart Ways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8)  Western states should adopt rules restricting truck idling – and ensure proper enforc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unding should be provided for truck stop electrifica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9)  Pay As You Drive Insurance can be effective in reducing oil consumption and should be adopted by the st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nder such plans those who drive more pay more in insura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0) Higher prices do encourage conserv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If unwilling to support standard gas tax increases the Governors should consider a program whereby gas taxes are increased steadily over a decade while providing rebates resulting in revenue neutral progra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0) Governors should support a national cap and trade program to reduce greenhouse gas emissions from the transportation 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the absence of federal action the Western States, either collectively or individually, should consider adopting their/its own cap and trade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1) Feebates (fees on less efficient vehicles used to provide incentives for more efficient vehicles) can be helpful if structured properly – Consensus not reach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Title 8"/>
          <p:cNvSpPr/>
          <p:nvPr/>
        </p:nvSpPr>
        <p:spPr>
          <a:xfrm>
            <a:off x="152388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Wheel Efficie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8302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Governors should be looking at the over-all energy consumed in the transportation system as a who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re are limits on how much oil dependence can be cut by looking at the vehicle and fuels alon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state should seek ways to encourage energy efficient land-use planning and decision maki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ample:  Mixed-use development, combining light commercial with residential, reduces the need for vehicle trip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ample:  Portland has combined growth boundaries with efficient, attractive, and easily accessible transit to cut down on car trip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tates may be able to use its own infrastructure investments to encourage improved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WGA should commission a report on how state funding can best be used to encourage energy efficient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rants can be provided for communities to develop low carbon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171" name="Title 8"/>
          <p:cNvSpPr/>
          <p:nvPr/>
        </p:nvSpPr>
        <p:spPr>
          <a:xfrm>
            <a:off x="152388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Systems Efficie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36:28Z</dcterms:created>
  <dc:creator>aschroeder</dc:creator>
  <dc:description/>
  <dc:language>en-US</dc:language>
  <cp:lastModifiedBy>mfutch</cp:lastModifiedBy>
  <dcterms:modified xsi:type="dcterms:W3CDTF">2007-10-11T13:32:22Z</dcterms:modified>
  <cp:revision>45</cp:revision>
  <dc:subject/>
  <dc:title>WGA Transportation Fuels for the future Initiative</dc:title>
</cp:coreProperties>
</file>