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5D3C-7388-41FF-BC8B-1E070ACB5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366B-9521-46E0-B7E8-8C43BFD36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2FC-ECA2-4BBC-AACC-ED0676248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611F-6533-4306-9A06-7EA65F6F9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A8C-B6C8-4666-91A4-9436CA354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67AD-3216-4975-82C0-A2EE63A2C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716-3D6E-481F-8BF8-98ABDD89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170-D488-4243-A0D7-C52182B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10D-39B2-4464-8EB7-77D7F375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041-5BCF-4BF4-87CF-1C438DD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8E99-3B09-4D79-B92C-525941A8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36A-4AB9-4300-8A4A-A7D24E4D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221F-7F70-44FF-A9C2-486CCE81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7E98-4652-4956-AB49-02973A06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75E-05F5-4D55-A878-794A5F34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0623-9E38-44BE-9489-A90B84C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E867-69A0-4219-B1EC-0972A05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DA8-8F8F-403F-945B-66E3F53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6D2C-B7EE-447F-B728-439D1CF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1CB3-E553-47E1-A477-484BDF4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F230-CEB6-448B-A1B1-FB316BE1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859-1B5A-4656-9F48-79B30A32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D0B9-5CC0-4197-92B3-337C0EE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24CDF-968C-47E0-A904-939721D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C805A-5515-4E68-8BF0-5F6656C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1B75C-B5F8-4E03-930E-DDD8D364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FD568-1365-4BCF-BD40-7570B57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AD31-38C5-4062-A74A-9B9182C9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603-14B9-461D-A28A-72D9FAA6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E2B30-C861-413D-A367-80CC7EE0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0E859-CFE0-4335-A592-3BE9E7F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89F32-DBCF-499A-90D8-5F6BD8B7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4949D-12FE-4FEB-A45F-2262227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97750-028B-4DD2-8D51-8541BDF9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B5A72-4178-478B-81F6-BE8F4D28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0CDFF-D0F2-4C7F-BC59-72B68BEE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5E-9F00-404A-9AC4-71F2621D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97F-B674-4F3B-96FA-89B473A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7DA-A8F7-4A09-9860-B2FCE4C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DE2-188A-44F8-AF86-30877AF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5FE-0F4D-4663-88B1-A5C94B1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C70-C1ED-4C93-938A-D46F3FE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666-13AA-4A98-AAAC-CD2C9E3825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37B8-1B11-4070-87C9-C71E9D161E4F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384E-13E0-4213-839C-D0666CFD69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Vehicle Efficiency Committee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 Boes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nsportation Fuels for the Future Workshop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ctober 10-12 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ehicle and System Efficiency in the Wes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-- Backgroun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10"/>
          <p:cNvSpPr/>
          <p:nvPr/>
        </p:nvSpPr>
        <p:spPr>
          <a:xfrm>
            <a:off x="60948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fficiency of vehicles in the West has stagnated over the last 22 years – consistent with trends in the rest of the cou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less vehicle efficiency is increased significantly energy security problems will persist for at least another 25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tween 1975-1985 effective public policy resulted in dramatic gains in passenger car and light truck fuel ec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ales weighted average passenger car mpg increased from 15.8 in 1975 to 27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ght truck fuel economy rose from 13.7 in 1975 to 20.6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echnology didn’t stagnate, the policy direction to use it d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) Each Western State should adopt a goal and a timeline for cutting its petroleum consumption (on a statewide basis) while also reducing greenhouse gas emis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2003 both the California Energy Commission and the Air Resources Board agreed to the following goals:  by 2020 the state will consume 15% less oil compared to 2003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e:  CA’s gasoline consumption in 2006 was 15.83 billion gallons compared to 15.94 billion gallons in 200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deally each Western State would adopt the CEC/CARB goa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provide data on its annual oil consumption to the WGA which will publish the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le working toward these goals, the states should also seek to reduce its net greenhouse gas emissions from the transportation sector by 10% (compared to 2003 level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)  Governors should lobby Congress to strengthen federal fuel economy standards and eliminate loopho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roup unable to reach consensus on which specific bill to suppor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)  Incentives Are Helpful and Necess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tates should provide incentive funding to encourage the deployment of more efficient vehicles (i.e. Colorado’s hybrid tax credit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hould apply to passenger and commercial vehicl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’s should lobby congress to create long-term extensions of the existing alternative fuel and efficient vehicle tax credi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Federal tax credits due to expire in 2009 should be extended until 2020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also encourage Congress to support next generation low carbon fuel and efficient vehicle R&amp;D funding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ere are tools in the toolkit but better ones would be helpfu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)  Leading By Example – State Fleets Walking The Wal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sistent with the state-wide goals for petroleum reduction the state’s fleet should be a model for those in local government and the private secto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recruit major fleets to join the effort and commit to similar goals (and participate in an annual reporting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)  Governor’s Should Become Energy Security Story Tell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f all regions in the country Westerners are most likely to take pride in reducing our dependence on oil and preventing global warm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6)  Fuel efficiency labeling for tires and vehic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as stations should be required to provide free ai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7)  Trucks in State Fleet should become members of EPA’s Smart Ways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8)  Western states should adopt rules restricting truck idling – and ensure proper enforc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unding should be provided for truck stop electrific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9)  Pay As You Drive Insurance can be effective in reducing oil consumption and should be adopted by the st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der such plans those who drive more pay more in insura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Higher prices do encourage conserv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f unwilling to support standard gas tax increases the Governors should consider a program whereby gas taxes are increased steadily over a decade while providing rebates resulting in revenue neutral progra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Governors should support a national cap and trade program to reduce greenhouse gas emissions from the transportation 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the absence of federal action the Western States, either collectively or individually, should consider adopting their/its own cap and trade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1) Feebates (fees on less efficient vehicles used to provide incentives for more efficient vehicles) can be helpful if structured properly – Consensus not reach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Governors should be looking at the over-all energy consumed in the transportation system as a who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re are limits on how much oil dependence can be cut by looking at the vehicle and fuels alon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seek ways to encourage energy efficient land-use planning and decision mak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Mixed-use development, combining light commercial with residential, reduces the need for vehicle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Portland has combined growth boundaries with efficient, attractive, and easily accessible transit to cut down on car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ates may be able to use its own infrastructure investments to encourage improved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GA should commission a report on how state funding can best be used to encourage energy efficient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ants can be provided for communities to develop low carbon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71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Systems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1T13:32:22Z</dcterms:modified>
  <cp:revision>45</cp:revision>
  <dc:subject/>
  <dc:title>WGA Transportation Fuels for the future Initiative</dc:title>
</cp:coreProperties>
</file>