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BC1-FE84-401F-BECB-CA7D9E913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E4B-D711-409B-9E68-371ECFB49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D31-F8BE-46D5-BFCB-1EC7D842BF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7373-1A2F-446D-AECE-FB6AA45F7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B82F-0FEF-46EB-B343-4174C61321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D4BB-6E0B-4F47-8330-D3946034A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B2E-CBA3-43EB-972E-349C35C9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FFC5-39AF-4857-92D0-CAF02033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EE8-430F-4249-9FC3-214CB19E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5C7-B313-4D40-A951-74748AB0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139-2768-4865-B942-C36390A6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8485-6957-4638-8101-CE3018B1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AFDF-92A7-4B6E-AD33-6A74F7B4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0AE-9262-4942-96D4-351CEC34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7907-D23E-4A32-B27D-1B47DB8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6EF1-10F8-40D1-9AF5-C3F52C30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ED15-C7CC-4851-B987-7E566E3E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F38-8922-4DDE-8D0F-4E2324DC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F676-712F-499F-8258-A6A5E9A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1AB3-B5C4-4941-93B6-6BAC74A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9FB4-A5F1-4612-A0DE-E881807E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A3C9-153A-4C67-9666-FFC096F4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BE2B-FA6A-4AE5-9E34-EBC060472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6FA04-73B5-4889-A996-B2159E7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CBD5D-085B-413E-A752-64674411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FBB5B-9CA1-40C8-A9A9-514C524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5F74F-916F-4133-A7BA-049927EC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3786C2-BE21-4A04-833D-FF064820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A33-1A50-49B5-BBC4-4EFAA2EF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13F85-2F87-453D-BB12-3728E5C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75335-5F16-4FDA-A374-3717EB3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42A54-8F71-4737-ADB0-8953EE0B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9A183-8FB0-4CA8-8584-FCB63077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06027-0F47-4102-B07A-82FBB987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29F16-69B8-424B-A64C-DF1195E2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3AF02-8876-416B-8EEF-5A944836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07B-D941-47E4-87C9-1139FFB5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FDF-E5A9-476D-A732-BB628509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42D2-1875-4887-9E57-F0538CFB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179-D7C0-4FC3-AE8A-05AD0F38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6A03-BDB4-49EA-94CB-A68261CE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07B-60C8-4B06-9751-02FE0E2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BFA-27DF-4891-B4EA-6A6F124058C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362-5ABB-476D-B006-8A291535CC9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DFD7-F09D-4FBD-B719-51E3C76E45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560" y="236232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Vehicle Efficiency Committee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John Boesel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nsportation Fuels for the Future Workshop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ctober 10-12 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ehicle and System Efficiency in the West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-- Backgroun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52" name="Content Placeholder 10"/>
          <p:cNvSpPr/>
          <p:nvPr/>
        </p:nvSpPr>
        <p:spPr>
          <a:xfrm>
            <a:off x="60948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fficiency of vehicles in the West has stagnated over the last 22 years – consistent with trends in the rest of the countr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less vehicle efficiency is increased significantly energy security problems will persist for at least another 25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tween 1975-1985 effective public policy resulted in dramatic gains in passenger car and light truck fuel econom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ales weighted average passenger car mpg increased from 15.8 in 1975 to 27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ght truck fuel economy rose from 13.7 in 1975 to 20.6 in 198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50080" indent="-2343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echnology didn’t stagnate, the policy direction to use it di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3716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) Each Western State should adopt a goal and a timeline for cutting its petroleum consumption (on a statewide basis) while also reducing greenhouse gas emissio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2003 both the California Energy Commission and the Air Resources Board agreed to the following goals:  by 2020 the state will consume 15% less oil compared to 2003 levels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028520" indent="-20556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te:  CA’s gasoline consumption in 2006 was 15.83 billion gallons compared to 15.94 billion gallons in 200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deally each Western State would adopt the CEC/CARB goal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provide data on its annual oil consumption to the WGA which will publish the inform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hile working toward these goals, the states should also seek to reduce its net greenhouse gas emissions from the transportation sector by 10% (compared to 2003 level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2)  Governors should lobby Congress to strengthen federal fuel economy standards and eliminate loopho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roup unable to reach consensus on which specific bill to support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)  Incentives Are Helpful and Necess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States should provide incentive funding to encourage the deployment of more efficient vehicles (i.e. Colorado’s hybrid tax credit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Should apply to passenger and commercial vehicle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’s should lobby congress to create long-term extensions of the existing alternative fuel and efficient vehicle tax credit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Federal tax credits due to expire in 2009 should be extended until 2020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also encourage Congress to support next generation low carbon fuel and efficient vehicle R&amp;D funding 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1085760" indent="-21708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There are tools in the toolkit but better ones would be helpful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3716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4)  Leading By Example – State Fleets Walking The Wal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Consistent with the state-wide goals for petroleum reduction the state’s fleet should be a model for those in local government and the private secto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 Governor should recruit major fleets to join the effort and commit to similar goals (and participate in an annual reporting program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5)  Governor’s Should Become Energy Security Story Tell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Of all regions in the country Westerners are most likely to take pride in reducing our dependence on oil and preventing global warming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6)  Fuel efficiency labeling for tires and vehic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Gas stations should be required to provide free ai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7)  Trucks in State Fleet should become members of EPA’s Smart Ways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8)  Western states should adopt rules restricting truck idling – and ensure proper enforc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unding should be provided for truck stop electrification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9)  Pay As You Drive Insurance can be effective in reducing oil consumption and should be adopted by the st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Under such plans those who drive more pay more in insuranc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Higher prices do encourage conserv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If unwilling to support standard gas tax increases the Governors should consider a program whereby gas taxes are increased steadily over a decade while providing rebates resulting in revenue neutral progra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0) Governors should support a national cap and trade program to reduce greenhouse gas emissions from the transportation 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the absence of federal action the Western States, either collectively or individually, should consider adopting their/its own cap and trade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1) Feebates (fees on less efficient vehicles used to provide incentives for more efficient vehicles) can be helpful if structured properly – Consensus not reach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Tank to Wheel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360" y="1600200"/>
            <a:ext cx="8302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Governors should be looking at the over-all energy consumed in the transportation system as a who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There are limits on how much oil dependence can be cut by looking at the vehicle and fuels alone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ach state should seek ways to encourage energy efficient land-use planning and decision making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Mixed-use development, combining light commercial with residential, reduces the need for vehicle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Example:  Portland has combined growth boundaries with efficient, attractive, and easily accessible transit to cut down on car trips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states may be able to use its own infrastructure investments to encourage improved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WGA should commission a report on how state funding can best be used to encourage energy efficient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Grants can be provided for communities to develop low carbon land-use plann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  <p:sp>
        <p:nvSpPr>
          <p:cNvPr id="171" name="Title 8"/>
          <p:cNvSpPr/>
          <p:nvPr/>
        </p:nvSpPr>
        <p:spPr>
          <a:xfrm>
            <a:off x="1523880" y="228600"/>
            <a:ext cx="724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Primary Recommendations – Systems Efficiency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1T13:32:22Z</dcterms:modified>
  <cp:revision>45</cp:revision>
  <dc:subject/>
  <dc:title>WGA Transportation Fuels for the future Initiative</dc:title>
</cp:coreProperties>
</file>