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AB44-EF25-493E-87B8-63FB0F04A79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1BBB-4978-4B78-8872-2DF3BAF9B82B}"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5FBE-3F13-4DF4-8622-7F7B45E264C0}"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7004E-1FFC-4FCF-A13E-C519305E7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E8840-BFC7-418F-9ECA-2DE845C91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01E68-EAC9-4A17-A307-7CA892561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AE9BF-C37B-490A-967E-2BB171B5A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6B847-2135-419A-9B3E-60A346D1A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33D1B-7CA9-43B7-9E75-8388578F6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E0EA2-5254-4586-86A9-875DE200D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7376B-B8E8-4A17-9C0A-45D8F100C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B2C98-7741-4643-A04E-A8D6616FF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5DD2F-E1CE-4845-9674-EF0B0FC6C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8B1F1-FB16-4E7C-ADC0-E483297B3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E23DF-B2AD-4CCD-9E90-6B0BD9FA1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55E64-202A-4BB2-91F1-F9CD30B46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7838B-7E5A-46F7-B884-4E277F351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0E061B-7768-4DA2-BE44-010429486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9D103A-7BC4-48F8-9100-AB424270E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4EE2D-A8F1-4080-9B2A-2C66669740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42D4B7C-31E3-464D-B47D-6E9D11A904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56CC58-E5D2-42EE-BC71-EAD42F3746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973482-9BB7-4C72-8556-E28CDB64D2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E808613-578D-4D47-AE14-F93C2BAA9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4E3A766-A2A4-49FF-B3FF-0E53486C1F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9EE66-BF19-4BB3-B3C4-9845986F4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C2C732-3039-474E-9C7E-76B8EA858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6C34DE0-3F12-4A08-BBC8-BAA2375B5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F42C90-8D90-4AAF-BC67-ED0CBE197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41C8D0-3C3F-4A0C-8D6F-633C1C188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D9FB04A-233A-4DCA-80E5-EE9C0DD8E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13BA9B7-E253-4F2C-B047-14EF71823C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B3B65AA-7752-43F5-9AEC-C11AF64795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D8343-BD66-4D3F-9B2B-B775B5A2C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26030-2752-497C-9EBF-AD0AE6823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102A6-1587-40A1-B082-050B1FE69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4B4BC-7130-47B2-8204-91EFD7EB9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C722D-7194-4802-8372-1F9F921F8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E5212-B47F-454D-8E7D-AB46CD593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96C8-9B0A-457C-8889-D6E3298DC2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CD16-536A-494F-86EC-18400C469F6D}"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275DC-8571-470D-A1EE-AA0960AE250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2362320"/>
            <a:ext cx="73911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Electricity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Bob Graham, Electric Team Lead</a:t>
            </a:r>
            <a:endParaRPr b="0" lang="en-US" sz="20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While there is substantial concern for adequacy of petroleum supplies, the West has ample coal, natural gas, solar, and wind resources from which electricity can be produced</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The West has an excellent electrical infrastructure is in place and immediately available. Electric utilities have substantial unused off-peak capacity available for overnight or other charging.  Use of this capacity would markedly benefit the electric utility industry. Needed technology development for charging vehicles is trivial.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   Use of electricity for transportation will significantly reduce toxic and carbon emissions compared to petroleum fuels.</a:t>
            </a:r>
            <a:endParaRPr b="0" lang="en-US" sz="16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1 -  Present battery technology makes electric and plug-in hybrid-electric vehicles more expensive than a comparable vehicle with the same amenities, limits electric range, and increases vehicle weight.</a:t>
            </a:r>
            <a:endParaRPr b="0" lang="en-US" sz="1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2  -  Consumer acceptance of new, likely more expensive technology, could expectedly be slow unless a strong value/benefit can be established.</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Challenge 3  -  Infrastructure developments such as consumer education regarding home refueling, off-peak utility pricing, public and on-the-road charging facilities and possible utility buy-back provisions from two-way charging connections are needed to fully take advantage of the potential of electricity use for transportation. </a:t>
            </a: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Select 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PlaceHolder 2"/>
          <p:cNvSpPr>
            <a:spLocks noGrp="1"/>
          </p:cNvSpPr>
          <p:nvPr>
            <p:ph/>
          </p:nvPr>
        </p:nvSpPr>
        <p:spPr>
          <a:xfrm>
            <a:off x="380520" y="1600200"/>
            <a:ext cx="853452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General Recommendation  -  The transition to widespread use of electricity as a transport fuel in the Western states requires consumer education and a long-term commitment from key parties, including utilities and government agencies.</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1 -  </a:t>
            </a:r>
            <a:r>
              <a:rPr b="0" lang="en-US" sz="1600" spc="-1" strike="noStrike">
                <a:solidFill>
                  <a:srgbClr val="000000"/>
                </a:solidFill>
                <a:latin typeface="Tw Cen MT"/>
                <a:ea typeface="ＭＳ Ｐゴシック"/>
              </a:rPr>
              <a:t>Provide stable funding at the federal and state levels for battery research and development and distribute the results to the public as widely as possible.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2  -  </a:t>
            </a:r>
            <a:r>
              <a:rPr b="0" lang="en-US" sz="1600" spc="-1" strike="noStrike">
                <a:solidFill>
                  <a:srgbClr val="000000"/>
                </a:solidFill>
                <a:latin typeface="Tw Cen MT"/>
                <a:ea typeface="ＭＳ Ｐゴシック"/>
              </a:rPr>
              <a:t>Support federal, state and local demonstrations of plug-in hybrid electric vehicles (PHEVs) by public and private entities.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3  -  </a:t>
            </a:r>
            <a:r>
              <a:rPr b="0" lang="en-US" sz="1600" spc="-1" strike="noStrike">
                <a:solidFill>
                  <a:srgbClr val="000000"/>
                </a:solidFill>
                <a:latin typeface="Tw Cen MT"/>
                <a:ea typeface="ＭＳ Ｐゴシック"/>
              </a:rPr>
              <a:t>Revise government fleet purchasing programs to provide market certainty to manufacturers and promote technology demonstration. (</a:t>
            </a:r>
            <a:r>
              <a:rPr b="0" i="1" lang="en-US" sz="1600" spc="-1" strike="noStrike">
                <a:solidFill>
                  <a:srgbClr val="000000"/>
                </a:solidFill>
                <a:latin typeface="Tw Cen MT"/>
                <a:ea typeface="ＭＳ Ｐゴシック"/>
              </a:rPr>
              <a:t>near-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4  -  </a:t>
            </a:r>
            <a:r>
              <a:rPr b="0" lang="en-US" sz="1600" spc="-1" strike="noStrike">
                <a:solidFill>
                  <a:srgbClr val="000000"/>
                </a:solidFill>
                <a:latin typeface="Tw Cen MT"/>
                <a:ea typeface="ＭＳ Ｐゴシック"/>
              </a:rPr>
              <a:t>Address the uncertainty associated with the new technology of new financing and insurance options, e.g., state-backed battery warranties that extend beyond current manufacturer warranties and utility financing for batteries. (</a:t>
            </a:r>
            <a:r>
              <a:rPr b="0" i="1" lang="en-US" sz="1600" spc="-1" strike="noStrike">
                <a:solidFill>
                  <a:srgbClr val="000000"/>
                </a:solidFill>
                <a:latin typeface="Tw Cen MT"/>
                <a:ea typeface="ＭＳ Ｐゴシック"/>
              </a:rPr>
              <a:t>mid-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a:p>
            <a:pPr marL="306000" indent="-306000">
              <a:lnSpc>
                <a:spcPct val="90000"/>
              </a:lnSpc>
              <a:spcBef>
                <a:spcPts val="700"/>
              </a:spcBef>
              <a:spcAft>
                <a:spcPts val="700"/>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Recommendation 5  -  </a:t>
            </a:r>
            <a:r>
              <a:rPr b="0" lang="en-US" sz="1600" spc="-1" strike="noStrike">
                <a:solidFill>
                  <a:srgbClr val="000000"/>
                </a:solidFill>
                <a:latin typeface="Tw Cen MT"/>
                <a:ea typeface="ＭＳ Ｐゴシック"/>
              </a:rPr>
              <a:t>Increase state-level cooperation with utilities, mortgage companies and others to develop new mechanisms to mitigate the upfront cost of PHEVs, such as financing through mortgage equity. (</a:t>
            </a:r>
            <a:r>
              <a:rPr b="0" i="1" lang="en-US" sz="1600" spc="-1" strike="noStrike">
                <a:solidFill>
                  <a:srgbClr val="000000"/>
                </a:solidFill>
                <a:latin typeface="Tw Cen MT"/>
                <a:ea typeface="ＭＳ Ｐゴシック"/>
              </a:rPr>
              <a:t>long-term</a:t>
            </a:r>
            <a:r>
              <a:rPr b="0" lang="en-US" sz="1600" spc="-1" strike="noStrike">
                <a:solidFill>
                  <a:srgbClr val="000000"/>
                </a:solidFill>
                <a:latin typeface="Tw Cen MT"/>
                <a:ea typeface="ＭＳ Ｐゴシック"/>
              </a:rPr>
              <a:t>)</a:t>
            </a: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nclude fleet purchase requirements that set fuel consumption and emission requirements to promote early purchases of PHEVs.</a:t>
            </a:r>
            <a:endParaRPr b="0" lang="en-US" sz="1600" spc="-1" strike="noStrike">
              <a:solidFill>
                <a:srgbClr val="000000"/>
              </a:solidFill>
              <a:latin typeface="Tw Cen MT"/>
            </a:endParaRPr>
          </a:p>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Continue and extend state and local incentives to build markets and consumer acceptance for vehicles using electric fuel, including tax incentives for consumer and private fleet purchases and investment incentives for vehicle and advanced component manufacturers.</a:t>
            </a:r>
            <a:endParaRPr b="0" lang="en-US" sz="1600" spc="-1" strike="noStrike">
              <a:solidFill>
                <a:srgbClr val="000000"/>
              </a:solidFill>
              <a:latin typeface="Tw Cen MT"/>
            </a:endParaRPr>
          </a:p>
          <a:p>
            <a:pPr marL="318960" indent="-31896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mplement state and regional business attraction programs; coordinate with members of Congress in efforts to promote investment in the electric drive vehicle-related industry within their states and regions.</a:t>
            </a:r>
            <a:endParaRPr b="0" lang="en-US" sz="1600" spc="-1" strike="noStrike">
              <a:solidFill>
                <a:srgbClr val="000000"/>
              </a:solidFill>
              <a:latin typeface="Tw Cen MT"/>
            </a:endParaRPr>
          </a:p>
          <a:p>
            <a:pPr marL="318960" indent="-318960">
              <a:spcBef>
                <a:spcPts val="700"/>
              </a:spcBef>
              <a:spcAft>
                <a:spcPts val="788"/>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ＭＳ Ｐゴシック"/>
              </a:rPr>
              <a:t>Increase state and federal cooperation with the automotive and battery industries to develop demonstration partnerships, such as deployment of prototypes and insertion of advanced batteries into fleets of demonstration vehicles.</a:t>
            </a:r>
            <a:r>
              <a:rPr b="0" lang="en-US" sz="2100" spc="-1" strike="noStrike">
                <a:solidFill>
                  <a:srgbClr val="000000"/>
                </a:solidFill>
                <a:latin typeface="Tw Cen MT"/>
                <a:ea typeface="ＭＳ Ｐゴシック"/>
              </a:rPr>
              <a:t> </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8T21:16:48Z</dcterms:modified>
  <cp:revision>36</cp:revision>
  <dc:subject/>
  <dc:title>WGA Transportation Fuels for the future Initiative</dc:title>
</cp:coreProperties>
</file>