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526572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2895120" y="525600"/>
            <a:ext cx="3505320" cy="262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526572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BD8DB9-CEC6-4ED8-B3D8-DD210EB42C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yle is a huge proponent of bio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49D5409-7DE4-43F5-80F1-0FE5C98C4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9FB860-41E5-4A76-8B5C-8D85C83760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9627-0C63-4537-8A00-DE3CA384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E420-A978-419C-B692-F970093F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5687-A23F-4626-8C7D-B1918313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599D-1EFE-4075-B7CF-F4F6A0DB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CAE3-0716-4B76-BEC8-6FD84776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5433-2FF2-43B0-AFC6-A54DD724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5E43-A059-48EE-9BD2-105A60C3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C4EB-592F-468A-9665-40A1A6BA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2671-0E67-45A5-BC5D-E906C019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8A2F-D36C-47EF-B519-98E92199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4054-DB14-419F-946B-191FB4EF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D27C-03F6-4627-B7AC-D1036F31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D9E8-724B-400A-B0E5-AA72B750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98DA-4486-4F19-AA8C-2765B22D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9166-35D5-494E-A60B-459859F6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F636-0C79-484E-A96B-9410CD9C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B34F-D101-4ED5-8A4F-0BDAC5CA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E510-E65F-415E-815A-9390B391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FFDE-DE03-40BD-87DC-117D16D2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E9FD-4F62-453B-982F-6CAD6D18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57B7-943E-46E4-9273-E0452329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1D34-833E-459D-9855-13946768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3196-126A-4703-9F1A-149BA1F9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0B1E-5905-45ED-8364-1FDB8D60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2C8B-A118-4C6F-9C35-9981A768BC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F1F1-938E-449F-955C-03ACD320ACBC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8076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WGA TRANSPORTATION FUELS FOR THE FUTURE INITIATIVE</a:t>
            </a:r>
            <a:br>
              <a:rPr sz="4000"/>
            </a:b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Coal to Liquids Report Summary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Graham Parker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943600" y="838080"/>
            <a:ext cx="981000" cy="952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99072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tretch/>
        </p:blipFill>
        <p:spPr>
          <a:xfrm>
            <a:off x="198108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5"/>
          <a:stretch/>
        </p:blipFill>
        <p:spPr>
          <a:xfrm>
            <a:off x="297180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6"/>
          <a:stretch/>
        </p:blipFill>
        <p:spPr>
          <a:xfrm>
            <a:off x="396252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7"/>
          <a:srcRect l="0" t="0" r="0" b="26717"/>
          <a:stretch/>
        </p:blipFill>
        <p:spPr>
          <a:xfrm>
            <a:off x="4952880" y="838080"/>
            <a:ext cx="951120" cy="9511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1"/>
          <p:cNvSpPr/>
          <p:nvPr/>
        </p:nvSpPr>
        <p:spPr>
          <a:xfrm>
            <a:off x="1523880" y="434340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Transportation Fuels for the Future Workshop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Denver, C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October 10-12, 2007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     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Coal-to-Liquids (CTL) Background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51720" indent="-351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oal-based liquid fuels are indirectly produced by: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57720" indent="-33516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gasifying pulverized coal to produce raw synga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7720" indent="-33516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cleanup of the syngas stream to remove contaminants/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w Cen MT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7720" indent="-33516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roduction of liquid hydrocarbons via a Fischer-Tropsch (FT) catalytic proces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7720" indent="-33516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roduct upgrading (hydrocracking) to produce the desired mix of fuel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51720" indent="-351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 full-scale commercial CTL operating plants in U.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57720" indent="-3351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ost significant experience by Sasol, South Africa @~150,000 bbl/day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7720" indent="-3351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U.S. commercial plants are under design in WY, PA, IL, MS, &amp; OH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51720" indent="-351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FT is a premium/stable fuel with ultra low sulfur &amp; aromatics, high cetane, and high Btu content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57720" indent="-3351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uel markets include DoD (JP-8/marine diesel), states, refiners and blenders. 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51720" indent="-351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ith ~65% of the U.S. coal resource, the West is well-positioned to supply a significant fraction of the country’s 30 million barrel/day oil consumption via a mature CTL industry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     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Summary Recommendations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Promote and establish alternative market-based incentive structures to help overcome the very high capital cost and associated financial risks with CTL plant construction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Establish a trained/educated workforce for design/construction/operation of CTL plant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Develop robust infrastructure (rail/pipeline/biomass transport/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w Cen MT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 storage) as well as permitting, siting and regulatory/oversight environment to foster CTL industry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Undertake RD&amp;D including full-scale demonstration of coal/biomass co-processing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Establish regulatory framework for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w Cen MT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 management &amp; pursue carbon capture and storage (CCS) project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     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Status and Schedule of CTL Report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Advisory Committee guidance on path forward for current Draft Report and recommendations provided to CTL work group on 09/07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Final Draft Report and recommendations to CTL work group on 09/28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CTL work group review and comments on Final Draft Report due 10/15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Draft Final report to Advisory Committee and for public comment 10/18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Comments due on Draft Final Report on 10/22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Final Report to Advisory Committee on 10/24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16:36:28Z</dcterms:created>
  <dc:creator>aschroeder</dc:creator>
  <dc:description/>
  <dc:language>en-US</dc:language>
  <cp:lastModifiedBy>mfutch</cp:lastModifiedBy>
  <dcterms:modified xsi:type="dcterms:W3CDTF">2007-10-10T18:22:27Z</dcterms:modified>
  <cp:revision>42</cp:revision>
  <dc:subject/>
  <dc:title>WGA Transportation Fuels for the future Initiative</dc:title>
</cp:coreProperties>
</file>