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AE3BFC-2978-471E-8F82-1962D7C1E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yle is a huge proponent of bio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C8AF9A-9F4A-454B-9554-13DA9FBD1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BC40B5-A654-4A4E-A3D7-5FE60E1DE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344-BFCD-4A26-AE52-E98BB0AD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496-D9C9-49F8-807F-5A97C211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ED7-B057-4199-954F-370C84B9C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3CE-6122-4AB9-BD24-859F8D65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C90F-98A5-4273-9671-9DA7B82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0C6D-C346-411D-B944-1E2A2FCE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0CA8-E437-4AE8-B25F-32B1244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BAB2-3565-41CD-8335-D02313D9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B3D5-7FDF-46F1-B933-15C635C0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12A0-8C9E-4E94-BFB9-F7919308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D8A-E916-4EEF-A4CF-FDC34521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85C-4E8C-43C5-827D-AF41B990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326B-F1E1-4B85-A99E-6AD728FB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E78D-1BD7-4806-83EE-BD96D542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1FA4-71C5-4E6C-B74D-C8F6635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7AD-2404-4147-B4B1-78F90A1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DC34-903D-49E7-8F2B-258EBFD8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CC54-3B27-45A8-A4DE-0D62CD74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2F96-E703-4C58-9476-59319CE4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143-8475-48A7-80C7-428D7CBE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067-FCE0-4098-A018-ABD45912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309-CC84-426F-B0C8-D7E4F59D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53B-B6DF-4047-AD88-F8EA7B6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D67-064C-4607-8612-5F7D567B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CC3D-16E8-46E1-A78B-C2786C5902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44B-B0AF-4FCE-BC70-FEBBE2EE04B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228600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WGA TRANSPORTATION FUELS FOR THE FUTURE INITIATIVE</a:t>
            </a:r>
            <a:br>
              <a:rPr sz="4000"/>
            </a:br>
            <a:r>
              <a:rPr b="0" lang="en-US" sz="2800" spc="-1" strike="noStrike">
                <a:solidFill>
                  <a:srgbClr val="ebddc3"/>
                </a:solidFill>
                <a:latin typeface="Tw Cen MT"/>
              </a:rPr>
              <a:t>Coal to Liquids Report Summary</a:t>
            </a: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Graham Park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5943600" y="838080"/>
            <a:ext cx="981000" cy="952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9907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tretch/>
        </p:blipFill>
        <p:spPr>
          <a:xfrm>
            <a:off x="198108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5"/>
          <a:stretch/>
        </p:blipFill>
        <p:spPr>
          <a:xfrm>
            <a:off x="297180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6"/>
          <a:stretch/>
        </p:blipFill>
        <p:spPr>
          <a:xfrm>
            <a:off x="3962520" y="838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"/>
          <p:cNvPicPr/>
          <p:nvPr/>
        </p:nvPicPr>
        <p:blipFill>
          <a:blip r:embed="rId7"/>
          <a:srcRect l="0" t="0" r="0" b="26717"/>
          <a:stretch/>
        </p:blipFill>
        <p:spPr>
          <a:xfrm>
            <a:off x="4952880" y="838080"/>
            <a:ext cx="951120" cy="951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523880" y="434340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ransportation Fuels for the Future Workshop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Denver, CO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October 10-12, 2007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Coal-to-Liquids (CTL) Background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oal-based liquid fuels are indirectly produced by: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gasifying pulverized coal to produce raw synga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leanup of the syngas stream to remove contaminants/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w Cen MT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ion of liquid hydrocarbons via a Fischer-Tropsch (FT) catalytic proces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roduct upgrading (hydrocracking) to produce the desired mix of fuel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o full-scale commercial CTL operating plants in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ost significant experience by Sasol, South Africa @~150,000 bbl/day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.S. commercial plants are under design in WY, PA, IL, MS, &amp; OH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w Cen MT"/>
              </a:rPr>
              <a:t>FT is a premium/stable fuel with ultra low sulfur &amp; aromatics, high cetane, and high Btu content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57720" indent="-3351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Fuel markets include DoD (JP-8/marine diesel), states, refiners and blenders.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51720" indent="-351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ith ~65% of the U.S. coal resource, the West is well-positioned to supply a significant fraction of the country’s 30 million barrel/day oil consumption via a mature CTL industr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 Recommendations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Promote and establish alternative market-based incentive structures to help overcome the very high capital cost and associated financial risks with CTL plant construction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a trained/educated workforce for design/construction/operation of CTL pla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evelop robust infrastructure (rail/pipeline/biomass transport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storage) as well as permitting, siting and regulatory/oversight environment to foster CTL industry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Undertake RD&amp;D including full-scale demonstration of coal/biomass co-processing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Establish regulatory framework for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w Cen MT"/>
                <a:ea typeface="ＭＳ Ｐゴシック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management &amp; pursue carbon capture and storage (CCS) project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       </a:t>
            </a: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tatus and Schedule of CTL Repor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dvisory Committee guidance on path forward for current Draft Report and recommendations provided to CTL work group on 09/07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Draft Report and recommendations to CTL work group on 09/2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TL work group review and comments on Final Draft Report due 10/15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Draft Final report to Advisory Committee and for public comment 10/18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Comments due on Draft Final Report on 10/22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Final Report to Advisory Committee on 10/24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95600" cy="99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6:36:28Z</dcterms:created>
  <dc:creator>aschroeder</dc:creator>
  <dc:description/>
  <dc:language>en-US</dc:language>
  <cp:lastModifiedBy>mfutch</cp:lastModifiedBy>
  <dcterms:modified xsi:type="dcterms:W3CDTF">2007-10-10T18:22:27Z</dcterms:modified>
  <cp:revision>42</cp:revision>
  <dc:subject/>
  <dc:title>WGA Transportation Fuels for the future Initiative</dc:title>
</cp:coreProperties>
</file>