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526572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2895120" y="525600"/>
            <a:ext cx="3505320" cy="262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526572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6C8E8DA-2DA9-4F9C-A075-43827C11CF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yle is a huge proponent of bio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24BCF9-97F6-4A6C-9CED-33D1532320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4981ADC-C972-4906-8C09-74D6AA85FE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4F4D-B4B1-4B56-9CFD-5A1A1A81B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85E7-B326-425D-BA12-39837887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4A25-0F14-4CA3-8A54-BC45C2F4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09F0-C449-47AF-A07E-E106BA28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F445-0A81-4808-B999-82F843AC7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1512-183F-45D9-9771-6D0F0138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6F87-E4F8-407B-BF67-D260CB47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3B43-4DF4-40AB-891F-B6BA6D98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C791-E86E-4977-9FAA-9F879B0D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0565-68AF-4392-AAE7-E54A6DB4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5A38-6BB9-4040-9EC4-FDCD7551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34BB-E9A7-4DF3-A16A-F4C75AC2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C77D-B09D-4B2F-B155-5C5BB839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E94C-4F7A-403E-AE59-CE451F3B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91B0-1464-436F-AC1F-D63E685A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B696-EC06-4516-8FB7-48F40EE9B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3ACD-6B2A-4B86-985E-B67071EC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BB85-B1BE-420F-A8DB-499DD409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85ED-8D4A-459D-8A0F-C5153213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40A7-D2DE-4C91-94B7-A1E593FB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D089-0886-4DA8-99CD-74F0A997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6892-7BB2-4A8B-8B44-880DA26B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466A-4ADF-404D-8F2D-04E526BC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1E45-FC29-4BA2-9749-D27CE2A8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B47C-9999-4016-9362-94AB31F5860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3B6E-CA28-4B01-8820-32185BAFA29D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8076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WGA TRANSPORTATION FUELS FOR THE FUTURE INITIATIVE</a:t>
            </a:r>
            <a:br>
              <a:rPr sz="4000"/>
            </a:br>
            <a:r>
              <a:rPr b="0" lang="en-US" sz="2800" spc="-1" strike="noStrike">
                <a:solidFill>
                  <a:srgbClr val="ebddc3"/>
                </a:solidFill>
                <a:latin typeface="Tw Cen MT"/>
              </a:rPr>
              <a:t>Coal to Liquids Report Summary</a:t>
            </a:r>
            <a:endParaRPr b="0" lang="en-US" sz="2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Graham Parker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5943600" y="838080"/>
            <a:ext cx="981000" cy="952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0" y="838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990720" y="838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4"/>
          <a:stretch/>
        </p:blipFill>
        <p:spPr>
          <a:xfrm>
            <a:off x="1981080" y="838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5"/>
          <a:stretch/>
        </p:blipFill>
        <p:spPr>
          <a:xfrm>
            <a:off x="2971800" y="838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6"/>
          <a:stretch/>
        </p:blipFill>
        <p:spPr>
          <a:xfrm>
            <a:off x="3962520" y="838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"/>
          <p:cNvPicPr/>
          <p:nvPr/>
        </p:nvPicPr>
        <p:blipFill>
          <a:blip r:embed="rId7"/>
          <a:srcRect l="0" t="0" r="0" b="26717"/>
          <a:stretch/>
        </p:blipFill>
        <p:spPr>
          <a:xfrm>
            <a:off x="4952880" y="838080"/>
            <a:ext cx="951120" cy="9511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1"/>
          <p:cNvSpPr/>
          <p:nvPr/>
        </p:nvSpPr>
        <p:spPr>
          <a:xfrm>
            <a:off x="1523880" y="434340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Transportation Fuels for the Future Workshop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Denver, CO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October 10-12, 2007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      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Coal-to-Liquids (CTL) Background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51720" indent="-351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oal-based liquid fuels are indirectly produced by: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57720" indent="-33516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gasifying pulverized coal to produce raw synga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57720" indent="-33516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cleanup of the syngas stream to remove contaminants/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w Cen MT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57720" indent="-33516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production of liquid hydrocarbons via a Fischer-Tropsch (FT) catalytic proces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57720" indent="-33516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product upgrading (hydrocracking) to produce the desired mix of fuel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51720" indent="-351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o full-scale commercial CTL operating plants in U.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57720" indent="-3351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Most significant experience by Sasol, South Africa @~150,000 bbl/day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57720" indent="-3351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U.S. commercial plants are under design in WY, PA, IL, MS, &amp; OH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51720" indent="-351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FT is a premium/stable fuel with ultra low sulfur &amp; aromatics, high cetane, and high Btu content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657720" indent="-3351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Fuel markets include DoD (JP-8/marine diesel), states, refiners and blenders. 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51720" indent="-351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ith ~65% of the U.S. coal resource, the West is well-positioned to supply a significant fraction of the country’s 30 million barrel/day oil consumption via a mature CTL industry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95600" cy="990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      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Summary Recommendations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Promote and establish alternative market-based incentive structures to help overcome the very high capital cost and associated financial risks with CTL plant construction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Establish a trained/educated workforce for design/construction/operation of CTL plant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Develop robust infrastructure (rail/pipeline/biomass transport/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w Cen MT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 storage) as well as permitting, siting and regulatory/oversight environment to foster CTL industry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Undertake RD&amp;D including full-scale demonstration of coal/biomass co-processing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Establish regulatory framework for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w Cen MT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 management &amp; pursue carbon capture and storage (CCS) project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95600" cy="990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      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Status and Schedule of CTL Report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Advisory Committee guidance on path forward for current Draft Report and recommendations provided to CTL work group on 09/07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Final Draft Report and recommendations to CTL work group on 09/28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CTL work group review and comments on Final Draft Report due 10/15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Draft Final report to Advisory Committee and for public comment 10/18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Comments due on Draft Final Report on 10/22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Final Report to Advisory Committee on 10/24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95600" cy="990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16:36:28Z</dcterms:created>
  <dc:creator>aschroeder</dc:creator>
  <dc:description/>
  <dc:language>en-US</dc:language>
  <cp:lastModifiedBy>mfutch</cp:lastModifiedBy>
  <dcterms:modified xsi:type="dcterms:W3CDTF">2007-10-10T18:22:27Z</dcterms:modified>
  <cp:revision>42</cp:revision>
  <dc:subject/>
  <dc:title>WGA Transportation Fuels for the future Initiative</dc:title>
</cp:coreProperties>
</file>