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F3DB10-64DC-4567-AE7C-3322300F8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35ABC9-A90A-4A93-B708-858A56BD6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407B7A-7B03-4977-B51C-07B951E5F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FAE-FE16-4A85-9A10-E15A44F0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B98-D25C-4672-9760-C3A6E1E8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461-CD08-4D5B-AE8A-8685C0FC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90E-4062-491F-9957-078A8491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0C67-B90B-4374-9C19-80213F2A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09CE-302A-41D1-82DA-7E2192FF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A650-054F-41AE-B0F3-65F25728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6029-1859-46D7-92ED-2966AE27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3CA1-C0C5-4C0A-AC3E-1AC48873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CA65-B2AF-49EE-9E1E-718817B1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5BA5-3507-4AAA-AA0E-676CDDFF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D5B-0CEE-4363-8261-24B164BD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CEDB-4C81-4ACD-A97D-F33A904E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DD42-A31D-4E4A-9B94-527DD2DA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BB61-D705-464D-BE57-8BF6B215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AB90-D624-4B18-8B98-FEF7A327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7636-2392-4378-AADF-EED8AF3B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595-F5D6-462A-90C9-E6594E42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7F0-61E6-4257-9A69-15364B7A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AD3-E2D7-486B-ABCE-17D7ADA0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D8C-3EC5-4DB3-BCFC-DF7BC87E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558-6B37-4AB8-9873-E4439D6E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CE1-6CB7-4855-A695-7290A823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84C-B0D7-4824-8444-207EBF3C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2496-1E8F-49BA-A8DF-56633565E3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824A-8675-4565-B780-59F11ABCD11D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WGA TRANSPORTATION FUELS FOR THE FUTURE INITIATIVE</a:t>
            </a:r>
            <a:br>
              <a:rPr sz="40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Coal to Liquids Report Summary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Graham Park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981000" cy="952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99072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198108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5"/>
          <a:stretch/>
        </p:blipFill>
        <p:spPr>
          <a:xfrm>
            <a:off x="297180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6"/>
          <a:stretch/>
        </p:blipFill>
        <p:spPr>
          <a:xfrm>
            <a:off x="396252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7"/>
          <a:srcRect l="0" t="0" r="0" b="26717"/>
          <a:stretch/>
        </p:blipFill>
        <p:spPr>
          <a:xfrm>
            <a:off x="4952880" y="838080"/>
            <a:ext cx="951120" cy="951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1523880" y="434340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ransportation Fuels for the Future Workshop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Denver, C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October 10-12, 2007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Coal-to-Liquids (CTL) Background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51720" indent="-351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oal-based liquid fuels are indirectly produced by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gasifying pulverized coal to produce raw synga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leanup of the syngas stream to remove contaminants/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w Cen MT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roduction of liquid hydrocarbons via a Fischer-Tropsch (FT) catalytic proces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roduct upgrading (hydrocracking) to produce the desired mix of fuel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51720" indent="-351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full-scale commercial CTL operating plants in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significant experience by Sasol, South Africa @~150,000 bbl/day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.S. commercial plants are under design in WY, PA, IL, MS, &amp; OH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51720" indent="-351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FT is a premium/stable fuel with ultra low sulfur &amp; aromatics, high cetane, and high Btu content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uel markets include DoD (JP-8/marine diesel), states, refiners and blenders.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51720" indent="-351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ith ~65% of the U.S. coal resource, the West is well-positioned to supply a significant fraction of the country’s 30 million barrel/day oil consumption via a mature CTL industr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ummary Recommendations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Promote and establish alternative market-based incentive structures to help overcome the very high capital cost and associated financial risks with CTL plant construction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Establish a trained/educated workforce for design/construction/operation of CTL plant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Develop robust infrastructure (rail/pipeline/biomass transport/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w Cen MT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 storage) as well as permitting, siting and regulatory/oversight environment to foster CTL industry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Undertake RD&amp;D including full-scale demonstration of coal/biomass co-processing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Establish regulatory framework for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w Cen MT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 management &amp; pursue carbon capture and storage (CCS) project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tatus and Schedule of CTL Report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Advisory Committee guidance on path forward for current Draft Report and recommendations provided to CTL work group on 09/07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Final Draft Report and recommendations to CTL work group on 09/28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CTL work group review and comments on Final Draft Report due 10/15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Draft Final report to Advisory Committee and for public comment 10/18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Comments due on Draft Final Report on 10/22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Final Report to Advisory Committee on 10/24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6:36:28Z</dcterms:created>
  <dc:creator>aschroeder</dc:creator>
  <dc:description/>
  <dc:language>en-US</dc:language>
  <cp:lastModifiedBy>mfutch</cp:lastModifiedBy>
  <dcterms:modified xsi:type="dcterms:W3CDTF">2007-10-10T18:22:27Z</dcterms:modified>
  <cp:revision>42</cp:revision>
  <dc:subject/>
  <dc:title>WGA Transportation Fuels for the future Initiative</dc:title>
</cp:coreProperties>
</file>