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54a1d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E7C6-7F89-4410-8547-35A91A6CB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onvert from cents/kWh to $/MMBtu multiply by 2.93.  So 8 cents/kWh = $23.44/MMB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61CF-299E-404E-B972-AF40CF9EC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C3B6-C9A8-4DF9-8E82-E79C1CA4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10BF-9971-4BA7-85D4-59C84FFFF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408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06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408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06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B2AB-DC58-47F0-928B-C2BCA17F5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E4FB-1EAF-42E9-9489-50E1D44B7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A844-701B-4181-9253-67346C6C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2338-CFC7-4C30-BE66-0B23F6FD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3DF3-B8D4-4BC4-85AC-131560D8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C930-993F-439A-9A5D-0559654B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90920" y="90360"/>
            <a:ext cx="6324480" cy="45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2DA6-8B4D-4BB4-BF7F-07B6CEBF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3197-4682-4C95-80D9-A955E874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C3B7-DF87-48BF-8A2B-70D921AC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7D8D-BA4E-43AF-8972-7AB8E315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99F3-4006-4A97-9974-50B9B9E2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CD8C-F50C-4583-BC5D-A86F7973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EA05-CE29-43CD-B899-073CEA937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408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06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408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06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2B27-CE30-4E06-8428-286F651ED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B0FE-F523-4E38-A5AD-6EC0E014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042E-754F-43C6-950B-35E00F91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A8CB-7B26-4E1E-BCAD-1CA5F20C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90920" y="90360"/>
            <a:ext cx="6324480" cy="45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2CC2-7608-48B0-BB1D-584C6C87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3006-EE0F-4CF9-ADE3-60D24870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6169-50DC-4E57-B7DD-72CDA4AF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D857-DE17-4957-8197-28EB6BFF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4a1d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195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67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52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3317-BC46-40E2-A000-A36D4D900C28}" type="slidenum"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14240" y="3962520"/>
            <a:ext cx="5638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54a1d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0DE5-889A-44A8-AE80-CF9E9924AC9A}" type="slidenum"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c1c1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c1c1c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14240" y="3962520"/>
            <a:ext cx="5638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3e26"/>
                </a:solidFill>
                <a:latin typeface="Verdana"/>
              </a:rPr>
              <a:t>Western States Biofuels Production Scenarios 2015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38280" y="5486040"/>
            <a:ext cx="5639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c1c1c"/>
                </a:solidFill>
                <a:latin typeface="Arial"/>
              </a:rPr>
              <a:t>October 10, 2007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rcRect l="842" t="1232" r="739" b="2464"/>
          <a:stretch/>
        </p:blipFill>
        <p:spPr>
          <a:xfrm>
            <a:off x="577800" y="1219320"/>
            <a:ext cx="8001000" cy="53528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4a1d"/>
                </a:solidFill>
                <a:latin typeface="Arial Black"/>
              </a:rPr>
              <a:t>Fuel Target Analysis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1492200" y="535608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1c1c1c"/>
                </a:solidFill>
                <a:latin typeface="Arial"/>
              </a:rPr>
              <a:t>Projected electricity, gasoline, and diesel prices based on data from EIA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35400" y="3689280"/>
            <a:ext cx="0" cy="228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855800" y="3695760"/>
            <a:ext cx="5381640" cy="814320"/>
            <a:chOff x="1855800" y="3695760"/>
            <a:chExt cx="5381640" cy="814320"/>
          </a:xfrm>
        </p:grpSpPr>
        <p:sp>
          <p:nvSpPr>
            <p:cNvPr id="117" name=""/>
            <p:cNvSpPr/>
            <p:nvPr/>
          </p:nvSpPr>
          <p:spPr>
            <a:xfrm flipH="1">
              <a:off x="2793960" y="3695760"/>
              <a:ext cx="53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9680" y="3868560"/>
              <a:ext cx="11048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Average Wholesale Price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25960" y="3809880"/>
              <a:ext cx="0" cy="38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73840" y="3755880"/>
              <a:ext cx="10666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Price Range in Western Region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3625920" y="4028760"/>
              <a:ext cx="380880" cy="114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55800" y="3708360"/>
              <a:ext cx="868320" cy="0"/>
            </a:xfrm>
            <a:prstGeom prst="line">
              <a:avLst/>
            </a:prstGeom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02200" y="4016520"/>
              <a:ext cx="868320" cy="0"/>
            </a:xfrm>
            <a:prstGeom prst="line">
              <a:avLst/>
            </a:prstGeom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69120" y="3978360"/>
              <a:ext cx="868320" cy="0"/>
            </a:xfrm>
            <a:prstGeom prst="line">
              <a:avLst/>
            </a:prstGeom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829160" y="2819520"/>
            <a:ext cx="92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$23.44/MMBtu</a:t>
            </a:r>
            <a:endParaRPr b="0" lang="en-US" sz="9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rcRect l="0" t="1542" r="0" b="3083"/>
          <a:stretch/>
        </p:blipFill>
        <p:spPr>
          <a:xfrm>
            <a:off x="838080" y="1371600"/>
            <a:ext cx="7162920" cy="46720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90920" y="90000"/>
            <a:ext cx="63244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 Black"/>
              </a:rPr>
              <a:t>Western Region Biofuel Supply Curve 2015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1905120"/>
            <a:ext cx="281952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arget ethanol Price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$17.50/MMBtu ($2.03/gge)  </a:t>
            </a:r>
            <a:r>
              <a:rPr b="0" lang="en-US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 ~ 4 Billion GGE/year 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(6 BGY ethanol)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6440" y="61866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d4d4d"/>
                </a:solidFill>
                <a:latin typeface="Arial"/>
              </a:rPr>
              <a:t>Western Region Ethanol Capacity in Jan 2007 was 1.7 Billion Gallons per Year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4114800"/>
            <a:ext cx="222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hould other ratios be evaluated?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Fostering the Transition to Bioenergy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Recommended Policy Tools for Biofuel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Leverage Federal Incentives for Biofuel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Support RD&amp;D - Federal and State level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Financial support to expand feedstock production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Create demand for Biofuels (RFS expansion, government fuel and FFV purchases …)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Funding support for infrastructure change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Estimate the transition cost and value the benefit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4008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Existing Federal Incentive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Existing federal incentives are intended to lower the consumer price of the biofuel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04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Biopower: Renewable Electricity Production Tax Credi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1.9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Arial"/>
              </a:rPr>
              <a:t>¢/kWh for closed loop biomas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Arial"/>
              </a:rPr>
              <a:t>1.0 ¢/kWh for open loop biomas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Arial"/>
              </a:rPr>
              <a:t>Set to expire in 2009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04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Biofuels: Biodiesel and Ethanol Tax Credit* 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$0.51/gallon for pure ethanol (or percentage in mix)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$1.00/gallon for agri-biodiesel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$0.50/gallon for waste-grease biodiesel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Set to expire in 2009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632448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c1c1c"/>
                </a:solidFill>
                <a:latin typeface="Arial"/>
              </a:rPr>
              <a:t>* Also known as the Volumetric Ethanol Excise Tax Credit (VEETC)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Fuel Target Analysis – Federal Incentive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58720" y="1244520"/>
            <a:ext cx="7975800" cy="5453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057760" y="2832120"/>
            <a:ext cx="92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$23.44/MMBtu</a:t>
            </a:r>
            <a:endParaRPr b="0" lang="en-US" sz="9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Mixed Production Scenario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How will the competition for feedstocks between the various Bioenergy Products play out?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How will changes in transportation technology drive the mix of Biofuels and Biopower, CHP and Process He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Plug in-Hybrid Vehicle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Diesel vs Gasoline vs FFV engine demand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uel cell and other advanced vehicle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14240" y="3962520"/>
            <a:ext cx="5638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514240" y="5486040"/>
            <a:ext cx="5638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Gasoline Price Breakdown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68280" y="1447920"/>
          <a:ext cx="8381880" cy="3481200"/>
        </p:xfrm>
        <a:graphic>
          <a:graphicData uri="http://schemas.openxmlformats.org/drawingml/2006/table">
            <a:tbl>
              <a:tblPr/>
              <a:tblGrid>
                <a:gridCol w="2209680"/>
                <a:gridCol w="1447920"/>
                <a:gridCol w="1523880"/>
                <a:gridCol w="1676520"/>
                <a:gridCol w="15238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1368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Aug 6</a:t>
                      </a:r>
                      <a:endParaRPr b="0" lang="en-US" sz="24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1368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Sept 3</a:t>
                      </a:r>
                      <a:endParaRPr b="0" lang="en-US" sz="24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1368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Oct 1</a:t>
                      </a:r>
                      <a:endParaRPr b="0" lang="en-US" sz="24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1368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Avg. % of Total</a:t>
                      </a:r>
                      <a:endParaRPr b="0" lang="en-US" sz="24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13680">
                      <a:solidFill>
                        <a:srgbClr val="1c1c1c"/>
                      </a:solidFill>
                    </a:lnR>
                    <a:lnT w="1368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b1a59d"/>
                    </a:solidFill>
                  </a:tcPr>
                </a:tc>
              </a:tr>
              <a:tr h="66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Wholesale Price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$2.17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$2.12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$2.33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75%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1368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b1a59d"/>
                    </a:solidFill>
                  </a:tcPr>
                </a:tc>
              </a:tr>
              <a:tr h="66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Distribution Costs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$0.27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$0.10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$0.06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5%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1368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b1a59d"/>
                    </a:solidFill>
                  </a:tcPr>
                </a:tc>
              </a:tr>
              <a:tr h="66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Taxes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$0.58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$0.57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$0.58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20%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1368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b1a59d"/>
                    </a:solidFill>
                  </a:tcPr>
                </a:tc>
              </a:tr>
              <a:tr h="66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Retail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1368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$3.02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1368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$2.79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1368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$2.97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1368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1368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13680">
                      <a:solidFill>
                        <a:srgbClr val="1c1c1c"/>
                      </a:solidFill>
                    </a:lnB>
                    <a:solidFill>
                      <a:srgbClr val="b1a59d"/>
                    </a:solidFill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228600" y="614052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Source: CEC Estimated Price Breakdown, October 2007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51055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1c1c1c"/>
                </a:solidFill>
                <a:uFillTx/>
                <a:latin typeface="Arial"/>
              </a:rPr>
              <a:t>Wholesale Price</a:t>
            </a:r>
            <a:r>
              <a:rPr b="0" i="1" lang="en-US" sz="1800" spc="-1" strike="noStrike">
                <a:solidFill>
                  <a:srgbClr val="1c1c1c"/>
                </a:solidFill>
                <a:latin typeface="Arial"/>
              </a:rPr>
              <a:t> is the average gasoline price </a:t>
            </a:r>
            <a:r>
              <a:rPr b="1" i="1" lang="en-US" sz="1800" spc="-1" strike="noStrike">
                <a:solidFill>
                  <a:srgbClr val="1c1c1c"/>
                </a:solidFill>
                <a:latin typeface="Arial"/>
              </a:rPr>
              <a:t>at the rack</a:t>
            </a:r>
            <a:r>
              <a:rPr b="0" i="1" lang="en-US" sz="1800" spc="-1" strike="noStrike">
                <a:solidFill>
                  <a:srgbClr val="1c1c1c"/>
                </a:solidFill>
                <a:latin typeface="Arial"/>
              </a:rPr>
              <a:t> – includes all costs associated with gasoline production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Foundation for Strategic Analysis of Biofuel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A continuation of the CDEAC strategic assessment of the development clean energy resources in the Wes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Augmented feedstock database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Liquid fuels production technology models 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Enhanced supply analysis methodology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Policy recommendations from WGA Transportation Fuels of the Future task force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Strategic Questions for Bioenergy in the West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What contributions to the Western States energy supply could Bioenergy make by 2015? 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What are the barriers to achieving the full potential of Bioenergy supply?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What is the full set of policy measures needed to enable this transformation to increased Bioenergy supply? 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What is the potential cost for these measures, what are benefits, and what is the cost benefit ratio?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What are the regional differences within the West with regard to capability to produce Bioenergy 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What is the technology progression for the transition to tomorrow’s vision?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What is the variation in resource by region – how does that inform policy and resource development choices?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Task 4 Production Scenarios for Biofuel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Set a Target Product Price for Biofuels that will correspond to the Target Product Price (TPP) established for Biopower by the CDEAC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$80/ MWh for Wholesale Power 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$17.50/MMBtu for Gasoline Substitutes ($2.03/gge)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$17.76/MMBtu for Diesel Substitutes ($2.06/gge)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Determine potential production capacity for Biofuels in the Western States by 2015 up to the target pric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Formulate a set of policies for biobased transportation fuels to complement the set developed for electricity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Lay out resource and technology development scenario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Suggest timeline for transition to Bioenergy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90920" y="90000"/>
            <a:ext cx="63244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CDEAC Biomass Power Supply Curve 2015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90720" y="1295280"/>
            <a:ext cx="6858000" cy="5226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828800" y="4876920"/>
            <a:ext cx="38098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91320" y="4572000"/>
            <a:ext cx="1828800" cy="916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¢/kWh Target Price 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10 GW Biopower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76920" y="4572000"/>
            <a:ext cx="0" cy="1295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Biomass Power Supply Curve Note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14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e WGA supply curves show cumulative amount of product (power or fuel) delivered (grid or terminal) at or below each price poin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1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For a target price of 8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Arial"/>
              </a:rPr>
              <a:t>¢/kWh a total 10 GW of power could be profitably produced and sold to the grid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4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  <a:ea typeface="Arial"/>
              </a:rPr>
              <a:t>Many facilities produce power at lower cost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1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Arial"/>
              </a:rPr>
              <a:t>Average cumulative power price may be lower than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Arial"/>
              </a:rPr>
              <a:t>¢/kWh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1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Arial"/>
              </a:rPr>
              <a:t>Competition for biomass increases the value and price of the lower cost feedstocks pushing them up toward a market pric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1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Arial"/>
              </a:rPr>
              <a:t>Regional power demands and supply vary significantly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90920" y="90000"/>
            <a:ext cx="63244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Target Price for Biofuel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Methodology: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Use projected prices for electricity, gasoline and diesel in 2015 (DOE EIA)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alculate Ratio of biomass power target price to projected wholesale power price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pply ratio to projected wholesale petroleum fuel prices to determine biofuel target price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Diesel and gasoline substitutes evaluated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Ratio applied an energy basis not volumetric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EIA Retail Petroleum Products Price Projection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09480" y="1295280"/>
            <a:ext cx="7696440" cy="52610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564520" y="6324480"/>
            <a:ext cx="25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Source: EIA AEO 2007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76840" y="5334120"/>
            <a:ext cx="39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hould other forecasts be evaluated?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4a1d"/>
                </a:solidFill>
                <a:latin typeface="Arial Black"/>
              </a:rPr>
              <a:t>Projected Price Data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Power 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Arial"/>
              </a:rPr>
              <a:t>2006 Wholesale Market Data for California and Texas ISO from EIA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Arial"/>
              </a:rPr>
              <a:t>Projected to 2015 based on EIA’s 2007 Annual Energy Outlook (AEO) retail price escalation factor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uel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Arial"/>
              </a:rPr>
              <a:t>2006 Wholesale Price Data for Gasoline and Diesel in Western States from EIA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Arial"/>
              </a:rPr>
              <a:t>Projected to 2015 based on EIA’s 2007 Annual Energy Outlook (AEO) retail price escalation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Arial"/>
              </a:rPr>
              <a:t>Converted to $/MMBtu 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9:50:36Z</dcterms:created>
  <dc:creator>Edward Gray</dc:creator>
  <dc:description/>
  <dc:language>en-US</dc:language>
  <cp:lastModifiedBy>Matthew Futch</cp:lastModifiedBy>
  <dcterms:modified xsi:type="dcterms:W3CDTF">2007-10-10T21:07:21Z</dcterms:modified>
  <cp:revision>50</cp:revision>
  <dc:subject/>
  <dc:title>Strategic Analysis of Western Bioenergy</dc:title>
</cp:coreProperties>
</file>