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4a1d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DFF2-CB07-42F7-B1E8-3035882E9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onvert from cents/kWh to $/MMBtu multiply by 2.93.  So 8 cents/kWh = $23.44/MMB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DE18-668A-4A67-A4DF-21E95448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79C0-EF4F-4D89-B599-CBAFEEF8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C447-C2B1-42D5-9A6A-81FA892C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6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14A7-BA46-4BDB-8B6E-CDE557DC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BB8C-F3F2-419F-826F-6DD05BEF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03A0-DEB3-4F40-ADC2-5F7D3022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1F4F-6240-4067-B5ED-7EE60090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3CD4-B3FB-424E-B10B-8FC14860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AA93-F756-4FCE-AD29-3B19B26B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90920" y="90360"/>
            <a:ext cx="6324480" cy="45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0DDC-F926-41F6-BC23-6E067807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F1F7-E1A3-4F19-B036-ABFE3695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A080-DDD8-4391-B077-A5FE68BE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FAB7-EF13-41A4-9369-813216FE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313C-E1DB-457A-938E-A3B685BE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86A5-43A9-4860-B169-468EF549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9747-FA6C-4F26-93B2-82141DBE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06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9D3B-C65C-4C3B-9A07-979A1BE4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43D1-EE62-4E75-B76D-F9DB7D7C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8107-3E85-458E-808A-87FB9401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094B-8968-4EA0-BFA4-CDE02756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90920" y="90360"/>
            <a:ext cx="6324480" cy="45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DB88-ADD2-4138-A56A-C7C0E596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A6B4-E7E8-4D2D-8534-FB00CAEF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335A-0105-424C-8F8C-6B4CE74C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831A-B42B-49A8-A945-8B6098ED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19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67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3563-FDB2-40E4-98C5-ECDCCC7E766C}" type="slidenum"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4a1d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8061-2C16-4B47-8CB0-7471D3A53771}" type="slidenum"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c1c1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3e26"/>
                </a:solidFill>
                <a:latin typeface="Verdana"/>
              </a:rPr>
              <a:t>Western States Biofuels Production Scenarios 2015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38280" y="5486040"/>
            <a:ext cx="5639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c1c1c"/>
                </a:solidFill>
                <a:latin typeface="Arial"/>
              </a:rPr>
              <a:t>October 10, 2007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rcRect l="842" t="1232" r="739" b="2464"/>
          <a:stretch/>
        </p:blipFill>
        <p:spPr>
          <a:xfrm>
            <a:off x="577800" y="1219320"/>
            <a:ext cx="8001000" cy="53528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Fuel Target Analysis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1492200" y="535608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c1c1c"/>
                </a:solidFill>
                <a:latin typeface="Arial"/>
              </a:rPr>
              <a:t>Projected electricity, gasoline, and diesel prices based on data from EIA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35400" y="3689280"/>
            <a:ext cx="0" cy="228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855800" y="3695760"/>
            <a:ext cx="5381640" cy="814320"/>
            <a:chOff x="1855800" y="3695760"/>
            <a:chExt cx="5381640" cy="814320"/>
          </a:xfrm>
        </p:grpSpPr>
        <p:sp>
          <p:nvSpPr>
            <p:cNvPr id="117" name=""/>
            <p:cNvSpPr/>
            <p:nvPr/>
          </p:nvSpPr>
          <p:spPr>
            <a:xfrm flipH="1">
              <a:off x="2793960" y="369576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9680" y="3868560"/>
              <a:ext cx="1104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Average Wholesale Price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25960" y="3809880"/>
              <a:ext cx="0" cy="38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73840" y="3755880"/>
              <a:ext cx="10666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Price Range in Western Region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3625920" y="4028760"/>
              <a:ext cx="380880" cy="114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55800" y="3708360"/>
              <a:ext cx="868320" cy="0"/>
            </a:xfrm>
            <a:prstGeom prst="line">
              <a:avLst/>
            </a:prstGeom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02200" y="4016520"/>
              <a:ext cx="868320" cy="0"/>
            </a:xfrm>
            <a:prstGeom prst="line">
              <a:avLst/>
            </a:prstGeom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69120" y="3978360"/>
              <a:ext cx="868320" cy="0"/>
            </a:xfrm>
            <a:prstGeom prst="line">
              <a:avLst/>
            </a:prstGeom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829160" y="2819520"/>
            <a:ext cx="92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$23.44/MMBtu</a:t>
            </a:r>
            <a:endParaRPr b="0" lang="en-US" sz="9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rcRect l="0" t="1542" r="0" b="3083"/>
          <a:stretch/>
        </p:blipFill>
        <p:spPr>
          <a:xfrm>
            <a:off x="838080" y="1371600"/>
            <a:ext cx="7162920" cy="46720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90920" y="90000"/>
            <a:ext cx="63244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 Black"/>
              </a:rPr>
              <a:t>Western Region Biofuel Supply Curve 2015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1905120"/>
            <a:ext cx="281952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arget ethanol Price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$17.50/MMBtu ($2.03/gge) 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 ~ 4 Billion GGE/year 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(6 BGY ethanol)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440" y="61866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d4d4d"/>
                </a:solidFill>
                <a:latin typeface="Arial"/>
              </a:rPr>
              <a:t>Western Region Ethanol Capacity in Jan 2007 was 1.7 Billion Gallons per Year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4114800"/>
            <a:ext cx="22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ould other ratios be evaluated?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Fostering the Transition to Bioenergy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ecommended Policy Tools for Biofuel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Leverage Federal Incentives for Biofuel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upport RD&amp;D - Federal and State level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Financial support to expand feedstock product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reate demand for Biofuels (RFS expansion, government fuel and FFV purchases …)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Funding support for infrastructure change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Estimate the transition cost and value the benefit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4008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Existing Federal Incentive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Existing federal incentives are intended to lower the consumer price of the biofuel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4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Biopower: Renewable Electricity Production Tax Credi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1.9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¢/kWh for closed loop biomas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1.0 ¢/kWh for open loop biomas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Set to expire in 2009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4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Biofuels: Biodiesel and Ethanol Tax Credit*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$0.51/gallon for pure ethanol (or percentage in mix)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$1.00/gallon for agri-biodiesel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$0.50/gallon for waste-grease biodiesel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et to expire in 2009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63244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c1c1c"/>
                </a:solidFill>
                <a:latin typeface="Arial"/>
              </a:rPr>
              <a:t>* Also known as the Volumetric Ethanol Excise Tax Credit (VEETC)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Fuel Target Analysis – Federal Incentive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58720" y="1244520"/>
            <a:ext cx="7975800" cy="5453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057760" y="2832120"/>
            <a:ext cx="92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$23.44/MMBtu</a:t>
            </a:r>
            <a:endParaRPr b="0" lang="en-US" sz="9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Mixed Production Scenario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How will the competition for feedstocks between the various Bioenergy Products play out?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How will changes in transportation technology drive the mix of Biofuels and Biopower, CHP and Process He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Plug in-Hybrid Vehicl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Diesel vs Gasoline vs FFV engine demand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uel cell and other advanced vehicl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514240" y="5486040"/>
            <a:ext cx="5638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Gasoline Price Breakdown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68280" y="1447920"/>
          <a:ext cx="8381880" cy="3481200"/>
        </p:xfrm>
        <a:graphic>
          <a:graphicData uri="http://schemas.openxmlformats.org/drawingml/2006/table">
            <a:tbl>
              <a:tblPr/>
              <a:tblGrid>
                <a:gridCol w="2209680"/>
                <a:gridCol w="1447920"/>
                <a:gridCol w="1523880"/>
                <a:gridCol w="1676520"/>
                <a:gridCol w="15238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Aug 6</a:t>
                      </a:r>
                      <a:endParaRPr b="0" lang="en-US" sz="24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Sept 3</a:t>
                      </a:r>
                      <a:endParaRPr b="0" lang="en-US" sz="24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Oct 1</a:t>
                      </a:r>
                      <a:endParaRPr b="0" lang="en-US" sz="24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Avg. % of Total</a:t>
                      </a:r>
                      <a:endParaRPr b="0" lang="en-US" sz="24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b1a59d"/>
                    </a:solidFill>
                  </a:tcPr>
                </a:tc>
              </a:tr>
              <a:tr h="66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Wholesale Price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2.17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2.12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2.33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75%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b1a59d"/>
                    </a:solidFill>
                  </a:tcPr>
                </a:tc>
              </a:tr>
              <a:tr h="66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Distribution Costs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0.27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0.10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0.06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5%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b1a59d"/>
                    </a:solidFill>
                  </a:tcPr>
                </a:tc>
              </a:tr>
              <a:tr h="66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Taxes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0.58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0.57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0.58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20%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b1a59d"/>
                    </a:solidFill>
                  </a:tcPr>
                </a:tc>
              </a:tr>
              <a:tr h="66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Retail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3.02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2.79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2.97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solidFill>
                      <a:srgbClr val="b1a59d"/>
                    </a:solidFill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28600" y="614052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ource: CEC Estimated Price Breakdown, October 2007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5105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1c1c1c"/>
                </a:solidFill>
                <a:uFillTx/>
                <a:latin typeface="Arial"/>
              </a:rPr>
              <a:t>Wholesale Price</a:t>
            </a:r>
            <a:r>
              <a:rPr b="0" i="1" lang="en-US" sz="1800" spc="-1" strike="noStrike">
                <a:solidFill>
                  <a:srgbClr val="1c1c1c"/>
                </a:solidFill>
                <a:latin typeface="Arial"/>
              </a:rPr>
              <a:t> is the average gasoline price </a:t>
            </a:r>
            <a:r>
              <a:rPr b="1" i="1" lang="en-US" sz="1800" spc="-1" strike="noStrike">
                <a:solidFill>
                  <a:srgbClr val="1c1c1c"/>
                </a:solidFill>
                <a:latin typeface="Arial"/>
              </a:rPr>
              <a:t>at the rack</a:t>
            </a:r>
            <a:r>
              <a:rPr b="0" i="1" lang="en-US" sz="1800" spc="-1" strike="noStrike">
                <a:solidFill>
                  <a:srgbClr val="1c1c1c"/>
                </a:solidFill>
                <a:latin typeface="Arial"/>
              </a:rPr>
              <a:t> – includes all costs associated with gasoline production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Foundation for Strategic Analysis of Biofuel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A continuation of the CDEAC strategic assessment of the development clean energy resources in the Wes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Augmented feedstock database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Liquid fuels production technology models 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Enhanced supply analysis methodology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Policy recommendations from WGA Transportation Fuels of the Future task force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Strategic Questions for Bioenergy in the West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contributions to the Western States energy supply could Bioenergy make by 2015?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are the barriers to achieving the full potential of Bioenergy supply?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is the full set of policy measures needed to enable this transformation to increased Bioenergy supply?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is the potential cost for these measures, what are benefits, and what is the cost benefit ratio?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are the regional differences within the West with regard to capability to produce Bioenergy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is the technology progression for the transition to tomorrow’s vision?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is the variation in resource by region – how does that inform policy and resource development choices?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Task 4 Production Scenarios for Biofuel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et a Target Product Price for Biofuels that will correspond to the Target Product Price (TPP) established for Biopower by the CDEAC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$80/ MWh for Wholesale Power 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$17.50/MMBtu for Gasoline Substitutes ($2.03/gge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$17.76/MMBtu for Diesel Substitutes ($2.06/gge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Determine potential production capacity for Biofuels in the Western States by 2015 up to the target pric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Formulate a set of policies for biobased transportation fuels to complement the set developed for electricity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Lay out resource and technology development scenario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uggest timeline for transition to Bioenergy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90920" y="90000"/>
            <a:ext cx="63244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CDEAC Biomass Power Supply Curve 2015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6858000" cy="5226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828800" y="4876920"/>
            <a:ext cx="3809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4572000"/>
            <a:ext cx="1828800" cy="916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¢/kWh Target Price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10 GW Biopower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4572000"/>
            <a:ext cx="0" cy="1295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Biomass Power Supply Curve Note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e WGA supply curves show cumulative amount of product (power or fuel) delivered (grid or terminal) at or below each price poin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For a target price of 8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¢/kWh a total 10 GW of power could be profitably produced and sold to the grid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  <a:ea typeface="Arial"/>
              </a:rPr>
              <a:t>Many facilities produce power at lower cost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Average cumulative power price may be lower than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¢/kWh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Competition for biomass increases the value and price of the lower cost feedstocks pushing them up toward a market pric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Regional power demands and supply vary significantly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0920" y="90000"/>
            <a:ext cx="63244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Target Price for Biofuel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Methodology: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Use projected prices for electricity, gasoline and diesel in 2015 (DOE EIA)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alculate Ratio of biomass power target price to projected wholesale power pric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pply ratio to projected wholesale petroleum fuel prices to determine biofuel target pric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Diesel and gasoline substitutes evaluated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Ratio applied an energy basis not volumetric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EIA Retail Petroleum Products Price Projection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09480" y="1295280"/>
            <a:ext cx="7696440" cy="5261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564520" y="632448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Source: EIA AEO 2007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76840" y="5334120"/>
            <a:ext cx="39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ould other forecasts be evaluated?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Projected Price Data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Power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2006 Wholesale Market Data for California and Texas ISO from EIA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Projected to 2015 based on EIA’s 2007 Annual Energy Outlook (AEO) retail price escalation factor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uel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2006 Wholesale Price Data for Gasoline and Diesel in Western States from EIA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Projected to 2015 based on EIA’s 2007 Annual Energy Outlook (AEO) retail price escalat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Converted to $/MMBtu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9:50:36Z</dcterms:created>
  <dc:creator>Edward Gray</dc:creator>
  <dc:description/>
  <dc:language>en-US</dc:language>
  <cp:lastModifiedBy>Matthew Futch</cp:lastModifiedBy>
  <dcterms:modified xsi:type="dcterms:W3CDTF">2007-10-10T21:07:21Z</dcterms:modified>
  <cp:revision>50</cp:revision>
  <dc:subject/>
  <dc:title>Strategic Analysis of Western Bioenergy</dc:title>
</cp:coreProperties>
</file>