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54a1d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7E781-5259-4D1D-8F90-C9D761315D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convert from cents/kWh to $/MMBtu multiply by 2.93.  So 8 cents/kWh = $23.44/MMBt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C462-F06C-45BF-BF10-63DCACF1E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590920" y="90360"/>
            <a:ext cx="632448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15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759840"/>
            <a:ext cx="815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24DD-5636-4E6E-A32C-6FA86C8BA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90920" y="90360"/>
            <a:ext cx="632448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5360" y="13716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75984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5360" y="375984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FFF3-016B-4A2E-BB4B-0539BD018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90920" y="90360"/>
            <a:ext cx="632448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4080" y="137160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0600" y="137160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75984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4080" y="375984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0600" y="375984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DE7C-B505-4604-BB40-B14D99C4B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7889F-3159-412C-BD4B-D4DD5A474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90920" y="90360"/>
            <a:ext cx="632448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66EEF-DCB9-43DF-9CA4-DBD0CAD02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90920" y="90360"/>
            <a:ext cx="632448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E1629-F0B8-450F-9014-11F3B7F5D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90920" y="90360"/>
            <a:ext cx="632448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35360" y="137160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842FE-54F9-4B0F-AB0A-8BEE32CE1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90920" y="90360"/>
            <a:ext cx="632448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A5D3D-553C-4FC2-97A5-5204C7F19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590920" y="90360"/>
            <a:ext cx="6324480" cy="45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2F944-79D2-4449-9F8E-32A11AD17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90920" y="90360"/>
            <a:ext cx="632448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35360" y="137160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75984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3799D-B815-4CA8-9189-12A3794C3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590920" y="90360"/>
            <a:ext cx="632448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1AD8-5453-4CA7-88C5-9983B3FA1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90920" y="90360"/>
            <a:ext cx="632448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5360" y="13716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35360" y="375984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C6E59-58DD-4769-8433-8ED9B3702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90920" y="90360"/>
            <a:ext cx="632448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5360" y="13716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59840"/>
            <a:ext cx="815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A5CBD-2B4D-4517-B38B-FDCF47E0F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90920" y="90360"/>
            <a:ext cx="632448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15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759840"/>
            <a:ext cx="815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60027-4333-4FB5-95DE-6103145F9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590920" y="90360"/>
            <a:ext cx="632448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5360" y="13716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5984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35360" y="375984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D278D-45A2-404D-9DBE-02F9589F6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590920" y="90360"/>
            <a:ext cx="632448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4080" y="137160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70600" y="137160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75984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4080" y="375984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70600" y="375984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986EA-2DEF-47D0-96CC-2E0AB9E48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90920" y="90360"/>
            <a:ext cx="632448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EA37-4DAE-49EA-9C61-F8A8277F6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90920" y="90360"/>
            <a:ext cx="632448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5360" y="137160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9EFC-C974-4F44-8B68-CCD0EACBB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90920" y="90360"/>
            <a:ext cx="632448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C54B-BD76-4A2C-BC64-C01F65E75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590920" y="90360"/>
            <a:ext cx="6324480" cy="45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2D1D-A1FC-47A5-8C32-1F55F5C80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90920" y="90360"/>
            <a:ext cx="632448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5360" y="137160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75984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70BE-7668-4DFA-ACA1-9B9049A6A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590920" y="90360"/>
            <a:ext cx="632448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5360" y="13716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5360" y="375984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CABD-2180-4BBA-BC5A-AC74446A3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590920" y="90360"/>
            <a:ext cx="632448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5360" y="13716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759840"/>
            <a:ext cx="815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0219-0892-47B2-965F-2C4E16B7E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90920" y="90360"/>
            <a:ext cx="632448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54a1d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81952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267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1520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ADCBF-6E03-440C-8485-79A9607C6C9F}" type="slidenum">
              <a:rPr b="0" lang="en-US" sz="10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14240" y="3962520"/>
            <a:ext cx="56386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54a1d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236196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A3246-D9EF-4959-88B2-7A4CE5FF9EB4}" type="slidenum">
              <a:rPr b="0" lang="en-US" sz="10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1c1c1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1c1c1c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1c1c1c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14240" y="3962520"/>
            <a:ext cx="56386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3e26"/>
                </a:solidFill>
                <a:latin typeface="Verdana"/>
              </a:rPr>
              <a:t>Western States Biofuels Production Scenarios 2015</a:t>
            </a: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438280" y="5486040"/>
            <a:ext cx="5639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c1c1c"/>
                </a:solidFill>
                <a:latin typeface="Arial"/>
              </a:rPr>
              <a:t>October 10, 2007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rcRect l="842" t="1232" r="739" b="2464"/>
          <a:stretch/>
        </p:blipFill>
        <p:spPr>
          <a:xfrm>
            <a:off x="577800" y="1219320"/>
            <a:ext cx="8001000" cy="535284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590920" y="90360"/>
            <a:ext cx="632448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54a1d"/>
                </a:solidFill>
                <a:latin typeface="Arial Black"/>
              </a:rPr>
              <a:t>Fuel Target Analysis</a:t>
            </a: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114" name=""/>
          <p:cNvSpPr/>
          <p:nvPr/>
        </p:nvSpPr>
        <p:spPr>
          <a:xfrm>
            <a:off x="1492200" y="5356080"/>
            <a:ext cx="3200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1c1c1c"/>
                </a:solidFill>
                <a:latin typeface="Arial"/>
              </a:rPr>
              <a:t>Projected electricity, gasoline, and diesel prices based on data from EIA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335400" y="3689280"/>
            <a:ext cx="0" cy="2286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1855800" y="3695760"/>
            <a:ext cx="5381640" cy="814320"/>
            <a:chOff x="1855800" y="3695760"/>
            <a:chExt cx="5381640" cy="814320"/>
          </a:xfrm>
        </p:grpSpPr>
        <p:sp>
          <p:nvSpPr>
            <p:cNvPr id="117" name=""/>
            <p:cNvSpPr/>
            <p:nvPr/>
          </p:nvSpPr>
          <p:spPr>
            <a:xfrm flipH="1">
              <a:off x="2793960" y="3695760"/>
              <a:ext cx="53352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749680" y="3868560"/>
              <a:ext cx="110484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c1c1c"/>
                  </a:solidFill>
                  <a:latin typeface="Arial"/>
                </a:rPr>
                <a:t>Average Wholesale Price</a:t>
              </a:r>
              <a:endParaRPr b="0" lang="en-US" sz="12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25960" y="3809880"/>
              <a:ext cx="0" cy="381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073840" y="3755880"/>
              <a:ext cx="10666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c1c1c"/>
                  </a:solidFill>
                  <a:latin typeface="Arial"/>
                </a:rPr>
                <a:t>Price Range in Western Region</a:t>
              </a:r>
              <a:endParaRPr b="0" lang="en-US" sz="12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>
              <a:off x="3625920" y="4028760"/>
              <a:ext cx="380880" cy="1141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855800" y="3708360"/>
              <a:ext cx="868320" cy="0"/>
            </a:xfrm>
            <a:prstGeom prst="line">
              <a:avLst/>
            </a:prstGeom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102200" y="4016520"/>
              <a:ext cx="868320" cy="0"/>
            </a:xfrm>
            <a:prstGeom prst="line">
              <a:avLst/>
            </a:prstGeom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369120" y="3978360"/>
              <a:ext cx="868320" cy="0"/>
            </a:xfrm>
            <a:prstGeom prst="line">
              <a:avLst/>
            </a:prstGeom>
            <a:ln w="255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1829160" y="2819520"/>
            <a:ext cx="925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$23.44/MMBtu</a:t>
            </a:r>
            <a:endParaRPr b="0" lang="en-US" sz="9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2"/>
          <a:srcRect l="0" t="1542" r="0" b="3083"/>
          <a:stretch/>
        </p:blipFill>
        <p:spPr>
          <a:xfrm>
            <a:off x="838080" y="1371600"/>
            <a:ext cx="7162920" cy="467208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590920" y="90000"/>
            <a:ext cx="63244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3e26"/>
                </a:solidFill>
                <a:latin typeface="Arial Black"/>
              </a:rPr>
              <a:t>Western Region Biofuel Supply Curve 2015</a:t>
            </a:r>
            <a:endParaRPr b="0" lang="en-US" sz="32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128" name=""/>
          <p:cNvSpPr/>
          <p:nvPr/>
        </p:nvSpPr>
        <p:spPr>
          <a:xfrm>
            <a:off x="3124080" y="1905120"/>
            <a:ext cx="2819520" cy="106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arget ethanol Price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$17.50/MMBtu ($2.03/gge)  </a:t>
            </a:r>
            <a:r>
              <a:rPr b="0" lang="en-US" sz="16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Arial"/>
              </a:rPr>
              <a:t> ~ 4 Billion GGE/year 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Arial"/>
              </a:rPr>
              <a:t>(6 BGY ethanol)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6440" y="6186600"/>
            <a:ext cx="83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4d4d4d"/>
                </a:solidFill>
                <a:latin typeface="Arial"/>
              </a:rPr>
              <a:t>Western Region Ethanol Capacity in Jan 2007 was 1.7 Billion Gallons per Year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495680" y="4114800"/>
            <a:ext cx="222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hould other ratios be evaluated?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590920" y="90360"/>
            <a:ext cx="632448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54a1d"/>
                </a:solidFill>
                <a:latin typeface="Arial Black"/>
              </a:rPr>
              <a:t>Fostering the Transition to Bioenergy</a:t>
            </a:r>
            <a:endParaRPr b="0" lang="en-US" sz="32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Recommended Policy Tools for Biofuels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Leverage Federal Incentives for Biofuels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Support RD&amp;D - Federal and State levels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Financial support to expand feedstock production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Create demand for Biofuels (RFS expansion, government fuel and FFV purchases …)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Funding support for infrastructure changes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Estimate the transition cost and value the benefits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590920" y="90360"/>
            <a:ext cx="640080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54a1d"/>
                </a:solidFill>
                <a:latin typeface="Arial Black"/>
              </a:rPr>
              <a:t>Existing Federal Incentives</a:t>
            </a:r>
            <a:endParaRPr b="0" lang="en-US" sz="32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9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Existing federal incentives are intended to lower the consumer price of the biofuels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104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Biopower: Renewable Electricity Production Tax Credi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901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1.9 </a:t>
            </a:r>
            <a:r>
              <a:rPr b="0" lang="en-US" sz="2400" spc="-1" strike="noStrike">
                <a:solidFill>
                  <a:srgbClr val="1c1c1c"/>
                </a:solidFill>
                <a:latin typeface="Arial"/>
                <a:ea typeface="Arial"/>
              </a:rPr>
              <a:t>¢/kWh for closed loop biomass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901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  <a:ea typeface="Arial"/>
              </a:rPr>
              <a:t>1.0 ¢/kWh for open loop biomass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901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  <a:ea typeface="Arial"/>
              </a:rPr>
              <a:t>Set to expire in 2009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104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Biofuels: Biodiesel and Ethanol Tax Credit* 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901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$0.51/gallon for pure ethanol (or percentage in mix)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901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$1.00/gallon for agri-biodiesel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901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$0.50/gallon for waste-grease biodiesel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901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Set to expire in 2009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04920" y="6324480"/>
            <a:ext cx="739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1c1c1c"/>
                </a:solidFill>
                <a:latin typeface="Arial"/>
              </a:rPr>
              <a:t>* Also known as the Volumetric Ethanol Excise Tax Credit (VEETC) 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90920" y="90360"/>
            <a:ext cx="632448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54a1d"/>
                </a:solidFill>
                <a:latin typeface="Arial Black"/>
              </a:rPr>
              <a:t>Fuel Target Analysis – Federal Incentives</a:t>
            </a:r>
            <a:endParaRPr b="0" lang="en-US" sz="3200" spc="-1" strike="noStrike">
              <a:solidFill>
                <a:srgbClr val="654a1d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558720" y="1244520"/>
            <a:ext cx="7975800" cy="54532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2057760" y="2832120"/>
            <a:ext cx="925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$23.44/MMBtu</a:t>
            </a:r>
            <a:endParaRPr b="0" lang="en-US" sz="9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590920" y="90360"/>
            <a:ext cx="632448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54a1d"/>
                </a:solidFill>
                <a:latin typeface="Arial Black"/>
              </a:rPr>
              <a:t>Mixed Production Scenarios</a:t>
            </a:r>
            <a:endParaRPr b="0" lang="en-US" sz="32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How will the competition for feedstocks between the various Bioenergy Products play out?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How will changes in transportation technology drive the mix of Biofuels and Biopower, CHP and Process Heat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Plug in-Hybrid Vehicles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Diesel vs Gasoline vs FFV engine demand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uel cell and other advanced vehicles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514240" y="3962520"/>
            <a:ext cx="56386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2514240" y="5486040"/>
            <a:ext cx="5638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590920" y="90360"/>
            <a:ext cx="632448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54a1d"/>
                </a:solidFill>
                <a:latin typeface="Arial Black"/>
              </a:rPr>
              <a:t>Gasoline Price Breakdown</a:t>
            </a:r>
            <a:endParaRPr b="0" lang="en-US" sz="3200" spc="-1" strike="noStrike">
              <a:solidFill>
                <a:srgbClr val="654a1d"/>
              </a:solidFill>
              <a:latin typeface="Arial Black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368280" y="1447920"/>
          <a:ext cx="8381880" cy="3481200"/>
        </p:xfrm>
        <a:graphic>
          <a:graphicData uri="http://schemas.openxmlformats.org/drawingml/2006/table">
            <a:tbl>
              <a:tblPr/>
              <a:tblGrid>
                <a:gridCol w="2209680"/>
                <a:gridCol w="1447920"/>
                <a:gridCol w="1523880"/>
                <a:gridCol w="1676520"/>
                <a:gridCol w="15238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1c1c1c"/>
                      </a:solidFill>
                    </a:lnL>
                    <a:lnR w="5760">
                      <a:solidFill>
                        <a:srgbClr val="1c1c1c"/>
                      </a:solidFill>
                    </a:lnR>
                    <a:lnT w="13680">
                      <a:solidFill>
                        <a:srgbClr val="1c1c1c"/>
                      </a:solidFill>
                    </a:lnT>
                    <a:lnB w="5760">
                      <a:solidFill>
                        <a:srgbClr val="1c1c1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Aug 6</a:t>
                      </a:r>
                      <a:endParaRPr b="0" lang="en-US" sz="24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c1c1c"/>
                      </a:solidFill>
                    </a:lnL>
                    <a:lnR w="5760">
                      <a:solidFill>
                        <a:srgbClr val="1c1c1c"/>
                      </a:solidFill>
                    </a:lnR>
                    <a:lnT w="13680">
                      <a:solidFill>
                        <a:srgbClr val="1c1c1c"/>
                      </a:solidFill>
                    </a:lnT>
                    <a:lnB w="5760">
                      <a:solidFill>
                        <a:srgbClr val="1c1c1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Sept 3</a:t>
                      </a:r>
                      <a:endParaRPr b="0" lang="en-US" sz="24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c1c1c"/>
                      </a:solidFill>
                    </a:lnL>
                    <a:lnR w="5760">
                      <a:solidFill>
                        <a:srgbClr val="1c1c1c"/>
                      </a:solidFill>
                    </a:lnR>
                    <a:lnT w="13680">
                      <a:solidFill>
                        <a:srgbClr val="1c1c1c"/>
                      </a:solidFill>
                    </a:lnT>
                    <a:lnB w="5760">
                      <a:solidFill>
                        <a:srgbClr val="1c1c1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Oct 1</a:t>
                      </a:r>
                      <a:endParaRPr b="0" lang="en-US" sz="24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c1c1c"/>
                      </a:solidFill>
                    </a:lnL>
                    <a:lnR w="5760">
                      <a:solidFill>
                        <a:srgbClr val="1c1c1c"/>
                      </a:solidFill>
                    </a:lnR>
                    <a:lnT w="13680">
                      <a:solidFill>
                        <a:srgbClr val="1c1c1c"/>
                      </a:solidFill>
                    </a:lnT>
                    <a:lnB w="5760">
                      <a:solidFill>
                        <a:srgbClr val="1c1c1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Avg. % of Total</a:t>
                      </a:r>
                      <a:endParaRPr b="0" lang="en-US" sz="24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c1c1c"/>
                      </a:solidFill>
                    </a:lnL>
                    <a:lnR w="13680">
                      <a:solidFill>
                        <a:srgbClr val="1c1c1c"/>
                      </a:solidFill>
                    </a:lnR>
                    <a:lnT w="13680">
                      <a:solidFill>
                        <a:srgbClr val="1c1c1c"/>
                      </a:solidFill>
                    </a:lnT>
                    <a:lnB w="5760">
                      <a:solidFill>
                        <a:srgbClr val="1c1c1c"/>
                      </a:solidFill>
                    </a:lnB>
                    <a:solidFill>
                      <a:srgbClr val="b1a59d"/>
                    </a:solidFill>
                  </a:tcPr>
                </a:tc>
              </a:tr>
              <a:tr h="664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Wholesale Price</a:t>
                      </a:r>
                      <a:endParaRPr b="0" lang="en-US" sz="20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1c1c1c"/>
                      </a:solidFill>
                    </a:lnL>
                    <a:lnR w="5760">
                      <a:solidFill>
                        <a:srgbClr val="1c1c1c"/>
                      </a:solidFill>
                    </a:lnR>
                    <a:lnT w="5760">
                      <a:solidFill>
                        <a:srgbClr val="1c1c1c"/>
                      </a:solidFill>
                    </a:lnT>
                    <a:lnB w="5760">
                      <a:solidFill>
                        <a:srgbClr val="1c1c1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$2.17</a:t>
                      </a:r>
                      <a:endParaRPr b="0" lang="en-US" sz="16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c1c1c"/>
                      </a:solidFill>
                    </a:lnL>
                    <a:lnR w="5760">
                      <a:solidFill>
                        <a:srgbClr val="1c1c1c"/>
                      </a:solidFill>
                    </a:lnR>
                    <a:lnT w="5760">
                      <a:solidFill>
                        <a:srgbClr val="1c1c1c"/>
                      </a:solidFill>
                    </a:lnT>
                    <a:lnB w="5760">
                      <a:solidFill>
                        <a:srgbClr val="1c1c1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$2.12</a:t>
                      </a:r>
                      <a:endParaRPr b="0" lang="en-US" sz="16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c1c1c"/>
                      </a:solidFill>
                    </a:lnL>
                    <a:lnR w="5760">
                      <a:solidFill>
                        <a:srgbClr val="1c1c1c"/>
                      </a:solidFill>
                    </a:lnR>
                    <a:lnT w="5760">
                      <a:solidFill>
                        <a:srgbClr val="1c1c1c"/>
                      </a:solidFill>
                    </a:lnT>
                    <a:lnB w="5760">
                      <a:solidFill>
                        <a:srgbClr val="1c1c1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$2.33</a:t>
                      </a:r>
                      <a:endParaRPr b="0" lang="en-US" sz="16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c1c1c"/>
                      </a:solidFill>
                    </a:lnL>
                    <a:lnR w="5760">
                      <a:solidFill>
                        <a:srgbClr val="1c1c1c"/>
                      </a:solidFill>
                    </a:lnR>
                    <a:lnT w="5760">
                      <a:solidFill>
                        <a:srgbClr val="1c1c1c"/>
                      </a:solidFill>
                    </a:lnT>
                    <a:lnB w="5760">
                      <a:solidFill>
                        <a:srgbClr val="1c1c1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75%</a:t>
                      </a:r>
                      <a:endParaRPr b="0" lang="en-US" sz="16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c1c1c"/>
                      </a:solidFill>
                    </a:lnL>
                    <a:lnR w="13680">
                      <a:solidFill>
                        <a:srgbClr val="1c1c1c"/>
                      </a:solidFill>
                    </a:lnR>
                    <a:lnT w="5760">
                      <a:solidFill>
                        <a:srgbClr val="1c1c1c"/>
                      </a:solidFill>
                    </a:lnT>
                    <a:lnB w="5760">
                      <a:solidFill>
                        <a:srgbClr val="1c1c1c"/>
                      </a:solidFill>
                    </a:lnB>
                    <a:solidFill>
                      <a:srgbClr val="b1a59d"/>
                    </a:solidFill>
                  </a:tcPr>
                </a:tc>
              </a:tr>
              <a:tr h="664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Distribution Costs</a:t>
                      </a:r>
                      <a:endParaRPr b="0" lang="en-US" sz="20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1c1c1c"/>
                      </a:solidFill>
                    </a:lnL>
                    <a:lnR w="5760">
                      <a:solidFill>
                        <a:srgbClr val="1c1c1c"/>
                      </a:solidFill>
                    </a:lnR>
                    <a:lnT w="5760">
                      <a:solidFill>
                        <a:srgbClr val="1c1c1c"/>
                      </a:solidFill>
                    </a:lnT>
                    <a:lnB w="5760">
                      <a:solidFill>
                        <a:srgbClr val="1c1c1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$0.27</a:t>
                      </a:r>
                      <a:endParaRPr b="0" lang="en-US" sz="16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c1c1c"/>
                      </a:solidFill>
                    </a:lnL>
                    <a:lnR w="5760">
                      <a:solidFill>
                        <a:srgbClr val="1c1c1c"/>
                      </a:solidFill>
                    </a:lnR>
                    <a:lnT w="5760">
                      <a:solidFill>
                        <a:srgbClr val="1c1c1c"/>
                      </a:solidFill>
                    </a:lnT>
                    <a:lnB w="5760">
                      <a:solidFill>
                        <a:srgbClr val="1c1c1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$0.10</a:t>
                      </a:r>
                      <a:endParaRPr b="0" lang="en-US" sz="16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c1c1c"/>
                      </a:solidFill>
                    </a:lnL>
                    <a:lnR w="5760">
                      <a:solidFill>
                        <a:srgbClr val="1c1c1c"/>
                      </a:solidFill>
                    </a:lnR>
                    <a:lnT w="5760">
                      <a:solidFill>
                        <a:srgbClr val="1c1c1c"/>
                      </a:solidFill>
                    </a:lnT>
                    <a:lnB w="5760">
                      <a:solidFill>
                        <a:srgbClr val="1c1c1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$0.06</a:t>
                      </a:r>
                      <a:endParaRPr b="0" lang="en-US" sz="16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c1c1c"/>
                      </a:solidFill>
                    </a:lnL>
                    <a:lnR w="5760">
                      <a:solidFill>
                        <a:srgbClr val="1c1c1c"/>
                      </a:solidFill>
                    </a:lnR>
                    <a:lnT w="5760">
                      <a:solidFill>
                        <a:srgbClr val="1c1c1c"/>
                      </a:solidFill>
                    </a:lnT>
                    <a:lnB w="5760">
                      <a:solidFill>
                        <a:srgbClr val="1c1c1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5%</a:t>
                      </a:r>
                      <a:endParaRPr b="0" lang="en-US" sz="16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c1c1c"/>
                      </a:solidFill>
                    </a:lnL>
                    <a:lnR w="13680">
                      <a:solidFill>
                        <a:srgbClr val="1c1c1c"/>
                      </a:solidFill>
                    </a:lnR>
                    <a:lnT w="5760">
                      <a:solidFill>
                        <a:srgbClr val="1c1c1c"/>
                      </a:solidFill>
                    </a:lnT>
                    <a:lnB w="5760">
                      <a:solidFill>
                        <a:srgbClr val="1c1c1c"/>
                      </a:solidFill>
                    </a:lnB>
                    <a:solidFill>
                      <a:srgbClr val="b1a59d"/>
                    </a:solidFill>
                  </a:tcPr>
                </a:tc>
              </a:tr>
              <a:tr h="664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Taxes</a:t>
                      </a:r>
                      <a:endParaRPr b="0" lang="en-US" sz="20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1c1c1c"/>
                      </a:solidFill>
                    </a:lnL>
                    <a:lnR w="5760">
                      <a:solidFill>
                        <a:srgbClr val="1c1c1c"/>
                      </a:solidFill>
                    </a:lnR>
                    <a:lnT w="5760">
                      <a:solidFill>
                        <a:srgbClr val="1c1c1c"/>
                      </a:solidFill>
                    </a:lnT>
                    <a:lnB w="5760">
                      <a:solidFill>
                        <a:srgbClr val="1c1c1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$0.58</a:t>
                      </a:r>
                      <a:endParaRPr b="0" lang="en-US" sz="16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c1c1c"/>
                      </a:solidFill>
                    </a:lnL>
                    <a:lnR w="5760">
                      <a:solidFill>
                        <a:srgbClr val="1c1c1c"/>
                      </a:solidFill>
                    </a:lnR>
                    <a:lnT w="5760">
                      <a:solidFill>
                        <a:srgbClr val="1c1c1c"/>
                      </a:solidFill>
                    </a:lnT>
                    <a:lnB w="5760">
                      <a:solidFill>
                        <a:srgbClr val="1c1c1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$0.57</a:t>
                      </a:r>
                      <a:endParaRPr b="0" lang="en-US" sz="16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c1c1c"/>
                      </a:solidFill>
                    </a:lnL>
                    <a:lnR w="5760">
                      <a:solidFill>
                        <a:srgbClr val="1c1c1c"/>
                      </a:solidFill>
                    </a:lnR>
                    <a:lnT w="5760">
                      <a:solidFill>
                        <a:srgbClr val="1c1c1c"/>
                      </a:solidFill>
                    </a:lnT>
                    <a:lnB w="5760">
                      <a:solidFill>
                        <a:srgbClr val="1c1c1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$0.58</a:t>
                      </a:r>
                      <a:endParaRPr b="0" lang="en-US" sz="16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c1c1c"/>
                      </a:solidFill>
                    </a:lnL>
                    <a:lnR w="5760">
                      <a:solidFill>
                        <a:srgbClr val="1c1c1c"/>
                      </a:solidFill>
                    </a:lnR>
                    <a:lnT w="5760">
                      <a:solidFill>
                        <a:srgbClr val="1c1c1c"/>
                      </a:solidFill>
                    </a:lnT>
                    <a:lnB w="5760">
                      <a:solidFill>
                        <a:srgbClr val="1c1c1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20%</a:t>
                      </a:r>
                      <a:endParaRPr b="0" lang="en-US" sz="16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c1c1c"/>
                      </a:solidFill>
                    </a:lnL>
                    <a:lnR w="13680">
                      <a:solidFill>
                        <a:srgbClr val="1c1c1c"/>
                      </a:solidFill>
                    </a:lnR>
                    <a:lnT w="5760">
                      <a:solidFill>
                        <a:srgbClr val="1c1c1c"/>
                      </a:solidFill>
                    </a:lnT>
                    <a:lnB w="5760">
                      <a:solidFill>
                        <a:srgbClr val="1c1c1c"/>
                      </a:solidFill>
                    </a:lnB>
                    <a:solidFill>
                      <a:srgbClr val="b1a59d"/>
                    </a:solidFill>
                  </a:tcPr>
                </a:tc>
              </a:tr>
              <a:tr h="663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Retail</a:t>
                      </a:r>
                      <a:endParaRPr b="0" lang="en-US" sz="20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1c1c1c"/>
                      </a:solidFill>
                    </a:lnL>
                    <a:lnR w="5760">
                      <a:solidFill>
                        <a:srgbClr val="1c1c1c"/>
                      </a:solidFill>
                    </a:lnR>
                    <a:lnT w="5760">
                      <a:solidFill>
                        <a:srgbClr val="1c1c1c"/>
                      </a:solidFill>
                    </a:lnT>
                    <a:lnB w="13680">
                      <a:solidFill>
                        <a:srgbClr val="1c1c1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$3.02</a:t>
                      </a:r>
                      <a:endParaRPr b="0" lang="en-US" sz="16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c1c1c"/>
                      </a:solidFill>
                    </a:lnL>
                    <a:lnR w="5760">
                      <a:solidFill>
                        <a:srgbClr val="1c1c1c"/>
                      </a:solidFill>
                    </a:lnR>
                    <a:lnT w="5760">
                      <a:solidFill>
                        <a:srgbClr val="1c1c1c"/>
                      </a:solidFill>
                    </a:lnT>
                    <a:lnB w="13680">
                      <a:solidFill>
                        <a:srgbClr val="1c1c1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$2.79</a:t>
                      </a:r>
                      <a:endParaRPr b="0" lang="en-US" sz="16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c1c1c"/>
                      </a:solidFill>
                    </a:lnL>
                    <a:lnR w="5760">
                      <a:solidFill>
                        <a:srgbClr val="1c1c1c"/>
                      </a:solidFill>
                    </a:lnR>
                    <a:lnT w="5760">
                      <a:solidFill>
                        <a:srgbClr val="1c1c1c"/>
                      </a:solidFill>
                    </a:lnT>
                    <a:lnB w="13680">
                      <a:solidFill>
                        <a:srgbClr val="1c1c1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$2.97</a:t>
                      </a:r>
                      <a:endParaRPr b="0" lang="en-US" sz="16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c1c1c"/>
                      </a:solidFill>
                    </a:lnL>
                    <a:lnR w="5760">
                      <a:solidFill>
                        <a:srgbClr val="1c1c1c"/>
                      </a:solidFill>
                    </a:lnR>
                    <a:lnT w="5760">
                      <a:solidFill>
                        <a:srgbClr val="1c1c1c"/>
                      </a:solidFill>
                    </a:lnT>
                    <a:lnB w="13680">
                      <a:solidFill>
                        <a:srgbClr val="1c1c1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100%</a:t>
                      </a:r>
                      <a:endParaRPr b="0" lang="en-US" sz="16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c1c1c"/>
                      </a:solidFill>
                    </a:lnL>
                    <a:lnR w="13680">
                      <a:solidFill>
                        <a:srgbClr val="1c1c1c"/>
                      </a:solidFill>
                    </a:lnR>
                    <a:lnT w="5760">
                      <a:solidFill>
                        <a:srgbClr val="1c1c1c"/>
                      </a:solidFill>
                    </a:lnT>
                    <a:lnB w="13680">
                      <a:solidFill>
                        <a:srgbClr val="1c1c1c"/>
                      </a:solidFill>
                    </a:lnB>
                    <a:solidFill>
                      <a:srgbClr val="b1a59d"/>
                    </a:solidFill>
                  </a:tcPr>
                </a:tc>
              </a:tr>
            </a:tbl>
          </a:graphicData>
        </a:graphic>
      </p:graphicFrame>
      <p:sp>
        <p:nvSpPr>
          <p:cNvPr id="145" name=""/>
          <p:cNvSpPr/>
          <p:nvPr/>
        </p:nvSpPr>
        <p:spPr>
          <a:xfrm>
            <a:off x="228600" y="6140520"/>
            <a:ext cx="594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</a:rPr>
              <a:t>Source: CEC Estimated Price Breakdown, October 2007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510552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1c1c1c"/>
                </a:solidFill>
                <a:uFillTx/>
                <a:latin typeface="Arial"/>
              </a:rPr>
              <a:t>Wholesale Price</a:t>
            </a:r>
            <a:r>
              <a:rPr b="0" i="1" lang="en-US" sz="1800" spc="-1" strike="noStrike">
                <a:solidFill>
                  <a:srgbClr val="1c1c1c"/>
                </a:solidFill>
                <a:latin typeface="Arial"/>
              </a:rPr>
              <a:t> is the average gasoline price </a:t>
            </a:r>
            <a:r>
              <a:rPr b="1" i="1" lang="en-US" sz="1800" spc="-1" strike="noStrike">
                <a:solidFill>
                  <a:srgbClr val="1c1c1c"/>
                </a:solidFill>
                <a:latin typeface="Arial"/>
              </a:rPr>
              <a:t>at the rack</a:t>
            </a:r>
            <a:r>
              <a:rPr b="0" i="1" lang="en-US" sz="1800" spc="-1" strike="noStrike">
                <a:solidFill>
                  <a:srgbClr val="1c1c1c"/>
                </a:solidFill>
                <a:latin typeface="Arial"/>
              </a:rPr>
              <a:t> – includes all costs associated with gasoline production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590920" y="90360"/>
            <a:ext cx="632448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54a1d"/>
                </a:solidFill>
                <a:latin typeface="Arial Black"/>
              </a:rPr>
              <a:t>Foundation for Strategic Analysis of Biofuels</a:t>
            </a:r>
            <a:endParaRPr b="0" lang="en-US" sz="32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A continuation of the CDEAC strategic assessment of the development clean energy resources in the West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Augmented feedstock database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Liquid fuels production technology models 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Enhanced supply analysis methodology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Policy recommendations from WGA Transportation Fuels of the Future task force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590920" y="90360"/>
            <a:ext cx="632448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54a1d"/>
                </a:solidFill>
                <a:latin typeface="Arial Black"/>
              </a:rPr>
              <a:t>Strategic Questions for Bioenergy in the West</a:t>
            </a:r>
            <a:endParaRPr b="0" lang="en-US" sz="32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spcBef>
                <a:spcPts val="901"/>
              </a:spcBef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What contributions to the Western States energy supply could Bioenergy make by 2015? 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901"/>
              </a:spcBef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What are the barriers to achieving the full potential of Bioenergy supply?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901"/>
              </a:spcBef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What is the full set of policy measures needed to enable this transformation to increased Bioenergy supply? 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901"/>
              </a:spcBef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What is the potential cost for these measures, what are benefits, and what is the cost benefit ratio?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901"/>
              </a:spcBef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What are the regional differences within the West with regard to capability to produce Bioenergy 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901"/>
              </a:spcBef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What is the technology progression for the transition to tomorrow’s vision?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901"/>
              </a:spcBef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What is the variation in resource by region – how does that inform policy and resource development choices?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590920" y="90360"/>
            <a:ext cx="632448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54a1d"/>
                </a:solidFill>
                <a:latin typeface="Arial Black"/>
              </a:rPr>
              <a:t>Task 4 Production Scenarios for Biofuels</a:t>
            </a:r>
            <a:endParaRPr b="0" lang="en-US" sz="32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Set a Target Product Price for Biofuels that will correspond to the Target Product Price (TPP) established for Biopower by the CDEAC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$80/ MWh for Wholesale Power 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$17.50/MMBtu for Gasoline Substitutes ($2.03/gge)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</a:rPr>
              <a:t>$17.76/MMBtu for Diesel Substitutes ($2.06/gge)</a:t>
            </a:r>
            <a:endParaRPr b="0" lang="en-US" sz="20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Determine potential production capacity for Biofuels in the Western States by 2015 up to the target price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Formulate a set of policies for biobased transportation fuels to complement the set developed for electricity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Lay out resource and technology development scenarios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Suggest timeline for transition to Bioenergy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590920" y="90000"/>
            <a:ext cx="63244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54a1d"/>
                </a:solidFill>
                <a:latin typeface="Arial Black"/>
              </a:rPr>
              <a:t>CDEAC Biomass Power Supply Curve 2015</a:t>
            </a:r>
            <a:endParaRPr b="0" lang="en-US" sz="3200" spc="-1" strike="noStrike">
              <a:solidFill>
                <a:srgbClr val="654a1d"/>
              </a:solidFill>
              <a:latin typeface="Arial Black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990720" y="1295280"/>
            <a:ext cx="6858000" cy="52261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828800" y="4876920"/>
            <a:ext cx="380988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791320" y="4572000"/>
            <a:ext cx="1828800" cy="91692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8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¢/kWh Target Price </a:t>
            </a:r>
            <a:r>
              <a:rPr b="0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 10 GW Biopower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876920" y="4572000"/>
            <a:ext cx="0" cy="12952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90920" y="90360"/>
            <a:ext cx="632448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54a1d"/>
                </a:solidFill>
                <a:latin typeface="Arial Black"/>
              </a:rPr>
              <a:t>Biomass Power Supply Curve Notes</a:t>
            </a:r>
            <a:endParaRPr b="0" lang="en-US" sz="32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14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e WGA supply curves show cumulative amount of product (power or fuel) delivered (grid or terminal) at or below each price poin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1199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For a target price of 8</a:t>
            </a:r>
            <a:r>
              <a:rPr b="0" lang="en-US" sz="2400" spc="-1" strike="noStrike">
                <a:solidFill>
                  <a:srgbClr val="1c1c1c"/>
                </a:solidFill>
                <a:latin typeface="Arial"/>
                <a:ea typeface="Arial"/>
              </a:rPr>
              <a:t>¢/kWh a total 10 GW of power could be profitably produced and sold to the grid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14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1c1c1c"/>
                </a:solidFill>
                <a:latin typeface="Arial"/>
                <a:ea typeface="Arial"/>
              </a:rPr>
              <a:t>Many facilities produce power at lower costs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1199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1c1c1c"/>
                </a:solidFill>
                <a:latin typeface="Arial"/>
                <a:ea typeface="Arial"/>
              </a:rPr>
              <a:t>Average cumulative power price may be lower than </a:t>
            </a: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8</a:t>
            </a:r>
            <a:r>
              <a:rPr b="0" lang="en-US" sz="2400" spc="-1" strike="noStrike">
                <a:solidFill>
                  <a:srgbClr val="1c1c1c"/>
                </a:solidFill>
                <a:latin typeface="Arial"/>
                <a:ea typeface="Arial"/>
              </a:rPr>
              <a:t>¢/kWh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1199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  <a:ea typeface="Arial"/>
              </a:rPr>
              <a:t>Competition for biomass increases the value and price of the lower cost feedstocks pushing them up toward a market price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1199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  <a:ea typeface="Arial"/>
              </a:rPr>
              <a:t>Regional power demands and supply vary significantly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90920" y="90000"/>
            <a:ext cx="63244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54a1d"/>
                </a:solidFill>
                <a:latin typeface="Arial Black"/>
              </a:rPr>
              <a:t>Target Price for Biofuels</a:t>
            </a:r>
            <a:endParaRPr b="0" lang="en-US" sz="32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Methodology: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Use projected prices for electricity, gasoline and diesel in 2015 (DOE EIA)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alculate Ratio of biomass power target price to projected wholesale power price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Apply ratio to projected wholesale petroleum fuel prices to determine biofuel target price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Diesel and gasoline substitutes evaluated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Ratio applied an energy basis not volumetric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90920" y="90360"/>
            <a:ext cx="632448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54a1d"/>
                </a:solidFill>
                <a:latin typeface="Arial Black"/>
              </a:rPr>
              <a:t>EIA Retail Petroleum Products Price Projections</a:t>
            </a:r>
            <a:endParaRPr b="0" lang="en-US" sz="3200" spc="-1" strike="noStrike">
              <a:solidFill>
                <a:srgbClr val="654a1d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609480" y="1295280"/>
            <a:ext cx="7696440" cy="52610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5564520" y="6324480"/>
            <a:ext cx="25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Source: EIA AEO 2007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976840" y="5334120"/>
            <a:ext cx="39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hould other forecasts be evaluated?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90920" y="90360"/>
            <a:ext cx="632448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54a1d"/>
                </a:solidFill>
                <a:latin typeface="Arial Black"/>
              </a:rPr>
              <a:t>Projected Price Data</a:t>
            </a:r>
            <a:endParaRPr b="0" lang="en-US" sz="3600" spc="-1" strike="noStrike">
              <a:solidFill>
                <a:srgbClr val="654a1d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Power 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  <a:ea typeface="Arial"/>
              </a:rPr>
              <a:t>2006 Wholesale Market Data for California and Texas ISO from EIA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  <a:ea typeface="Arial"/>
              </a:rPr>
              <a:t>Projected to 2015 based on EIA’s 2007 Annual Energy Outlook (AEO) retail price escalation factors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uels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  <a:ea typeface="Arial"/>
              </a:rPr>
              <a:t>2006 Wholesale Price Data for Gasoline and Diesel in Western States from EIA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  <a:ea typeface="Arial"/>
              </a:rPr>
              <a:t>Projected to 2015 based on EIA’s 2007 Annual Energy Outlook (AEO) retail price escalation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  <a:ea typeface="Arial"/>
              </a:rPr>
              <a:t>Converted to $/MMBtu 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8T19:50:36Z</dcterms:created>
  <dc:creator>Edward Gray</dc:creator>
  <dc:description/>
  <dc:language>en-US</dc:language>
  <cp:lastModifiedBy>Matthew Futch</cp:lastModifiedBy>
  <dcterms:modified xsi:type="dcterms:W3CDTF">2007-10-10T21:07:21Z</dcterms:modified>
  <cp:revision>50</cp:revision>
  <dc:subject/>
  <dc:title>Strategic Analysis of Western Bioenergy</dc:title>
</cp:coreProperties>
</file>