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54a1d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3C7E-F7C2-4244-9F7F-9E4DD9EBE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onvert from cents/kWh to $/MMBtu multiply by 2.93.  So 8 cents/kWh = $23.44/MMB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E411-CD95-4BA4-A7A4-2B496B074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5984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6F12-A9FA-4733-8333-34EBCC3F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536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272F-4976-4CF7-AC37-25DEABE71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408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060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408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060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3018-C742-4B3E-AEA8-963DE495E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ECF4-DE43-4067-86D7-A7F44B7AE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4794C-558D-4E83-AECD-0254A024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6D05E-AC7F-42A5-8D86-3CC0E571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1DCEB-4F06-48A7-A5BC-459A8ECE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5140-D863-485A-BD7B-FFB9B97A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90920" y="90360"/>
            <a:ext cx="6324480" cy="45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3844-7E2A-485E-904C-61AA32F8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7778-1986-4D5C-85DD-A1B7B97F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4B8E-D80A-46AC-B968-794F0958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536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D0BF-5DF7-49EA-A7BF-A9CE8A72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AE560-3019-4B6E-9E56-52B0E6C0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75984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1DB0-0C94-469A-9608-A3475CFC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536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6A7A-D1D5-4620-8621-0840C8E49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408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060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408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060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9AC0-A7C0-4A07-9165-C3D84C31F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0052-9373-4954-B257-ECC56FA9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D75C-7F31-476D-98D0-8145AE2E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1499-D296-4DE9-9332-16A14A43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90920" y="90360"/>
            <a:ext cx="6324480" cy="45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C62E-33A3-4C47-87CF-9D90A4A3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34FB-4353-4690-8BB9-C7BE54AF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536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22AE-7FCE-469F-B748-C9712AE2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F381-E398-4DD9-B116-7A731739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4a1d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195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67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52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7339-D217-4FE1-BF41-E618C2749252}" type="slidenum"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14240" y="3962520"/>
            <a:ext cx="5638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54a1d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380B-AE8A-447E-AE7E-CF24B0BA1BF0}" type="slidenum"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c1c1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c1c1c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14240" y="3962520"/>
            <a:ext cx="5638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3e26"/>
                </a:solidFill>
                <a:latin typeface="Verdana"/>
              </a:rPr>
              <a:t>Western States Biofuels Production Scenarios 2015</a:t>
            </a: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38280" y="5486040"/>
            <a:ext cx="5639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c1c1c"/>
                </a:solidFill>
                <a:latin typeface="Arial"/>
              </a:rPr>
              <a:t>October 10, 2007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rcRect l="842" t="1232" r="739" b="2464"/>
          <a:stretch/>
        </p:blipFill>
        <p:spPr>
          <a:xfrm>
            <a:off x="577800" y="1219320"/>
            <a:ext cx="8001000" cy="53528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4a1d"/>
                </a:solidFill>
                <a:latin typeface="Arial Black"/>
              </a:rPr>
              <a:t>Fuel Target Analysis</a:t>
            </a: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1492200" y="535608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1c1c1c"/>
                </a:solidFill>
                <a:latin typeface="Arial"/>
              </a:rPr>
              <a:t>Projected electricity, gasoline, and diesel prices based on data from EIA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35400" y="3689280"/>
            <a:ext cx="0" cy="228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855800" y="3695760"/>
            <a:ext cx="5381640" cy="814320"/>
            <a:chOff x="1855800" y="3695760"/>
            <a:chExt cx="5381640" cy="814320"/>
          </a:xfrm>
        </p:grpSpPr>
        <p:sp>
          <p:nvSpPr>
            <p:cNvPr id="117" name=""/>
            <p:cNvSpPr/>
            <p:nvPr/>
          </p:nvSpPr>
          <p:spPr>
            <a:xfrm flipH="1">
              <a:off x="2793960" y="3695760"/>
              <a:ext cx="53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49680" y="3868560"/>
              <a:ext cx="11048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Average Wholesale Price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25960" y="3809880"/>
              <a:ext cx="0" cy="38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73840" y="3755880"/>
              <a:ext cx="10666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Price Range in Western Region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3625920" y="4028760"/>
              <a:ext cx="380880" cy="114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55800" y="3708360"/>
              <a:ext cx="868320" cy="0"/>
            </a:xfrm>
            <a:prstGeom prst="line">
              <a:avLst/>
            </a:prstGeom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02200" y="4016520"/>
              <a:ext cx="868320" cy="0"/>
            </a:xfrm>
            <a:prstGeom prst="line">
              <a:avLst/>
            </a:prstGeom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69120" y="3978360"/>
              <a:ext cx="868320" cy="0"/>
            </a:xfrm>
            <a:prstGeom prst="line">
              <a:avLst/>
            </a:prstGeom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829160" y="2819520"/>
            <a:ext cx="92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$23.44/MMBtu</a:t>
            </a:r>
            <a:endParaRPr b="0" lang="en-US" sz="9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rcRect l="0" t="1542" r="0" b="3083"/>
          <a:stretch/>
        </p:blipFill>
        <p:spPr>
          <a:xfrm>
            <a:off x="838080" y="1371600"/>
            <a:ext cx="7162920" cy="46720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90920" y="90000"/>
            <a:ext cx="63244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 Black"/>
              </a:rPr>
              <a:t>Western Region Biofuel Supply Curve 2015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1905120"/>
            <a:ext cx="281952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arget ethanol Price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$17.50/MMBtu ($2.03/gge)  </a:t>
            </a:r>
            <a:r>
              <a:rPr b="0" lang="en-US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 ~ 4 Billion GGE/year 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(6 BGY ethanol)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6440" y="61866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d4d4d"/>
                </a:solidFill>
                <a:latin typeface="Arial"/>
              </a:rPr>
              <a:t>Western Region Ethanol Capacity in Jan 2007 was 1.7 Billion Gallons per Year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4114800"/>
            <a:ext cx="222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hould other ratios be evaluated?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Fostering the Transition to Bioenergy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Recommended Policy Tools for Biofuel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Leverage Federal Incentives for Biofuels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Support RD&amp;D - Federal and State levels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Financial support to expand feedstock production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Create demand for Biofuels (RFS expansion, government fuel and FFV purchases …)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Funding support for infrastructure changes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Estimate the transition cost and value the benefit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4008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Existing Federal Incentives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Existing federal incentives are intended to lower the consumer price of the biofuels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04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Biopower: Renewable Electricity Production Tax Credi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9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1.9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Arial"/>
              </a:rPr>
              <a:t>¢/kWh for closed loop biomass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9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Arial"/>
              </a:rPr>
              <a:t>1.0 ¢/kWh for open loop biomass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9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Arial"/>
              </a:rPr>
              <a:t>Set to expire in 2009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04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Biofuels: Biodiesel and Ethanol Tax Credit* 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9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$0.51/gallon for pure ethanol (or percentage in mix)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9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$1.00/gallon for agri-biodiesel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9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$0.50/gallon for waste-grease biodiesel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9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Set to expire in 2009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632448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1c1c1c"/>
                </a:solidFill>
                <a:latin typeface="Arial"/>
              </a:rPr>
              <a:t>* Also known as the Volumetric Ethanol Excise Tax Credit (VEETC)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Fuel Target Analysis – Federal Incentives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58720" y="1244520"/>
            <a:ext cx="7975800" cy="54532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057760" y="2832120"/>
            <a:ext cx="92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$23.44/MMBtu</a:t>
            </a:r>
            <a:endParaRPr b="0" lang="en-US" sz="9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Mixed Production Scenarios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How will the competition for feedstocks between the various Bioenergy Products play out?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How will changes in transportation technology drive the mix of Biofuels and Biopower, CHP and Process Hea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Plug in-Hybrid Vehicle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Diesel vs Gasoline vs FFV engine demand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uel cell and other advanced vehicle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14240" y="3962520"/>
            <a:ext cx="5638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2514240" y="5486040"/>
            <a:ext cx="5638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Gasoline Price Breakdown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68280" y="1447920"/>
          <a:ext cx="8381880" cy="3481200"/>
        </p:xfrm>
        <a:graphic>
          <a:graphicData uri="http://schemas.openxmlformats.org/drawingml/2006/table">
            <a:tbl>
              <a:tblPr/>
              <a:tblGrid>
                <a:gridCol w="2209680"/>
                <a:gridCol w="1447920"/>
                <a:gridCol w="1523880"/>
                <a:gridCol w="1676520"/>
                <a:gridCol w="15238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1368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Aug 6</a:t>
                      </a:r>
                      <a:endParaRPr b="0" lang="en-US" sz="24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1368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Sept 3</a:t>
                      </a:r>
                      <a:endParaRPr b="0" lang="en-US" sz="24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1368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Oct 1</a:t>
                      </a:r>
                      <a:endParaRPr b="0" lang="en-US" sz="24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1368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Avg. % of Total</a:t>
                      </a:r>
                      <a:endParaRPr b="0" lang="en-US" sz="24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13680">
                      <a:solidFill>
                        <a:srgbClr val="1c1c1c"/>
                      </a:solidFill>
                    </a:lnR>
                    <a:lnT w="1368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b1a59d"/>
                    </a:solidFill>
                  </a:tcPr>
                </a:tc>
              </a:tr>
              <a:tr h="66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Wholesale Price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$2.17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$2.12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$2.33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75%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1368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b1a59d"/>
                    </a:solidFill>
                  </a:tcPr>
                </a:tc>
              </a:tr>
              <a:tr h="66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Distribution Costs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$0.27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$0.10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$0.06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5%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1368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b1a59d"/>
                    </a:solidFill>
                  </a:tcPr>
                </a:tc>
              </a:tr>
              <a:tr h="66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Taxes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$0.58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$0.57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$0.58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20%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1368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b1a59d"/>
                    </a:solidFill>
                  </a:tcPr>
                </a:tc>
              </a:tr>
              <a:tr h="66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Retail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1368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$3.02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1368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$2.79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1368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$2.97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1368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1368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13680">
                      <a:solidFill>
                        <a:srgbClr val="1c1c1c"/>
                      </a:solidFill>
                    </a:lnB>
                    <a:solidFill>
                      <a:srgbClr val="b1a59d"/>
                    </a:solidFill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228600" y="614052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Source: CEC Estimated Price Breakdown, October 2007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51055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1c1c1c"/>
                </a:solidFill>
                <a:uFillTx/>
                <a:latin typeface="Arial"/>
              </a:rPr>
              <a:t>Wholesale Price</a:t>
            </a:r>
            <a:r>
              <a:rPr b="0" i="1" lang="en-US" sz="1800" spc="-1" strike="noStrike">
                <a:solidFill>
                  <a:srgbClr val="1c1c1c"/>
                </a:solidFill>
                <a:latin typeface="Arial"/>
              </a:rPr>
              <a:t> is the average gasoline price </a:t>
            </a:r>
            <a:r>
              <a:rPr b="1" i="1" lang="en-US" sz="1800" spc="-1" strike="noStrike">
                <a:solidFill>
                  <a:srgbClr val="1c1c1c"/>
                </a:solidFill>
                <a:latin typeface="Arial"/>
              </a:rPr>
              <a:t>at the rack</a:t>
            </a:r>
            <a:r>
              <a:rPr b="0" i="1" lang="en-US" sz="1800" spc="-1" strike="noStrike">
                <a:solidFill>
                  <a:srgbClr val="1c1c1c"/>
                </a:solidFill>
                <a:latin typeface="Arial"/>
              </a:rPr>
              <a:t> – includes all costs associated with gasoline production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Foundation for Strategic Analysis of Biofuels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A continuation of the CDEAC strategic assessment of the development clean energy resources in the Wes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Augmented feedstock database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Liquid fuels production technology models 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Enhanced supply analysis methodology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Policy recommendations from WGA Transportation Fuels of the Future task force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Strategic Questions for Bioenergy in the West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What contributions to the Western States energy supply could Bioenergy make by 2015? 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What are the barriers to achieving the full potential of Bioenergy supply?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What is the full set of policy measures needed to enable this transformation to increased Bioenergy supply? 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What is the potential cost for these measures, what are benefits, and what is the cost benefit ratio?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What are the regional differences within the West with regard to capability to produce Bioenergy 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What is the technology progression for the transition to tomorrow’s vision?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What is the variation in resource by region – how does that inform policy and resource development choices?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Task 4 Production Scenarios for Biofuels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Set a Target Product Price for Biofuels that will correspond to the Target Product Price (TPP) established for Biopower by the CDEAC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$80/ MWh for Wholesale Power 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$17.50/MMBtu for Gasoline Substitutes ($2.03/gge)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$17.76/MMBtu for Diesel Substitutes ($2.06/gge)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Determine potential production capacity for Biofuels in the Western States by 2015 up to the target price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Formulate a set of policies for biobased transportation fuels to complement the set developed for electricity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Lay out resource and technology development scenarios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Suggest timeline for transition to Bioenergy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90920" y="90000"/>
            <a:ext cx="63244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CDEAC Biomass Power Supply Curve 2015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90720" y="1295280"/>
            <a:ext cx="6858000" cy="5226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828800" y="4876920"/>
            <a:ext cx="38098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91320" y="4572000"/>
            <a:ext cx="1828800" cy="916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¢/kWh Target Price 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10 GW Biopower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76920" y="4572000"/>
            <a:ext cx="0" cy="1295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Biomass Power Supply Curve Notes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14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e WGA supply curves show cumulative amount of product (power or fuel) delivered (grid or terminal) at or below each price poin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1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For a target price of 8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Arial"/>
              </a:rPr>
              <a:t>¢/kWh a total 10 GW of power could be profitably produced and sold to the grid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4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  <a:ea typeface="Arial"/>
              </a:rPr>
              <a:t>Many facilities produce power at lower cost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1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Arial"/>
              </a:rPr>
              <a:t>Average cumulative power price may be lower than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Arial"/>
              </a:rPr>
              <a:t>¢/kWh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1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Arial"/>
              </a:rPr>
              <a:t>Competition for biomass increases the value and price of the lower cost feedstocks pushing them up toward a market price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1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Arial"/>
              </a:rPr>
              <a:t>Regional power demands and supply vary significantly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90920" y="90000"/>
            <a:ext cx="63244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Target Price for Biofuels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Methodology: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Use projected prices for electricity, gasoline and diesel in 2015 (DOE EIA)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alculate Ratio of biomass power target price to projected wholesale power price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pply ratio to projected wholesale petroleum fuel prices to determine biofuel target price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Diesel and gasoline substitutes evaluated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Ratio applied an energy basis not volumetric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EIA Retail Petroleum Products Price Projections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09480" y="1295280"/>
            <a:ext cx="7696440" cy="52610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564520" y="6324480"/>
            <a:ext cx="25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Source: EIA AEO 2007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76840" y="5334120"/>
            <a:ext cx="39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hould other forecasts be evaluated?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4a1d"/>
                </a:solidFill>
                <a:latin typeface="Arial Black"/>
              </a:rPr>
              <a:t>Projected Price Data</a:t>
            </a: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Power 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Arial"/>
              </a:rPr>
              <a:t>2006 Wholesale Market Data for California and Texas ISO from EIA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Arial"/>
              </a:rPr>
              <a:t>Projected to 2015 based on EIA’s 2007 Annual Energy Outlook (AEO) retail price escalation factors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uel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Arial"/>
              </a:rPr>
              <a:t>2006 Wholesale Price Data for Gasoline and Diesel in Western States from EIA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Arial"/>
              </a:rPr>
              <a:t>Projected to 2015 based on EIA’s 2007 Annual Energy Outlook (AEO) retail price escalation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Arial"/>
              </a:rPr>
              <a:t>Converted to $/MMBtu 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9:50:36Z</dcterms:created>
  <dc:creator>Edward Gray</dc:creator>
  <dc:description/>
  <dc:language>en-US</dc:language>
  <cp:lastModifiedBy>Matthew Futch</cp:lastModifiedBy>
  <dcterms:modified xsi:type="dcterms:W3CDTF">2007-10-10T21:07:21Z</dcterms:modified>
  <cp:revision>50</cp:revision>
  <dc:subject/>
  <dc:title>Strategic Analysis of Western Bioenergy</dc:title>
</cp:coreProperties>
</file>