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3027-3399-4A09-BA25-D92244F5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10B3-FF27-440C-ADE9-5F6DB919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88CB-DE59-4495-BA95-15FA5728A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310B-456F-48DB-BC1B-4172D4A3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ADDE-0540-4155-8014-6FCFEAB4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FF8B-E0A1-4928-9283-0FA71A32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C55A-9AC0-4CD4-9993-EAB198C9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F3EF-589F-4494-BBB1-2109504F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5CEF-833B-4AC3-B43B-C759C2A4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90560" y="90360"/>
            <a:ext cx="6019560" cy="55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5A25-705E-4243-BA2A-C24BA077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28B3-8F09-4284-A67D-DFFCA60F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30DD-91C1-4C00-98DB-D201BD01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E02F-B492-4263-BC04-0FED71C9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DEDA-761A-4D15-86D4-87FFFDF5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8D5D-583B-49FC-A23A-66D54BF4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3BA1-6969-431A-AE7A-52874A88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2192-6216-4666-AA75-BB063A83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9CE-1B89-4FC9-BC7D-9FF7C8D4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C76C-0FA9-4E89-BEE6-2C98E15C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58D3-4A55-48A9-99D1-F6222BA7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90560" y="90360"/>
            <a:ext cx="6019560" cy="55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52D-074E-430A-8E74-8CECC262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B319-824B-4B21-8DAB-98A382A5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544F-BF39-467B-9DC5-E608DF46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2D8C-CD97-4E33-846F-01DA3BEF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67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E3C4-4661-4691-933C-DE8D17DC4824}" type="slidenum"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4a1d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C1D4-14E9-447A-BB65-DFE81736E8F8}" type="slidenum"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3e26"/>
                </a:solidFill>
                <a:latin typeface="Verdana"/>
              </a:rPr>
              <a:t>Strategic Development of Bioenergy in the Western Stat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8280" y="5410080"/>
            <a:ext cx="5639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ask 2: Biofuel Conversion Technology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36264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c1c1c"/>
                </a:solidFill>
                <a:latin typeface="Arial"/>
              </a:rPr>
              <a:t>October 10, 2007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6362640"/>
            <a:ext cx="56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Anneliese Schmidt &amp; Edward Gray, Antares Group Inc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Well to Wheels GHG Emissions - Example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7213680" cy="4414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3080" y="6032520"/>
            <a:ext cx="893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Source: Wu, M., M. Wang, and H. Huo. </a:t>
            </a:r>
            <a:r>
              <a:rPr b="0" i="1" lang="en-US" sz="1400" spc="-1" strike="noStrike">
                <a:solidFill>
                  <a:srgbClr val="1c1c1c"/>
                </a:solidFill>
                <a:latin typeface="Arial"/>
              </a:rPr>
              <a:t>Fuel-Cycle Assessment of Selected Bioethanol Production Pathways in the United States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. ANL Energy Systems Division no. ANL/ESD/06-7. November 7 2006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rcRect l="0" t="-1578" r="-2839" b="0"/>
          <a:stretch/>
        </p:blipFill>
        <p:spPr>
          <a:xfrm>
            <a:off x="533520" y="1285920"/>
            <a:ext cx="6113520" cy="5419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0560" y="63360"/>
            <a:ext cx="60958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4a1d"/>
                </a:solidFill>
                <a:latin typeface="Arial Black"/>
              </a:rPr>
              <a:t>Emissions Data - </a:t>
            </a:r>
            <a:br>
              <a:rPr sz="2800"/>
            </a:br>
            <a:r>
              <a:rPr b="0" lang="en-US" sz="2800" spc="-1" strike="noStrike">
                <a:solidFill>
                  <a:srgbClr val="654a1d"/>
                </a:solidFill>
                <a:latin typeface="Arial Black"/>
              </a:rPr>
              <a:t>LCE Fermentation/Hydrolysis</a:t>
            </a:r>
            <a:endParaRPr b="0" lang="en-US" sz="28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3569040" y="358128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t 9,989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68760" y="1797120"/>
            <a:ext cx="761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0.8%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625920"/>
            <a:ext cx="762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59.2%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68760" y="4540320"/>
            <a:ext cx="761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0.5%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46440" y="5454720"/>
            <a:ext cx="838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38.2%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71680" y="1257480"/>
            <a:ext cx="0" cy="5257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2711520"/>
            <a:ext cx="762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1.3%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29400" y="464832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 these are DRAFT results shown for example only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1981080"/>
            <a:ext cx="914400" cy="0"/>
          </a:xfrm>
          <a:prstGeom prst="line">
            <a:avLst/>
          </a:prstGeom>
          <a:ln w="19080">
            <a:solidFill>
              <a:srgbClr val="99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10280" y="153684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6600"/>
                </a:solidFill>
                <a:latin typeface="Arial"/>
              </a:rPr>
              <a:t>Feedstock is forest thinnings - CO</a:t>
            </a:r>
            <a:r>
              <a:rPr b="0" i="1" lang="en-US" sz="1200" spc="-1" strike="noStrike">
                <a:solidFill>
                  <a:srgbClr val="9966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996600"/>
                </a:solidFill>
                <a:latin typeface="Arial"/>
              </a:rPr>
              <a:t> from collection only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Task Overview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Objectiv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evelop cost and performance relationships for selected biofuel conversion technologies for supply curve input</a:t>
            </a:r>
            <a:br>
              <a:rPr sz="2400"/>
            </a:b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Methodology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elect technologies (mid term: 2015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odel cost and performance based on published data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Provide yields and non-feedstock production cost for each technology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Conversion Technologi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781360" y="1371600"/>
          <a:ext cx="3657600" cy="170496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Current Representative Technologies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Grain to Ethanol - Dry Mill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Grain to Ethanol - Wet Mill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Fatty Acid to Methyl Ester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752480" y="3352680"/>
          <a:ext cx="5638680" cy="2050920"/>
        </p:xfrm>
        <a:graphic>
          <a:graphicData uri="http://schemas.openxmlformats.org/drawingml/2006/table">
            <a:tbl>
              <a:tblPr/>
              <a:tblGrid>
                <a:gridCol w="563868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Additional Technologies Projected to be Available by 2015*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ignocellulosics to Ethanol - Fermentation/Hydrolysis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Lignocellulosics to Middle Distillates - Fischer Tropsch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ignocellulosics to Gasoline - Upgrading/Pyrolysis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Fatty Acids to Hydrocarbon - Hydrotreatment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380880" y="569916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* Representative of the technologies that could be commercially available by 2015 – not an endorsement of any particular conversion process.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Additional Conversion Technologi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362320" y="1600200"/>
          <a:ext cx="4495680" cy="185868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Other Advanced Technologies Considered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ignocellulosics to Middle Alcohols – Thermochemical Conversion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ignocellulosics to Ethanol – Thermochemical/Fermentation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373356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These technologies not included in supply curv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Insufficient cost &amp; performance data publicly availabl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Not enough evidence to demonstrate ready for commercialization by 2015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Overview of Models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dvanced technology models based on projected cost and performance estimates with target yields from published data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odel inputs: annual feedstock input and feedstock typ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odels results: biofuel yield, capital and O&amp;M costs, and byproduct yield and valu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apital costs scaled by facility siz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Yield dependent on feedstock composi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rcRect l="0" t="0" r="5655" b="0"/>
          <a:stretch/>
        </p:blipFill>
        <p:spPr>
          <a:xfrm>
            <a:off x="380880" y="1295280"/>
            <a:ext cx="8382240" cy="50245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90920" y="90000"/>
            <a:ext cx="6324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Example Model – FT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5473800" y="2023920"/>
            <a:ext cx="6094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83280" y="18795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nput (choice is limited)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92640" y="3378240"/>
            <a:ext cx="600120" cy="183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17840" y="5143680"/>
            <a:ext cx="1141560" cy="469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3497400"/>
            <a:ext cx="6094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3526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Yield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37160" y="5376960"/>
            <a:ext cx="6094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46640" y="523224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apital and O&amp;M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Summary of Key Results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469800" y="5203800"/>
            <a:ext cx="8178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FAME = Fatty Acid Methyl Ester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          LCE = LignoCellulosic Ethanol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LCMD = LignoCellulosics to Middle Distillates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          LCG = LignoCellulosics to Gasolin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FAHC = Fatty Acid to HydroCarbon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30120" y="1409760"/>
            <a:ext cx="84582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Comparison of Selected Technologi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-165600" y="2288160"/>
            <a:ext cx="9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Gasoline Substitute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-242640" y="366192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Diesel Substitute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5468760"/>
            <a:ext cx="6248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Projected 2015 Wholesale Price Gasoline (EIA): $1.51/gal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Projected 2015 Wholesale Price #2 Diesel (EIA): $1.60/gal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64832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c1c1c"/>
                </a:solidFill>
                <a:uFillTx/>
                <a:latin typeface="Arial"/>
              </a:rPr>
              <a:t>Notes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: Feedstock costs are representative of 2015 costs; Biofuel production costs do not include cost of transportation to terminal or end-user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31488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9480" y="1257480"/>
            <a:ext cx="82296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Emissions – Environmental Benefit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848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Water Use, GHG, and Criteria Pollutants: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eedstock Production/Growth (KSU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eedstock Transporta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onversion Proces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Biofuel Transporta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End use in vehicl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Used data from published Life Cycle Analyses when availabl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milar emissions tracked for fossil fuels production and use for comparison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9:50:36Z</dcterms:created>
  <dc:creator>Edward Gray</dc:creator>
  <dc:description/>
  <dc:language>en-US</dc:language>
  <cp:lastModifiedBy>Matthew Futch</cp:lastModifiedBy>
  <dcterms:modified xsi:type="dcterms:W3CDTF">2007-10-10T21:07:05Z</dcterms:modified>
  <cp:revision>88</cp:revision>
  <dc:subject/>
  <dc:title>Strategic Analysis of Western Bioenergy</dc:title>
</cp:coreProperties>
</file>