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3D0-ADF4-4231-A30E-44E12951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917-ED83-4CC6-9D7F-36CC0510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812-B1AF-4F7D-A3B7-C7808674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170-326D-4ECB-A006-AA8C6587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552B-C50A-438A-A361-8F151B01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B786-C141-4AC8-8817-F373F5FC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DAA5-00E7-4D7B-96E7-AA5324C4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28A8-F746-4162-B378-0300B182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848D-008F-4D99-9D05-DECBA7AB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CFCF-AB56-4262-9CFB-0EDC7688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D0AB-26FA-4BB6-8293-E406B7DE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CBF-E017-43F2-82EB-8EB47FF9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F15A-EF2C-43C8-8486-70400CE1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119-2915-4ADE-8661-F393B05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880B-56C6-4E0D-9C89-B98CC9A6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19A0-AF4E-4D7C-9639-3AA5288F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8728-D00C-4273-857E-65CA3B29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455-B420-4079-8DB5-0959DF9C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693-D2C3-4DEA-95C4-27B55E8F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BCF-BD3B-4FD7-B5E5-462675E9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608-3323-4D8C-B6EC-1FDBBC71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EB1-4333-47BB-A5EA-E725D9CD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A4A-7456-4856-8952-1FD871B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453-E916-4E57-AB9A-2852C990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E2E3-0862-4308-BF0B-031B4E8D13E5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CC0-9D7E-4FE0-BAE5-6B6545E46E32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3e26"/>
                </a:solidFill>
                <a:latin typeface="Verdana"/>
              </a:rPr>
              <a:t>Strategic Development of Bioenergy in the Western Sta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ask 2: Biofuel Conversion Technolo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626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636264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Anneliese Schmidt &amp; Edward Gray, Antares Group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Well to Wheels GHG Emissions - Example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213680" cy="441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080" y="6032520"/>
            <a:ext cx="893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Source: Wu, M., M. Wang, and H. Huo. 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Fuel-Cycle Assessment of Selected Bioethanol Production Pathways in the United States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. ANL Energy Systems Division no. ANL/ESD/06-7. November 7 2006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0" t="-1578" r="-2839" b="0"/>
          <a:stretch/>
        </p:blipFill>
        <p:spPr>
          <a:xfrm>
            <a:off x="533520" y="1285920"/>
            <a:ext cx="6113520" cy="5419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63360"/>
            <a:ext cx="60958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4a1d"/>
                </a:solidFill>
                <a:latin typeface="Arial Black"/>
              </a:rPr>
              <a:t>Emissions Data - </a:t>
            </a:r>
            <a:br>
              <a:rPr sz="2800"/>
            </a:br>
            <a:r>
              <a:rPr b="0" lang="en-US" sz="2800" spc="-1" strike="noStrike">
                <a:solidFill>
                  <a:srgbClr val="654a1d"/>
                </a:solidFill>
                <a:latin typeface="Arial Black"/>
              </a:rPr>
              <a:t>LCE Fermentation/Hydrolysis</a:t>
            </a:r>
            <a:endParaRPr b="0" lang="en-US" sz="28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569040" y="3581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 9,989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179712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0.8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6259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59.2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68760" y="454032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0.5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46440" y="545472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38.2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71680" y="1257480"/>
            <a:ext cx="0" cy="5257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7115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.3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46483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these are DRAFT results shown for example onl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1981080"/>
            <a:ext cx="914400" cy="0"/>
          </a:xfrm>
          <a:prstGeom prst="line">
            <a:avLst/>
          </a:prstGeom>
          <a:ln w="19080">
            <a:solidFill>
              <a:srgbClr val="99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153684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Feedstock is forest thinnings - CO</a:t>
            </a:r>
            <a:r>
              <a:rPr b="0" i="1" lang="en-US" sz="1200" spc="-1" strike="noStrike">
                <a:solidFill>
                  <a:srgbClr val="9966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 from collection only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Task Over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velop cost and performance relationships for selected biofuel conversion technologies for supply curve input</a:t>
            </a:r>
            <a:br>
              <a:rPr sz="24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Methodolog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lect technologies (mid term: 2015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l cost and performance based on published dat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rovide yields and non-feedstock production cost for each technolo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onversion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81360" y="1371600"/>
          <a:ext cx="3657600" cy="17049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Current Representative Technologie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rain to Ethanol - Dry Mil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rain to Ethanol - Wet Mil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Fatty Acid to Methyl Ester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752480" y="3352680"/>
          <a:ext cx="5638680" cy="20509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Additional Technologies Projected to be Available by 2015*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Ethanol - Fermentation/Hydrolysi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Lignocellulosics to Middle Distillates - Fischer Tropsch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Gasoline - Upgrading/Pyrolysi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Fatty Acids to Hydrocarbon - Hydrotreatment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80880" y="56991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* Representative of the technologies that could be commercially available by 2015 – not an endorsement of any particular conversion process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Additional Conversion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362320" y="1600200"/>
          <a:ext cx="4495680" cy="18586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Other Advanced Technologies Considered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Middle Alcohols – Thermochemical Convers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Ethanol – Thermochemical/Fermenta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These technologies not included in supply curv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sufficient cost &amp; performance data publicly availab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t enough evidence to demonstrate ready for commercialization by 2015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Overview of Model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dvanced technology models based on projected cost and performance estimates with target yields from published data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 inputs: annual feedstock input and feedstock typ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s results: biofuel yield, capital and O&amp;M costs, and byproduct yield and valu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apital costs scaled by facility siz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Yield dependent on feedstock composi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0" r="5655" b="0"/>
          <a:stretch/>
        </p:blipFill>
        <p:spPr>
          <a:xfrm>
            <a:off x="380880" y="1295280"/>
            <a:ext cx="8382240" cy="5024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Example Model – F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473800" y="20239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18795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put (choice is limited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92640" y="3378240"/>
            <a:ext cx="600120" cy="183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17840" y="5143680"/>
            <a:ext cx="1141560" cy="469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4974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352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ield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37160" y="537696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6640" y="5232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pital and O&amp;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Summary of Key Result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469800" y="5203800"/>
            <a:ext cx="8178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FAME = Fatty Acid Methyl Ester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    LCE = LignoCellulosic Ethanol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LCMD = LignoCellulosics to Middle Distillates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    LCG = LignoCellulosics to Gasolin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FAHC = Fatty Acid to HydroCarbon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0120" y="1409760"/>
            <a:ext cx="84582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omparison of Selected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165600" y="2288160"/>
            <a:ext cx="9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Gasoline Substitute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42640" y="366192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Diesel Substitute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468760"/>
            <a:ext cx="624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Projected 2015 Wholesale Price Gasoline (EIA): $1.51/ga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Projected 2015 Wholesale Price #2 Diesel (EIA): $1.60/ga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</a:rPr>
              <a:t>Notes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: Feedstock costs are representative of 2015 costs; Biofuel production costs do not include cost of transportation to terminal or end-user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14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1257480"/>
            <a:ext cx="8229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missions – Environmental Benefit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ater Use, GHG, and Criteria Pollutants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eedstock Production/Growth (KSU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eedstock Transpor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onversion Proce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Biofuel Transpor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nd use in vehic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d data from published Life Cycle Analyses when availabl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milar emissions tracked for fossil fuels production and use for comparis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7:05Z</dcterms:modified>
  <cp:revision>88</cp:revision>
  <dc:subject/>
  <dc:title>Strategic Analysis of Western Bioenergy</dc:title>
</cp:coreProperties>
</file>