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1F4-DDBF-46D4-86B5-5E3A083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FB7-B9F3-4157-A6F3-5A0CF1C3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FD2-2256-4A12-A0AA-45520584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4E67-5BFF-488C-B745-1BA981A0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44AB-80C6-4221-8ABD-7F3000E5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8F8B-00E4-427B-9384-BC6F237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463-2247-456D-9BF9-C9081440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3C53-C614-45C1-AF8C-77EF06CB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07AC-5E68-4B50-9880-BB6C31CF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99DE-F8D4-421E-80A2-54BFC61B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AAB-4360-4DDF-9157-89A95444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2D1-8AC9-404D-98A7-DF73344E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B670-14EF-4A01-859A-5EF918D3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3F28-C93C-455D-BC97-8DFDA04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2B4C-E979-4C57-A5F7-04F0BF4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7743-77DC-4B40-9586-8521FD2B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A30C-4825-4A57-86EA-3FBB00AF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222-38DC-4BA1-8C38-CBD4FCF5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9503-C022-4CE1-B656-E42EB8ED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38D-4F2E-4F3D-99AF-656808EF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FFC-896F-4CC5-A67E-A5C083C5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34A-5BB9-412B-A61B-569912F3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B3D-331F-4118-A1A9-07AF961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C44-5DCC-4C1D-83A9-C4859A23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BB78-EE6B-4EEB-9199-A0740EFD3A47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10FD-DCAD-4B11-8B43-483B4905101C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ask 2: Biofuel Conversion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636264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Anneliese Schmidt &amp; Edward Gray, Antares Group Inc.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Well to Wheels GHG Emissions - Examp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213680" cy="4414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3080" y="6032520"/>
            <a:ext cx="893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Source: Wu, M., M. Wang, and H. Huo. </a:t>
            </a: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Fuel-Cycle Assessment of Selected Bioethanol Production Pathways in the United St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. ANL Energy Systems Division no. ANL/ESD/06-7. November 7 2006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rcRect l="0" t="-1578" r="-2839" b="0"/>
          <a:stretch/>
        </p:blipFill>
        <p:spPr>
          <a:xfrm>
            <a:off x="533520" y="1285920"/>
            <a:ext cx="6113520" cy="5419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0560" y="63360"/>
            <a:ext cx="60958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Emissions Data - </a:t>
            </a:r>
            <a:br>
              <a:rPr sz="2800"/>
            </a:br>
            <a:r>
              <a:rPr b="0" lang="en-US" sz="2800" spc="-1" strike="noStrike">
                <a:solidFill>
                  <a:srgbClr val="654a1d"/>
                </a:solidFill>
                <a:latin typeface="Arial Black"/>
              </a:rPr>
              <a:t>LCE Fermentation/Hydrolysis</a:t>
            </a:r>
            <a:endParaRPr b="0" lang="en-US" sz="28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569040" y="3581280"/>
            <a:ext cx="95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 9,989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68760" y="17971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8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6259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59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68760" y="4540320"/>
            <a:ext cx="761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0.5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46440" y="5454720"/>
            <a:ext cx="83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38.2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71680" y="12574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711520"/>
            <a:ext cx="762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1.3%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46483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 these are DRAFT results shown for example only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1981080"/>
            <a:ext cx="914400" cy="0"/>
          </a:xfrm>
          <a:prstGeom prst="line">
            <a:avLst/>
          </a:prstGeom>
          <a:ln w="1908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153684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Feedstock is forest thinnings - CO</a:t>
            </a:r>
            <a:r>
              <a:rPr b="0" i="1" lang="en-US" sz="1200" spc="-1" strike="noStrike">
                <a:solidFill>
                  <a:srgbClr val="9966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996600"/>
                </a:solidFill>
                <a:latin typeface="Arial"/>
              </a:rPr>
              <a:t> from collection only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velop cost and performance relationships for selected biofuel conversion technologies for supply curve input</a:t>
            </a:r>
            <a:br>
              <a:rPr sz="2400"/>
            </a:b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lect technologies (mid term: 2015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l cost and performance based on published dat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Provide yields and non-feedstock production cost for each technolo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781360" y="1371600"/>
          <a:ext cx="3657600" cy="170496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urrent Representative Technologi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Dry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Grain to Ethanol - Wet Mill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 to Methyl Ester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752480" y="3352680"/>
          <a:ext cx="5638680" cy="205092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dditional Technologies Projected to be Available by 2015*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- Fermentation/Hyd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Lignocellulosics to Middle Distillates - Fischer Tropsch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Gasoline - Upgrading/Pyrolysis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Fatty Acids to Hydrocarbon - Hydrotreatment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80880" y="56991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* Representative of the technologies that could be commercially available by 2015 – not an endorsement of any particular conversion process.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dditional Conversion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362320" y="1600200"/>
          <a:ext cx="4495680" cy="185868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Other Advanced Technologies Considered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Middle Alcohols – Thermochemical Convers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ignocellulosics to Ethanol – Thermochemical/Fermentation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37335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c1c1c"/>
                </a:solidFill>
                <a:uFillTx/>
                <a:latin typeface="Arial"/>
              </a:rPr>
              <a:t>These technologies not included in supply curv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sufficient cost &amp; performance data publicly availab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Not enough evidence to demonstrate ready for commercialization by 2015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Overview of Model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vanced technology models based on projected cost and performance estimates with target yields from published data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 inputs: annual feedstock input and feedstock typ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odels results: biofuel yield, capital and O&amp;M costs, and byproduct yield and valu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apital costs scaled by facility siz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Yield dependent on feedstock composi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0" r="5655" b="0"/>
          <a:stretch/>
        </p:blipFill>
        <p:spPr>
          <a:xfrm>
            <a:off x="380880" y="1295280"/>
            <a:ext cx="8382240" cy="5024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Example Model – F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5473800" y="202392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187956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put (choice is limited)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92640" y="3378240"/>
            <a:ext cx="600120" cy="1839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17840" y="5143680"/>
            <a:ext cx="1141560" cy="469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349740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33526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Yield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37160" y="5376960"/>
            <a:ext cx="60948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46640" y="523224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pital and O&amp;M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469800" y="5203800"/>
            <a:ext cx="8178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ME = Fatty Acid Methyl Ester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E = LignoCellulosic Ethanol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LCMD = LignoCellulosics to Middle Distillates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          LCG = LignoCellulosics to Gasolin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FAHC = Fatty Acid to HydroCarbon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30120" y="1409760"/>
            <a:ext cx="84582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omparison of Selected Technologi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165600" y="2288160"/>
            <a:ext cx="9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Gasoline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42640" y="3661920"/>
            <a:ext cx="107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d4d4d"/>
                </a:solidFill>
                <a:latin typeface="Arial"/>
              </a:rPr>
              <a:t>Diesel Substitutes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5468760"/>
            <a:ext cx="6248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Gasoline (EIA): $1.51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Projected 2015 Wholesale Price #2 Diesel (EIA): $1.60/gal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648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</a:rPr>
              <a:t>Notes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: Feedstock costs are representative of 2015 costs; Biofuel production costs do not include cost of transportation to terminal or end-user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314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1257480"/>
            <a:ext cx="82296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missions – Environmental Benefit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ater Use, GHG, and Criteria Pollutants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Production/Growth (KSU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eedstock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onversion Proce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Biofuel Transport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nd use in vehicl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d data from published Life Cycle Analyses when availabl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milar emissions tracked for fossil fuels production and use for comparis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05Z</dcterms:modified>
  <cp:revision>88</cp:revision>
  <dc:subject/>
  <dc:title>Strategic Analysis of Western Bioenergy</dc:title>
</cp:coreProperties>
</file>