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901-5F49-4BB3-A21D-7694741C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630-FBF5-414C-9F35-4DDB1AA4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F99-D0CC-47C6-88F5-B05647DB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787A-2BBA-4647-BC87-981282CE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B767-2B9B-4A26-A394-02BB4A36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532E-A7A4-45AD-913A-E91501DE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2DC4-6A76-47BF-9045-74717AFE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27AF-2169-4441-8191-96E061F2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DB2A-AA07-41BD-A050-30FEE0A0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C1EF-E1EA-4D4C-91F6-76D107A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70C3-2A58-4589-BAB6-0F5F2CC4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7EF-924F-4DFA-AF3A-B8106A28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C8EC-0734-4FEE-9D2A-10BE7B56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9481-D50C-4C54-894B-54301E5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5D22-5AC7-4CEA-BCBA-0D132BBB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2BA7-D4B3-4BD1-BA41-6DF0F9FE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6D6-C218-4824-AAE0-75CD5A61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8E8-2D67-4B1E-846A-500F3BC9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0CD-F9D9-4458-8893-5D02A126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58F-7A1E-4905-97AB-87C88A3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560" y="90360"/>
            <a:ext cx="6019560" cy="552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4C6-3550-4B3D-A8CE-54635E8E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82A-A5EF-4C75-BAF2-CC835935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9B7-6955-4031-B56B-20002D3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F60-59A5-4C70-A167-09AE41F7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A3A0-B717-4EA9-A923-44F045D98FF5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A511-7F94-44CA-AA2D-5B19BFB30075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3e26"/>
                </a:solidFill>
                <a:latin typeface="Verdana"/>
              </a:rPr>
              <a:t>Strategic Development of Bioenergy in the Western Sta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54100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ask 5: Cost Benefit Analysi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3626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62485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Gregg Morris, Future Resources Assoc., Inc.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Task Overview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Objectiv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alyze the costs and benefits of producing liquid fuels from biomass resources in the West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c1c1c"/>
                </a:solidFill>
                <a:uFillTx/>
                <a:latin typeface="Arial"/>
              </a:rPr>
              <a:t>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dapt benefits model to liquid fuels trajectori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Load impacts data from tasks 1 – 4 and determine costs and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Overview of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enefits Model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1371600"/>
            <a:ext cx="1828800" cy="1752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1c1c1c"/>
                </a:solidFill>
                <a:uFillTx/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air pollu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greenhouse gas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landfill consump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forest deterio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watershed degrad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d2015"/>
                </a:solidFill>
                <a:latin typeface="Arial"/>
              </a:rPr>
              <a:t>catastrophic wildfir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05680" y="2581200"/>
            <a:ext cx="1719000" cy="1609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1b1b"/>
                </a:solidFill>
                <a:uFillTx/>
                <a:latin typeface="Arial"/>
              </a:rPr>
              <a:t>Alternative Fat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open burn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spreading/compost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forest accumul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1b1b"/>
                </a:solidFill>
                <a:latin typeface="Arial"/>
              </a:rPr>
              <a:t>landfilling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67040" y="44863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9900"/>
                </a:solidFill>
                <a:uFillTx/>
                <a:latin typeface="Arial"/>
              </a:rPr>
              <a:t>Biomass Resourc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mill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forest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agric.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urban residue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900"/>
                </a:solidFill>
                <a:latin typeface="Arial"/>
              </a:rPr>
              <a:t>crop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00400"/>
            <a:ext cx="897120" cy="839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Fossil Fue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08600" y="137016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Unit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Impact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87760" y="3877920"/>
            <a:ext cx="1046160" cy="770040"/>
          </a:xfrm>
          <a:prstGeom prst="line">
            <a:avLst/>
          </a:prstGeom>
          <a:ln w="2556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2520" y="1917720"/>
            <a:ext cx="298440" cy="139680"/>
          </a:xfrm>
          <a:prstGeom prst="line">
            <a:avLst/>
          </a:prstGeom>
          <a:ln w="12600">
            <a:solidFill>
              <a:srgbClr val="ff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25920" y="4011120"/>
            <a:ext cx="822600" cy="56052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95280"/>
            <a:ext cx="8001000" cy="518184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23840" y="2428920"/>
            <a:ext cx="1719360" cy="1609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66ff"/>
                </a:solidFill>
                <a:uFillTx/>
                <a:latin typeface="Arial"/>
              </a:rPr>
              <a:t>Fuel Us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66ff"/>
                </a:solidFill>
                <a:latin typeface="Arial"/>
              </a:rPr>
              <a:t>energy produc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181480" y="2971440"/>
            <a:ext cx="152640" cy="228600"/>
          </a:xfrm>
          <a:prstGeom prst="line">
            <a:avLst/>
          </a:prstGeom>
          <a:ln w="12600">
            <a:solidFill>
              <a:srgbClr val="ff66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42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836800" y="2590560"/>
            <a:ext cx="668520" cy="22860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5499000" y="2692440"/>
            <a:ext cx="673200" cy="279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1447920"/>
            <a:ext cx="897120" cy="839520"/>
          </a:xfrm>
          <a:prstGeom prst="ellipse">
            <a:avLst/>
          </a:prstGeom>
          <a:solidFill>
            <a:srgbClr val="ffffcd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Alternative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66ff"/>
                </a:solidFill>
                <a:latin typeface="Arial"/>
              </a:rPr>
              <a:t>Fate Factors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543440" y="2286000"/>
            <a:ext cx="149400" cy="279360"/>
          </a:xfrm>
          <a:prstGeom prst="line">
            <a:avLst/>
          </a:prstGeom>
          <a:ln w="12600">
            <a:solidFill>
              <a:srgbClr val="ff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5181480"/>
            <a:ext cx="2590920" cy="115956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Net benefits = impacts of alt. fates + impacts of avoided fossil fuel use - impacts of biomass fuel production and us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Alternative Fates for Feedstock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Wastes and Residue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gricultural residues (field and processing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restry residues (mill, in-forest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unicipal residu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nimal wast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267080"/>
            <a:ext cx="8153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rops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or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Oil seed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Herbaceous energy crop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8534520" cy="472428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5146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895480"/>
            <a:ext cx="1218960" cy="0"/>
          </a:xfrm>
          <a:prstGeom prst="line">
            <a:avLst/>
          </a:prstGeom>
          <a:ln w="6336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2514600"/>
            <a:ext cx="190476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648320"/>
            <a:ext cx="1676520" cy="13716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Fossil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80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24480" y="3885840"/>
            <a:ext cx="0" cy="609480"/>
          </a:xfrm>
          <a:prstGeom prst="line">
            <a:avLst/>
          </a:prstGeom>
          <a:ln w="5076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286000"/>
            <a:ext cx="5562720" cy="144792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4648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Fossil Fuels add New Carbon to the Active Cycl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51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arbon stocks in the biosphere and atmosphere are linked and in rapid exchang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3886200"/>
            <a:ext cx="0" cy="609480"/>
          </a:xfrm>
          <a:prstGeom prst="line">
            <a:avLst/>
          </a:prstGeom>
          <a:ln w="507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4648320"/>
            <a:ext cx="1752480" cy="1371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equestration</a:t>
            </a:r>
            <a:endParaRPr b="0" lang="en-US" sz="11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1240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8 </a:t>
            </a:r>
            <a:r>
              <a:rPr b="0" lang="en-US" sz="1300" spc="-1" strike="noStrike">
                <a:solidFill>
                  <a:srgbClr val="008000"/>
                </a:solidFill>
                <a:latin typeface="Arial"/>
              </a:rPr>
              <a:t>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11480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3300"/>
                </a:solidFill>
                <a:latin typeface="Arial"/>
              </a:rPr>
              <a:t>0.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396252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66ff"/>
                </a:solidFill>
                <a:latin typeface="Arial"/>
              </a:rPr>
              <a:t>0.25 qmole/yr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44197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Primarily  Dissolution in the Oceans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and the </a:t>
            </a:r>
            <a:br>
              <a:rPr sz="3200"/>
            </a:b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lobal Carbon Cycle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447920"/>
            <a:ext cx="8534160" cy="4800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590920"/>
            <a:ext cx="1371600" cy="99036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15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8195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2590920"/>
            <a:ext cx="19051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60 qmole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2362320"/>
            <a:ext cx="5562360" cy="144756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523880"/>
            <a:ext cx="5029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he transfers of carbon between the atmosphere and biomass can be out of balance, increasing or decreasing the amount of carbon in the atmosphere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4572000"/>
            <a:ext cx="137160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Biomass C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5105520"/>
            <a:ext cx="19051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ospheric CO</a:t>
            </a: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-25000">
                <a:solidFill>
                  <a:srgbClr val="ffffff"/>
                </a:solidFill>
                <a:latin typeface="Arial"/>
              </a:rPr>
              <a:t>rt = 120 yrs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4267080"/>
            <a:ext cx="5562720" cy="18288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43400" y="4723920"/>
            <a:ext cx="762120" cy="2286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181480"/>
            <a:ext cx="1447920" cy="30492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257800" y="4419720"/>
            <a:ext cx="76212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Atm.CH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t = 12 yrs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952880"/>
            <a:ext cx="30456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191120"/>
            <a:ext cx="19047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CH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25 times more potent as a ghg than CO</a:t>
            </a:r>
            <a:r>
              <a:rPr b="0" lang="en-US" sz="1400" spc="-1" strike="noStrike" baseline="-25000">
                <a:solidFill>
                  <a:srgbClr val="1c1c1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, although it has a shorter residence time.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276720"/>
            <a:ext cx="1219320" cy="1440"/>
          </a:xfrm>
          <a:prstGeom prst="line">
            <a:avLst/>
          </a:prstGeom>
          <a:ln w="50760">
            <a:solidFill>
              <a:srgbClr val="80808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2895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4382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Net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Summary of Key Result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of wastes and residues for energy production provides benefits by eliminating fossil fuel use, and by mitigating the impacts of conventional disposal practic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rops provide net benefits from fuels conversion when they are produced in conjunction with higher-valued co-products, or when their production provides other environmental benefits, such as land remediation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5:42Z</dcterms:modified>
  <cp:revision>76</cp:revision>
  <dc:subject/>
  <dc:title>Strategic Analysis of Western Bioenergy</dc:title>
</cp:coreProperties>
</file>