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8FE-C16A-4A6E-85A4-B40779BC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1D1-990D-468F-B0D7-8D5C4879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FDD7-9BDC-4294-913D-2E8385AA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8E7-DE07-4637-AB06-C931DEBC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F2CA-2ADF-4B5F-A6F7-24BF2FD7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4365-D8A7-4F80-BC8F-FCA77F87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30E8-726D-4EE1-9606-BE988D64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A066-F775-4A9E-9416-9FA9315C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EE5D-BFB7-4C36-B25A-1A576C66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AF22-9378-452E-B92B-9E5F4D18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E8BD-FC79-47EE-85E5-D53B3718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5B8-864A-4187-B4AD-41561B4B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29D8-4E59-4DE3-8E8B-1638C690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C561-4D87-479C-83F1-8FD4AE28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0E07-AAE3-4EC2-9B0C-4303C228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9F79-DFAF-4F44-805A-2233BE98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70F4-DC18-49B9-92CA-3FA7DE6A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878-86E6-4E4A-8ECA-F4425BC0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5A41-5EC3-4360-B0F5-5D1BF41D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5F3-5F5E-4BBD-B0F4-2334BF4D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647-5C80-433F-A18F-F588FB19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B00-E87C-45BD-8864-2A661B25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F2CA-0CE7-4213-AECF-993D54AF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1F5A-11B9-4BDC-8D2D-5908D58E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7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ABD8-7161-4E33-AA5C-EE012207FD42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7CAF-6002-4884-B182-588E533008DD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3e26"/>
                </a:solidFill>
                <a:latin typeface="Verdana"/>
              </a:rPr>
              <a:t>Strategic Development of Bioenergy in the Western Stat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541008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ask 5: Cost Benefit Analysi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36264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c1c1c"/>
                </a:solidFill>
                <a:latin typeface="Arial"/>
              </a:rPr>
              <a:t>October 10, 2007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62485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Gregg Morris, Future Resources Assoc., Inc.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Task Overview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c1c1c"/>
                </a:solidFill>
                <a:uFillTx/>
                <a:latin typeface="Arial"/>
              </a:rPr>
              <a:t>Objectiv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nalyze the costs and benefits of producing liquid fuels from biomass resources in the West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c1c1c"/>
                </a:solidFill>
                <a:uFillTx/>
                <a:latin typeface="Arial"/>
              </a:rPr>
              <a:t>Methodology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dapt benefits model to liquid fuels trajectori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Load impacts data from tasks 1 – 4 and determine costs and benefit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Overview of</a:t>
            </a:r>
            <a:br>
              <a:rPr sz="3200"/>
            </a:b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Benefits Model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1371600"/>
            <a:ext cx="1828800" cy="1752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1c1c1c"/>
                </a:solidFill>
                <a:uFillTx/>
                <a:latin typeface="Arial"/>
              </a:rPr>
              <a:t>Impact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air pollu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greenhouse gas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landfill consump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forest deteriora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watershed degrada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catastrophic wildfir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05680" y="2581200"/>
            <a:ext cx="1719000" cy="1609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1b1b"/>
                </a:solidFill>
                <a:uFillTx/>
                <a:latin typeface="Arial"/>
              </a:rPr>
              <a:t>Alternative Fat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1b1b"/>
                </a:solidFill>
                <a:latin typeface="Arial"/>
              </a:rPr>
              <a:t>open burning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1b1b"/>
                </a:solidFill>
                <a:latin typeface="Arial"/>
              </a:rPr>
              <a:t>spreading/composting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1b1b"/>
                </a:solidFill>
                <a:latin typeface="Arial"/>
              </a:rPr>
              <a:t>forest accumula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1b1b"/>
                </a:solidFill>
                <a:latin typeface="Arial"/>
              </a:rPr>
              <a:t>landfilling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67040" y="4486320"/>
            <a:ext cx="1719360" cy="1609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9900"/>
                </a:solidFill>
                <a:uFillTx/>
                <a:latin typeface="Arial"/>
              </a:rPr>
              <a:t>Biomass Resourc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00"/>
                </a:solidFill>
                <a:latin typeface="Arial"/>
              </a:rPr>
              <a:t>mill residu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00"/>
                </a:solidFill>
                <a:latin typeface="Arial"/>
              </a:rPr>
              <a:t>forest residu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00"/>
                </a:solidFill>
                <a:latin typeface="Arial"/>
              </a:rPr>
              <a:t>agric. residu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00"/>
                </a:solidFill>
                <a:latin typeface="Arial"/>
              </a:rPr>
              <a:t>urban residu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00"/>
                </a:solidFill>
                <a:latin typeface="Arial"/>
              </a:rPr>
              <a:t>crop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00400"/>
            <a:ext cx="897120" cy="839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ssil Fuel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08600" y="1370160"/>
            <a:ext cx="897120" cy="839520"/>
          </a:xfrm>
          <a:prstGeom prst="ellipse">
            <a:avLst/>
          </a:prstGeom>
          <a:solidFill>
            <a:srgbClr val="ffffcd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ff"/>
                </a:solidFill>
                <a:latin typeface="Arial"/>
              </a:rPr>
              <a:t>Unit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ff"/>
                </a:solidFill>
                <a:latin typeface="Arial"/>
              </a:rPr>
              <a:t>Impact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687760" y="3877920"/>
            <a:ext cx="1046160" cy="77004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92520" y="1917720"/>
            <a:ext cx="298440" cy="139680"/>
          </a:xfrm>
          <a:prstGeom prst="line">
            <a:avLst/>
          </a:prstGeom>
          <a:ln w="1260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425920" y="4011120"/>
            <a:ext cx="822600" cy="56052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95280"/>
            <a:ext cx="8001000" cy="518184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23840" y="2428920"/>
            <a:ext cx="1719360" cy="1609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66ff"/>
                </a:solidFill>
                <a:uFillTx/>
                <a:latin typeface="Arial"/>
              </a:rPr>
              <a:t>Fuel Use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ff"/>
                </a:solidFill>
                <a:latin typeface="Arial"/>
              </a:rPr>
              <a:t>energy produc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181480" y="2971440"/>
            <a:ext cx="152640" cy="228600"/>
          </a:xfrm>
          <a:prstGeom prst="line">
            <a:avLst/>
          </a:prstGeom>
          <a:ln w="1260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342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836800" y="2590560"/>
            <a:ext cx="668520" cy="228600"/>
          </a:xfrm>
          <a:prstGeom prst="line">
            <a:avLst/>
          </a:prstGeom>
          <a:ln w="255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499000" y="2692440"/>
            <a:ext cx="673200" cy="279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1447920"/>
            <a:ext cx="897120" cy="839520"/>
          </a:xfrm>
          <a:prstGeom prst="ellipse">
            <a:avLst/>
          </a:prstGeom>
          <a:solidFill>
            <a:srgbClr val="ffffcd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ff"/>
                </a:solidFill>
                <a:latin typeface="Arial"/>
              </a:rPr>
              <a:t>Alternative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ff"/>
                </a:solidFill>
                <a:latin typeface="Arial"/>
              </a:rPr>
              <a:t>Fate Factor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43440" y="2286000"/>
            <a:ext cx="149400" cy="279360"/>
          </a:xfrm>
          <a:prstGeom prst="line">
            <a:avLst/>
          </a:prstGeom>
          <a:ln w="12600">
            <a:solidFill>
              <a:srgbClr val="ff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5181480"/>
            <a:ext cx="2590920" cy="115956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Net benefits = impacts of alt. fates + impacts of avoided fossil fuel use - impacts of biomass fuel production and us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Alternative Fates for Feedstock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Wastes and Residue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gricultural residues (field and processing)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restry residues (mill, in-forest)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unicipal residu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nimal wast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267080"/>
            <a:ext cx="81536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rop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il seed crop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Herbaceous energy crop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Global Carbon Cycle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47920"/>
            <a:ext cx="8534520" cy="472428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514600"/>
            <a:ext cx="1371600" cy="990720"/>
          </a:xfrm>
          <a:prstGeom prst="rect">
            <a:avLst/>
          </a:prstGeom>
          <a:solidFill>
            <a:srgbClr val="339966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Biomass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150 qmole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2895480"/>
            <a:ext cx="1218960" cy="0"/>
          </a:xfrm>
          <a:prstGeom prst="line">
            <a:avLst/>
          </a:prstGeom>
          <a:ln w="6336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2514600"/>
            <a:ext cx="1904760" cy="838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tmospheric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60 qmole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4648320"/>
            <a:ext cx="1676520" cy="137160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Fossil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800 qmole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324480" y="3885840"/>
            <a:ext cx="0" cy="609480"/>
          </a:xfrm>
          <a:prstGeom prst="line">
            <a:avLst/>
          </a:prstGeom>
          <a:ln w="5076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2286000"/>
            <a:ext cx="5562720" cy="144792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464832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Fossil Fuels add New Carbon to the Active Cycl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600200"/>
            <a:ext cx="510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arbon stocks in the biosphere and atmosphere are linked and in rapid exchange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3886200"/>
            <a:ext cx="0" cy="60948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4648320"/>
            <a:ext cx="1752480" cy="1371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Natural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equestra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31240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8 </a:t>
            </a:r>
            <a:r>
              <a:rPr b="0" lang="en-US" sz="1300" spc="-1" strike="noStrike">
                <a:solidFill>
                  <a:srgbClr val="008000"/>
                </a:solidFill>
                <a:latin typeface="Arial"/>
              </a:rPr>
              <a:t>qmole/yr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411480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3300"/>
                </a:solidFill>
                <a:latin typeface="Arial"/>
              </a:rPr>
              <a:t>0.5 qmole/yr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396252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ff"/>
                </a:solidFill>
                <a:latin typeface="Arial"/>
              </a:rPr>
              <a:t>0.25 qmole/yr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44197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Primarily  Dissolution in the Ocean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Biomass and the </a:t>
            </a:r>
            <a:br>
              <a:rPr sz="3200"/>
            </a:b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Global Carbon Cycle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447920"/>
            <a:ext cx="8534160" cy="4800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2590920"/>
            <a:ext cx="1371600" cy="990360"/>
          </a:xfrm>
          <a:prstGeom prst="rect">
            <a:avLst/>
          </a:prstGeom>
          <a:solidFill>
            <a:srgbClr val="339966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Biomass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150 qmole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2819520"/>
            <a:ext cx="1219320" cy="1440"/>
          </a:xfrm>
          <a:prstGeom prst="line">
            <a:avLst/>
          </a:prstGeom>
          <a:ln w="507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2590920"/>
            <a:ext cx="19051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tmospheric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60 qmole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362320"/>
            <a:ext cx="5562360" cy="144756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523880"/>
            <a:ext cx="502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he transfers of carbon between the atmosphere and biomass can be out of balance, increasing or decreasing the amount of carbon in the atmosp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4572000"/>
            <a:ext cx="1371600" cy="990720"/>
          </a:xfrm>
          <a:prstGeom prst="rect">
            <a:avLst/>
          </a:prstGeom>
          <a:solidFill>
            <a:srgbClr val="339966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Biomass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5105520"/>
            <a:ext cx="19051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tmospheric CO</a:t>
            </a:r>
            <a:r>
              <a:rPr b="0" lang="en-US" sz="1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baseline="-25000">
                <a:solidFill>
                  <a:srgbClr val="ffffff"/>
                </a:solidFill>
                <a:latin typeface="Arial"/>
              </a:rPr>
              <a:t>rt = 120 yrs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4267080"/>
            <a:ext cx="5562720" cy="18288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43400" y="4723920"/>
            <a:ext cx="762120" cy="2286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5181480"/>
            <a:ext cx="1447920" cy="3049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57800" y="4419720"/>
            <a:ext cx="76212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tm.CH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t = 12 yrs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4952880"/>
            <a:ext cx="304560" cy="1526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191120"/>
            <a:ext cx="19047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CH</a:t>
            </a:r>
            <a:r>
              <a:rPr b="0" lang="en-US" sz="1400" spc="-1" strike="noStrike" baseline="-25000">
                <a:solidFill>
                  <a:srgbClr val="1c1c1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25 times more potent as a ghg than CO</a:t>
            </a:r>
            <a:r>
              <a:rPr b="0" lang="en-US" sz="1400" spc="-1" strike="noStrike" baseline="-25000">
                <a:solidFill>
                  <a:srgbClr val="1c1c1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, although it has a shorter residence time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276720"/>
            <a:ext cx="1219320" cy="1440"/>
          </a:xfrm>
          <a:prstGeom prst="line">
            <a:avLst/>
          </a:prstGeom>
          <a:ln w="50760">
            <a:solidFill>
              <a:srgbClr val="80808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62520" y="28954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24382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Net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Summary of Key Results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Use of wastes and residues for energy production provides benefits by eliminating fossil fuel use, and by mitigating the impacts of conventional disposal practic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rops provide net benefits from fuels conversion when they are produced in conjunction with higher-valued co-products, or when their production provides other environmental benefits, such as land remediation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9:50:36Z</dcterms:created>
  <dc:creator>Edward Gray</dc:creator>
  <dc:description/>
  <dc:language>en-US</dc:language>
  <cp:lastModifiedBy>Matthew Futch</cp:lastModifiedBy>
  <dcterms:modified xsi:type="dcterms:W3CDTF">2007-10-10T21:05:42Z</dcterms:modified>
  <cp:revision>76</cp:revision>
  <dc:subject/>
  <dc:title>Strategic Analysis of Western Bioenergy</dc:title>
</cp:coreProperties>
</file>