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59C-19D4-4D62-B288-03E3FE1C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25D-6BAE-4484-BEA2-E955EB61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624-9C93-47B1-9654-354CF26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2C1-18FF-47D6-897D-AA797781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1DCB-C082-45A9-A42B-5EE788F8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4962-F563-4D29-AFA5-1E09D499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7140-385E-414A-83D1-BBB51219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58F9-8BE3-49E2-A4BC-9765E7F6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5DA-B607-477B-86FD-D7ADB65B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BF9F-1E2D-4F84-81B1-69F65DD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5C31-D48D-46BF-A991-F63FE5F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056-D573-4468-A959-C8A420B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D549-1A3B-4E28-A909-F1402CB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7A2E-3898-4028-91E5-F4371C0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CF1-35B3-4C7A-A5EA-0E59A032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D043-0251-474A-A6A0-00F29801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0D20-E73F-4183-988B-21CAD1E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AB6-8DFC-48D9-BB8A-DD0EC423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B39-5B73-473A-AD2F-15F0D081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E5A-16F8-4F91-805F-7044E5B8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8EF-14E5-44BE-BDDC-C3412F6C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489-7D19-4FF4-A0B6-E1BDFCE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028-2EB7-4518-92FC-6756223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BC4-4A89-426D-AE9A-BDA6F52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98F-5CBE-414D-8CB7-F89AE8F6FDBB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138F-A8F3-442E-89B5-290510CFF748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ask 5: Cost Benefit Analysi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6248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Gregg Morris, Future Resources Assoc.,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alyze the costs and benefits of producing liquid fuels from biomass resources in the West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apt benefits model to liquid fuels trajector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Load impacts data from tasks 1 – 4 and determine costs and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Overview of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enefits Model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3716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c1c1c"/>
                </a:solidFill>
                <a:uFillTx/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air pollu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greenhouse gas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landfill consump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forest deterio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watershed degrad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catastrophic wildfir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05680" y="2581200"/>
            <a:ext cx="1719000" cy="160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1b1b"/>
                </a:solidFill>
                <a:uFillTx/>
                <a:latin typeface="Arial"/>
              </a:rPr>
              <a:t>Alternative Fat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open burn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spreading/compost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forest accumul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landfill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67040" y="44863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9900"/>
                </a:solidFill>
                <a:uFillTx/>
                <a:latin typeface="Arial"/>
              </a:rPr>
              <a:t>Biomass Resourc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mill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forest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agric.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urban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crop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00400"/>
            <a:ext cx="897120" cy="839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ssil Fue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08600" y="137016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Unit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87760" y="3877920"/>
            <a:ext cx="1046160" cy="77004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2520" y="1917720"/>
            <a:ext cx="298440" cy="139680"/>
          </a:xfrm>
          <a:prstGeom prst="line">
            <a:avLst/>
          </a:prstGeom>
          <a:ln w="126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25920" y="4011120"/>
            <a:ext cx="822600" cy="560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95280"/>
            <a:ext cx="8001000" cy="518184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23840" y="24289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66ff"/>
                </a:solidFill>
                <a:uFillTx/>
                <a:latin typeface="Arial"/>
              </a:rPr>
              <a:t>Fuel 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ff"/>
                </a:solidFill>
                <a:latin typeface="Arial"/>
              </a:rPr>
              <a:t>energy produc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81480" y="2971440"/>
            <a:ext cx="152640" cy="22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36800" y="2590560"/>
            <a:ext cx="668520" cy="228600"/>
          </a:xfrm>
          <a:prstGeom prst="line">
            <a:avLst/>
          </a:prstGeom>
          <a:ln w="255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99000" y="2692440"/>
            <a:ext cx="673200" cy="279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44792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Alternativ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Fate Factor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2286000"/>
            <a:ext cx="149400" cy="279360"/>
          </a:xfrm>
          <a:prstGeom prst="line">
            <a:avLst/>
          </a:prstGeom>
          <a:ln w="126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181480"/>
            <a:ext cx="2590920" cy="11595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Net benefits = impacts of alt. fates + impacts of avoided fossil fuel use - impacts of biomass fuel production and us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lternative Fates for Feedstock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astes and Residu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gricultural residues (field and processing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estry residues (mill, in-forest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unicipal residu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imal wast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267080"/>
            <a:ext cx="8153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rop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il seed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Herbaceous energy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8534520" cy="472428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146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895480"/>
            <a:ext cx="1218960" cy="0"/>
          </a:xfrm>
          <a:prstGeom prst="line">
            <a:avLst/>
          </a:prstGeom>
          <a:ln w="63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514600"/>
            <a:ext cx="190476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648320"/>
            <a:ext cx="1676520" cy="13716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ssil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80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3885840"/>
            <a:ext cx="0" cy="60948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286000"/>
            <a:ext cx="5562720" cy="1447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648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Fossil Fuels add New Carbon to the Active Cycl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arbon stocks in the biosphere and atmosphere are linked and in rapid exchang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886200"/>
            <a:ext cx="0" cy="6094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648320"/>
            <a:ext cx="1752480" cy="1371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quest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124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8 </a:t>
            </a:r>
            <a:r>
              <a:rPr b="0" lang="en-US" sz="1300" spc="-1" strike="noStrike">
                <a:solidFill>
                  <a:srgbClr val="008000"/>
                </a:solidFill>
                <a:latin typeface="Arial"/>
              </a:rPr>
              <a:t>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11480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3300"/>
                </a:solidFill>
                <a:latin typeface="Arial"/>
              </a:rPr>
              <a:t>0.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9625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ff"/>
                </a:solidFill>
                <a:latin typeface="Arial"/>
              </a:rPr>
              <a:t>0.2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197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Primarily  Dissolution in the Ocean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and the 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447920"/>
            <a:ext cx="8534160" cy="4800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590920"/>
            <a:ext cx="1371600" cy="99036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8195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2590920"/>
            <a:ext cx="19051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362320"/>
            <a:ext cx="5562360" cy="14475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52388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 transfers of carbon between the atmosphere and biomass can be out of balance, increasing or decreasing the amount of carbon in the atmosp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45720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5105520"/>
            <a:ext cx="19051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O</a:t>
            </a: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rt = 120 yrs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267080"/>
            <a:ext cx="5562720" cy="1828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43400" y="4723920"/>
            <a:ext cx="762120" cy="228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181480"/>
            <a:ext cx="1447920" cy="304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4197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.C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t = 12 yrs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191120"/>
            <a:ext cx="19047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H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25 times more potent as a ghg than CO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, although it has a shorter residence tim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2767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895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4382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of wastes and residues for energy production provides benefits by eliminating fossil fuel use, and by mitigating the impacts of conventional disposal practic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rops provide net benefits from fuels conversion when they are produced in conjunction with higher-valued co-products, or when their production provides other environmental benefits, such as land remedia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5:42Z</dcterms:modified>
  <cp:revision>76</cp:revision>
  <dc:subject/>
  <dc:title>Strategic Analysis of Western Bioenergy</dc:title>
</cp:coreProperties>
</file>