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429-C333-49E4-9C19-AF7A0BED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A16-7ECB-403B-A1F5-26E25FB4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26F-4176-4CC7-85CB-EFE579E8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7E6-DA9E-4F64-84BC-6084741C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41B-7E5F-4229-AFDA-AD4CC692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4B8-E0DF-4112-B8B1-7B4B7A99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8FFF-89D4-4467-8C07-F5DB0FA5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A2BD-58AA-4F0D-BF7D-DD4150C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7271-58DE-4FA6-9596-B8C7FB7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C96F-EB07-418E-9123-11D0FBD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FAC0-B25B-4FE0-9164-C4E54B8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BB3-D59F-406B-B4E5-7466ED6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2DA-1530-4255-BAF4-8814E45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1A0-4C19-4F88-826B-0FA558E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036-AF00-429B-B108-CF25910B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829-A362-46E6-89B7-7C91394B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0D0-184A-4344-A08E-9FB8B008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B42-A67B-4744-A453-A4E54A9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579-E0D9-462A-8BB8-51E9408E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B25-2A0E-4B07-A5D1-FA4D5B4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574-517A-4537-9C22-4F0402A5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DC0-BBF2-4307-944E-CBFE692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799-A0E7-4757-A312-37BC743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C70-1022-4F91-B48A-DEA3402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730-7438-4847-8071-9BBA3D1B7E9C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9DE-8681-48FE-81E3-7DA5FAD19B5D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ask 5: Cost Benefit Analysi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6248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Gregg Morris, Future Resources Assoc.,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alyze the costs and benefits of producing liquid fuels from biomass resources in the West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apt benefits model to liquid fuels trajector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Load impacts data from tasks 1 – 4 and determine costs and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Overview of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enefits Model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3716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c1c1c"/>
                </a:solidFill>
                <a:uFillTx/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air pollu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greenhouse gas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landfill consump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forest deterio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watershed degrad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catastrophic wildfir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05680" y="2581200"/>
            <a:ext cx="1719000" cy="160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1b1b"/>
                </a:solidFill>
                <a:uFillTx/>
                <a:latin typeface="Arial"/>
              </a:rPr>
              <a:t>Alternative Fat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open burn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spreading/compost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forest accumul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landfill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7040" y="44863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9900"/>
                </a:solidFill>
                <a:uFillTx/>
                <a:latin typeface="Arial"/>
              </a:rPr>
              <a:t>Biomass Resourc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mill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forest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agric.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urban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crop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00400"/>
            <a:ext cx="897120" cy="839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ssil Fue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08600" y="137016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87760" y="3877920"/>
            <a:ext cx="1046160" cy="77004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2520" y="1917720"/>
            <a:ext cx="298440" cy="139680"/>
          </a:xfrm>
          <a:prstGeom prst="line">
            <a:avLst/>
          </a:prstGeom>
          <a:ln w="126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25920" y="4011120"/>
            <a:ext cx="822600" cy="560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95280"/>
            <a:ext cx="8001000" cy="518184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23840" y="24289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66ff"/>
                </a:solidFill>
                <a:uFillTx/>
                <a:latin typeface="Arial"/>
              </a:rPr>
              <a:t>Fuel 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ff"/>
                </a:solidFill>
                <a:latin typeface="Arial"/>
              </a:rPr>
              <a:t>energy produc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81480" y="2971440"/>
            <a:ext cx="152640" cy="22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36800" y="2590560"/>
            <a:ext cx="668520" cy="228600"/>
          </a:xfrm>
          <a:prstGeom prst="line">
            <a:avLst/>
          </a:prstGeom>
          <a:ln w="255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99000" y="2692440"/>
            <a:ext cx="673200" cy="279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44792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Alternativ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Fate Factor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2286000"/>
            <a:ext cx="149400" cy="279360"/>
          </a:xfrm>
          <a:prstGeom prst="line">
            <a:avLst/>
          </a:prstGeom>
          <a:ln w="126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181480"/>
            <a:ext cx="2590920" cy="11595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Net benefits = impacts of alt. fates + impacts of avoided fossil fuel use - impacts of biomass fuel production and us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lternative Fates for Feedstock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astes and Residu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gricultural residues (field and processing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estry residues (mill, in-forest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unicipal residu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imal wast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267080"/>
            <a:ext cx="8153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rop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il seed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Herbaceous energy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8534520" cy="472428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146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1218960" cy="0"/>
          </a:xfrm>
          <a:prstGeom prst="line">
            <a:avLst/>
          </a:prstGeom>
          <a:ln w="63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514600"/>
            <a:ext cx="190476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648320"/>
            <a:ext cx="1676520" cy="13716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ssil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80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3885840"/>
            <a:ext cx="0" cy="609480"/>
          </a:xfrm>
          <a:prstGeom prst="line">
            <a:avLst/>
          </a:prstGeom>
          <a:ln w="5076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286000"/>
            <a:ext cx="556272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648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Fossil Fuels add New Carbon to the Active Cycl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arbon stocks in the biosphere and atmosphere are linked and in rapid exchang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886200"/>
            <a:ext cx="0" cy="6094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648320"/>
            <a:ext cx="1752480" cy="137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quest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0" lang="en-US" sz="1300" spc="-1" strike="noStrike">
                <a:solidFill>
                  <a:srgbClr val="008000"/>
                </a:solidFill>
                <a:latin typeface="Arial"/>
              </a:rPr>
              <a:t>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11480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3300"/>
                </a:solidFill>
                <a:latin typeface="Arial"/>
              </a:rPr>
              <a:t>0.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9625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ff"/>
                </a:solidFill>
                <a:latin typeface="Arial"/>
              </a:rPr>
              <a:t>0.2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197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Primarily  Dissolution in the Ocean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and the 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8534160" cy="4800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90920"/>
            <a:ext cx="137160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8195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590920"/>
            <a:ext cx="19051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362320"/>
            <a:ext cx="5562360" cy="14475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2388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 transfers of carbon between the atmosphere and biomass can be out of balance, increasing or decreasing the amount of carbon in the atmosp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45720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105520"/>
            <a:ext cx="19051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O</a:t>
            </a: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rt = 120 yrs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267080"/>
            <a:ext cx="5562720" cy="1828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4723920"/>
            <a:ext cx="762120" cy="228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181480"/>
            <a:ext cx="1447920" cy="30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4197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.C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 = 12 yrs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191120"/>
            <a:ext cx="19047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H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25 times more potent as a ghg than CO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, although it has a shorter residence tim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2767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895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438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f wastes and residues for energy production provides benefits by eliminating fossil fuel use, and by mitigating the impacts of conventional disposal practic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rops provide net benefits from fuels conversion when they are produced in conjunction with higher-valued co-products, or when their production provides other environmental benefits, such as land remedi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5:42Z</dcterms:modified>
  <cp:revision>76</cp:revision>
  <dc:subject/>
  <dc:title>Strategic Analysis of Western Bioenergy</dc:title>
</cp:coreProperties>
</file>