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A8AA0-4CE4-4578-9047-9305740129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uld this type of file cabinet be helpful?  Already done? Discuss Sonoran.  AWEA 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them add to these two specific lists--flip ch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, have them identify other KEY CATAGORIES--like public engagement--put on flip charts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ut orange stickies (I have--they are 9x6).  Ask them to write down specific items under these categories that would be useful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ible step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ering Committee--take volunteers.  Identify contractor?  Go forth and set up specific area and test?  Demo at next meeting?  Demo before go public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ke the idea?  If so, don’t want to have a detailed conversation on which specific blog software would be best.  (But welcome those suggest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these the key topics?  Dots as they exit on what they would personally participate in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31BB-4BD5-4528-9509-F65DB7FF8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770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6144-CF00-4D45-BB10-A2CAC9A05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770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770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8D99-1DC2-489C-80B3-77F0B0C2A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770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770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770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ADD1-17BF-4233-8D6B-CCCAEDA2D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9C9AD-5D00-4A02-99D3-C46804CD8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EAA7C-F857-41C4-BF6E-416AF9EC8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D80A1-F89D-4DBB-9D3E-FAC209300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FB366-4659-43AD-BE91-ECA15C848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D20E3-4A6D-4BE0-9A80-1EB2C50B3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304920"/>
            <a:ext cx="74678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B3DF3-E97B-49C5-929E-3BF50003D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770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951E0-23F2-4042-A9A9-BF5C324EE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880C-0345-49C2-92FB-EF715F712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770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5CFC6-44D1-4FCC-AB8E-DD3A389CB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770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DA8C6-FECA-4022-9825-F9B361E03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770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CE437-5D72-4F8E-A4C9-32D5DD3A0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770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770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C1C87-E88C-4E5B-9067-F80C0A6FC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770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770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770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03901-AEF7-445D-99DB-A786C9DEE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5277-3EAF-4178-B04B-CF6680F9B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06CE-7D70-4A4B-B519-D4572F8E0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0F25-E0D7-4DD1-A2D6-F600AB581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838080" y="304920"/>
            <a:ext cx="74678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6105-B526-4BE4-B9C1-ADE4D157A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770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0AEA-BC5D-4E84-9FC1-F14C2B4B8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770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1814-7389-4033-BFD1-E476E117E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770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762D-BB2A-49CC-A3E5-E85F8788D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762120" y="152280"/>
            <a:ext cx="7696080" cy="1067040"/>
            <a:chOff x="762120" y="152280"/>
            <a:chExt cx="7696080" cy="1067040"/>
          </a:xfrm>
        </p:grpSpPr>
        <p:sp>
          <p:nvSpPr>
            <p:cNvPr id="1" name=""/>
            <p:cNvSpPr/>
            <p:nvPr/>
          </p:nvSpPr>
          <p:spPr>
            <a:xfrm>
              <a:off x="762120" y="152280"/>
              <a:ext cx="7696080" cy="106704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  <a:effectLst>
              <a:outerShdw dist="153753" dir="2700000" blurRad="0" rotWithShape="0">
                <a:srgbClr val="93939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981720" y="1219320"/>
              <a:ext cx="7243200" cy="0"/>
            </a:xfrm>
            <a:prstGeom prst="line">
              <a:avLst/>
            </a:prstGeom>
            <a:ln w="28440">
              <a:solidFill>
                <a:srgbClr val="eeee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"/>
          <p:cNvGrpSpPr/>
          <p:nvPr/>
        </p:nvGrpSpPr>
        <p:grpSpPr>
          <a:xfrm>
            <a:off x="685800" y="1371600"/>
            <a:ext cx="7772400" cy="304920"/>
            <a:chOff x="685800" y="1371600"/>
            <a:chExt cx="7772400" cy="304920"/>
          </a:xfrm>
        </p:grpSpPr>
        <p:sp>
          <p:nvSpPr>
            <p:cNvPr id="4" name=""/>
            <p:cNvSpPr/>
            <p:nvPr/>
          </p:nvSpPr>
          <p:spPr>
            <a:xfrm>
              <a:off x="685800" y="1371600"/>
              <a:ext cx="7772400" cy="304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c5611"/>
                </a:gs>
                <a:gs pos="50000">
                  <a:srgbClr val="ff7518"/>
                </a:gs>
                <a:gs pos="100000">
                  <a:srgbClr val="bc5611"/>
                </a:gs>
              </a:gsLst>
              <a:lin ang="5400000"/>
            </a:gradFill>
            <a:ln w="0">
              <a:noFill/>
            </a:ln>
            <a:effectLst>
              <a:outerShdw dist="101520" dir="54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>
              <a:off x="828720" y="1390320"/>
              <a:ext cx="7496280" cy="460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7518"/>
                </a:gs>
                <a:gs pos="50000">
                  <a:srgbClr val="ffffff"/>
                </a:gs>
                <a:gs pos="100000">
                  <a:srgbClr val="ff751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99"/>
              </a:spcBef>
              <a:buClr>
                <a:srgbClr val="ff751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51960" indent="-221400">
              <a:spcBef>
                <a:spcPts val="799"/>
              </a:spcBef>
              <a:buClr>
                <a:srgbClr val="ff751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95480" indent="-221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38BEF-4A1F-44AA-81DC-311C158228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0" y="76320"/>
            <a:ext cx="609480" cy="6629400"/>
          </a:xfrm>
          <a:prstGeom prst="flowChartDelay">
            <a:avLst/>
          </a:prstGeom>
          <a:solidFill>
            <a:srgbClr val="aaaaaa">
              <a:alpha val="50000"/>
            </a:srgbClr>
          </a:solidFill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 flipH="1">
            <a:off x="8533800" y="76320"/>
            <a:ext cx="609480" cy="6629400"/>
          </a:xfrm>
          <a:prstGeom prst="flowChartDelay">
            <a:avLst/>
          </a:prstGeom>
          <a:solidFill>
            <a:srgbClr val="aaaaaa">
              <a:alpha val="50000"/>
            </a:srgbClr>
          </a:solidFill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762120" y="1676520"/>
            <a:ext cx="7696080" cy="1675800"/>
            <a:chOff x="762120" y="1676520"/>
            <a:chExt cx="7696080" cy="1675800"/>
          </a:xfrm>
        </p:grpSpPr>
        <p:sp>
          <p:nvSpPr>
            <p:cNvPr id="50" name=""/>
            <p:cNvSpPr/>
            <p:nvPr/>
          </p:nvSpPr>
          <p:spPr>
            <a:xfrm>
              <a:off x="762120" y="1676520"/>
              <a:ext cx="7696080" cy="167580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  <a:effectLst>
              <a:outerShdw dist="153753" dir="2700000" blurRad="0" rotWithShape="0">
                <a:srgbClr val="93939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981720" y="3352320"/>
              <a:ext cx="7243200" cy="0"/>
            </a:xfrm>
            <a:prstGeom prst="line">
              <a:avLst/>
            </a:prstGeom>
            <a:ln w="28440">
              <a:solidFill>
                <a:srgbClr val="eeee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85800" y="3505320"/>
            <a:ext cx="7772400" cy="304560"/>
            <a:chOff x="685800" y="3505320"/>
            <a:chExt cx="7772400" cy="304560"/>
          </a:xfrm>
        </p:grpSpPr>
        <p:sp>
          <p:nvSpPr>
            <p:cNvPr id="53" name=""/>
            <p:cNvSpPr/>
            <p:nvPr/>
          </p:nvSpPr>
          <p:spPr>
            <a:xfrm>
              <a:off x="685800" y="3505320"/>
              <a:ext cx="7772400" cy="304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c5611"/>
                </a:gs>
                <a:gs pos="50000">
                  <a:srgbClr val="ff7518"/>
                </a:gs>
                <a:gs pos="100000">
                  <a:srgbClr val="bc5611"/>
                </a:gs>
              </a:gsLst>
              <a:lin ang="5400000"/>
            </a:gradFill>
            <a:ln w="0">
              <a:noFill/>
            </a:ln>
            <a:effectLst>
              <a:outerShdw dist="101520" dir="54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828720" y="3522960"/>
              <a:ext cx="7496280" cy="45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7518"/>
                </a:gs>
                <a:gs pos="50000">
                  <a:srgbClr val="ffffff"/>
                </a:gs>
                <a:gs pos="100000">
                  <a:srgbClr val="ff751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205740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D9806-712E-4D9B-BC3A-45EC22F341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76320"/>
            <a:ext cx="609480" cy="6629400"/>
          </a:xfrm>
          <a:prstGeom prst="flowChartDelay">
            <a:avLst/>
          </a:prstGeom>
          <a:solidFill>
            <a:srgbClr val="aaaaaa">
              <a:alpha val="50000"/>
            </a:srgbClr>
          </a:solidFill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8533800" y="76320"/>
            <a:ext cx="609480" cy="6629400"/>
          </a:xfrm>
          <a:prstGeom prst="flowChartDelay">
            <a:avLst/>
          </a:prstGeom>
          <a:solidFill>
            <a:srgbClr val="aaaaaa">
              <a:alpha val="50000"/>
            </a:srgbClr>
          </a:solidFill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7518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205740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Launching a WGA </a:t>
            </a:r>
            <a:br>
              <a:rPr sz="4400"/>
            </a:b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Information Exchange 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ctober 2, 20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Likely Tools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ine File Cabi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ine SWAT te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kshops/Webinars/Train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B063-CC0E-476E-90C0-AA6850FC245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Online File Cabinet:</a:t>
            </a:r>
            <a:br>
              <a:rPr sz="4400"/>
            </a:b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Need?  Users?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REGULATORY COMPLI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amples of analysis of socioeconomic benefits and economic benefits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amples of SHPO responses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tigation efforts, broken down by category (e.g., plants, species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tormwater pollution prevention plans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47960" y="18288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PUBLIC ENG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Q’s Citizens’ Guide to NEPA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blic fact sheets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amples of effective newsletter sent to communities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ew landowner compensation strategies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6EA3-58F7-402A-99CD-642D61FF540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Criteria for Online File Cabinet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fer 20 examples or 2 good ones?  Who pick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ly availabl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iew Group or WGA lead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plicate other sites or links to?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criteria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0DAA-5713-4779-AA72-EA8CF830690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Next Steps Re: </a:t>
            </a:r>
            <a:br>
              <a:rPr sz="4400"/>
            </a:b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Online File Cabinet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ther input, organize and let you review, and add to list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iew Committe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racto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mo at next meet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9647-980D-4D1C-87F6-F8CCDC1EE5E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Online SWAT Team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ic Conce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uck on a problem.  (e.g, NGO wants PROOF that the line will be green.  FERC 890--can’t restrict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tility (or NGO or government) posts summary of problem to diverse group (twitter, list-serve?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those with interest and ideas, can click and go to blog on topic.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og starts with more detailed information on problem and allows for conversation and inpu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GA monitors blog for productivity and to pull out any documents or ideas that should go in the on-line file cabinet.  (e.g., Gateway posted online who thei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ikel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ubscribers would be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501B-AC8D-42EC-8E97-D53AC43F362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Online SWAT Team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?/Audience (public or not)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iteria for succes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xt Ste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751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iew team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751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racto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751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monstration at next mee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941A-1E7F-4BD6-9DF3-260ABDC6D37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769608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WGA Workshops, </a:t>
            </a:r>
            <a:br>
              <a:rPr sz="4400"/>
            </a:b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Webinars, and Trainings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9456"/>
                </a:solidFill>
                <a:latin typeface="Arial"/>
              </a:rPr>
              <a:t>Need?  Audience?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teg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i-yearly calls: Update on RRTT Status, Federal Plan activi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inar: FERC Order 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kshop:  368 Corridor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47960" y="18288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ublic Eng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kshop: Landowner Reimburs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aining:  Electricity 1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inar:  Mechanisms to fund state staff resour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kshop or regular webinars:  New Public Outreach Strate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0F51-2170-45CE-A6FD-67122A75D80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Webinars, Workshops, Trainings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iteria for Succes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xt Steps: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751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GA propose schedule of events for next calendar yea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751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icit feedback on dates, speakers, ti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751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iew Group by topic or WGA lea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066C-FBC9-4287-ACC9-634806F25C0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7T17:09:55Z</dcterms:created>
  <dc:creator>Kristi Celico</dc:creator>
  <dc:description/>
  <dc:language>en-US</dc:language>
  <cp:lastModifiedBy>Kristi Celico</cp:lastModifiedBy>
  <cp:lastPrinted>2012-09-28T21:04:02Z</cp:lastPrinted>
  <dcterms:modified xsi:type="dcterms:W3CDTF">2012-09-28T21:04:22Z</dcterms:modified>
  <cp:revision>3</cp:revision>
  <dc:subject/>
  <dc:title>Launching a WGA  Information Exchange </dc:title>
</cp:coreProperties>
</file>