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C104-C13B-41CF-9EA3-6DF557F0D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8711-A6EB-4522-A9BB-F4F9914C2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2424-8217-4C80-86FC-496235769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C664-8F11-46A2-9FC7-A34843DBF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B2EB-32E7-4E75-9701-391B6E9DA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D545-DE76-4601-9EC0-9507BA8DC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6106-D210-4E98-ABA8-0944DF464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41936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demand study photo.jp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Drought Impacts and Preparedn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51055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in R. Ben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state Commission on the Potomac River Ba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14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914400" y="16765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rought Operations and Water Supply Planning in the Poto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igure 2-2.JPG"/>
          <p:cNvPicPr/>
          <p:nvPr/>
        </p:nvPicPr>
        <p:blipFill>
          <a:blip r:embed="rId1"/>
          <a:stretch/>
        </p:blipFill>
        <p:spPr>
          <a:xfrm>
            <a:off x="538200" y="-4680"/>
            <a:ext cx="80676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5"/>
          <p:cNvSpPr/>
          <p:nvPr/>
        </p:nvSpPr>
        <p:spPr>
          <a:xfrm>
            <a:off x="0" y="512640"/>
            <a:ext cx="9144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7"/>
          <p:cNvSpPr/>
          <p:nvPr/>
        </p:nvSpPr>
        <p:spPr>
          <a:xfrm>
            <a:off x="4680" y="517680"/>
            <a:ext cx="9134640" cy="61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9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ought Respon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 unrestricted demands for CO-OP system 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 environmental flow-by 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ow triggers for daily and hourly monitoring of flow and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 flows based on gauged flow data, stream flow recession predictions, and water supply withdraw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mmend operational changes to utility withdrawals and reservoir releases to meet demands and flow-by 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ow Prediction T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66720" y="1752480"/>
            <a:ext cx="788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560" y="1752480"/>
            <a:ext cx="422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/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ing with current operational conditions and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jurisdictions, utilities, reservoirs, 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ught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and media information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acceptance of reservoir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6120" y="1752480"/>
            <a:ext cx="422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 for predicting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reliable at low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ss effect around g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rating cu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el time of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loss: evaporation, groundwater loss, unknown upstream pu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41:39Z</dcterms:created>
  <dc:creator>C</dc:creator>
  <dc:description/>
  <dc:language>en-US</dc:language>
  <cp:lastModifiedBy>kbencala</cp:lastModifiedBy>
  <dcterms:modified xsi:type="dcterms:W3CDTF">2010-09-13T19:47:56Z</dcterms:modified>
  <cp:revision>581</cp:revision>
  <dc:subject/>
  <dc:title>2010 Water Demand Forecast and Reliability Assessment</dc:title>
</cp:coreProperties>
</file>