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BD55-5ECC-4ABA-9A1E-0653F5DBC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B3B1-BC8F-4E93-8992-654562F2F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DDBD-02D9-4769-8C67-2D8CD30B6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1055-B05F-4987-AE7D-9A0246F1D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C965-DB5D-47D6-BBF3-F4EF8E001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67B0-0629-41F7-B9FC-CAD5A0E1F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9736-7A83-4473-97F3-E765F4B97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41936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75248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75248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4193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4193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4193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41936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demand study photo.jp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Drought Impacts and Preparedn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51055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rin R. Ben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state Commission on the Potomac River Ba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14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914400" y="16765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rought Operations and Water Supply Planning in the Poto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igure 2-2.JPG"/>
          <p:cNvPicPr/>
          <p:nvPr/>
        </p:nvPicPr>
        <p:blipFill>
          <a:blip r:embed="rId1"/>
          <a:stretch/>
        </p:blipFill>
        <p:spPr>
          <a:xfrm>
            <a:off x="538200" y="-4680"/>
            <a:ext cx="80676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5"/>
          <p:cNvSpPr/>
          <p:nvPr/>
        </p:nvSpPr>
        <p:spPr>
          <a:xfrm>
            <a:off x="0" y="512640"/>
            <a:ext cx="9144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7"/>
          <p:cNvSpPr/>
          <p:nvPr/>
        </p:nvSpPr>
        <p:spPr>
          <a:xfrm>
            <a:off x="4680" y="517680"/>
            <a:ext cx="9134640" cy="61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9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ought Respon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 unrestricted demands for CO-OP system cust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 environmental flow-by recommend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ow triggers for daily and hourly monitoring of flow and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ct flows based on gauged flow data, stream flow recession predictions, and water supply withdraw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mmend operational changes to utility withdrawals and reservoir releases to meet demands and flow-by recommend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ow Prediction T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66720" y="1752480"/>
            <a:ext cx="788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560" y="1752480"/>
            <a:ext cx="4228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/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ing with current operational conditions and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jurisdictions, utilities, reservoirs, 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ught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and media information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acceptance of reservoir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6120" y="1752480"/>
            <a:ext cx="4228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 for predicting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reliable at low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ss effect around g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rating cur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el time of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loss: evaporation, groundwater loss, unknown upstream pum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41:39Z</dcterms:created>
  <dc:creator>C</dc:creator>
  <dc:description/>
  <dc:language>en-US</dc:language>
  <cp:lastModifiedBy>kbencala</cp:lastModifiedBy>
  <dcterms:modified xsi:type="dcterms:W3CDTF">2010-09-13T19:47:56Z</dcterms:modified>
  <cp:revision>581</cp:revision>
  <dc:subject/>
  <dc:title>2010 Water Demand Forecast and Reliability Assessment</dc:title>
</cp:coreProperties>
</file>