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6012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6160" y="680760"/>
            <a:ext cx="476568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6C31-7504-4F2B-A5CC-F498545C7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12C2-8ADC-46EB-98D2-0B41F97DC1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3ABA-9F22-46BC-A499-E800E8548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4641560" y="-11799720"/>
            <a:ext cx="17484840" cy="12488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49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7BCC-2F10-43BA-B2A3-5FC6162D69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AF34-603B-448C-BACD-441A1B56AF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160C-4B49-4001-B733-195C0712F0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6A35-DAC0-4F33-B6BB-F70C077D7C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8F9-969A-44CC-BBBD-6BF6774B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DE2-7D4D-4EBE-859F-2B767C3C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308-9269-460C-8168-2442672D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A7E-DF23-42BE-ABE4-A7DD6089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DC8-EBF2-43D9-B64C-1AEF1D6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C9D-2C93-42D1-9408-5593FB2B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D39-D23E-4829-B95A-E02E5D24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D7A-8F9C-4176-BC6C-2601343C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81F-C86B-426A-A859-D42790C8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C80-ABA4-42CC-8B2B-08F1E8C4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C42-D343-496D-A64B-EE626231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F19-2FFC-4E1A-A9F1-C3FEC825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248520"/>
            <a:ext cx="304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74B0-A399-4F71-9C67-DD4CD53CD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601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Zuni Drought Contingency Plan</a:t>
            </a:r>
            <a:br>
              <a:rPr sz="4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0040" y="2209320"/>
            <a:ext cx="5870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rk Bemis, Hydr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ources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rvation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Tribe, New Mex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4480" y="2324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23848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4210200"/>
            <a:ext cx="96012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ought , Water, and Climate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stern Governors’ Association and Western States Water Counc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14-15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ZuniLocationAZNM_Fisheries"/>
          <p:cNvPicPr/>
          <p:nvPr/>
        </p:nvPicPr>
        <p:blipFill>
          <a:blip r:embed="rId1"/>
          <a:stretch/>
        </p:blipFill>
        <p:spPr>
          <a:xfrm>
            <a:off x="228600" y="-152280"/>
            <a:ext cx="9220320" cy="71247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2"/>
          <p:cNvGrpSpPr/>
          <p:nvPr/>
        </p:nvGrpSpPr>
        <p:grpSpPr>
          <a:xfrm>
            <a:off x="4275000" y="685800"/>
            <a:ext cx="4100400" cy="4735440"/>
            <a:chOff x="4275000" y="685800"/>
            <a:chExt cx="4100400" cy="4735440"/>
          </a:xfrm>
        </p:grpSpPr>
        <p:sp>
          <p:nvSpPr>
            <p:cNvPr id="55" name="Oval 8"/>
            <p:cNvSpPr/>
            <p:nvPr/>
          </p:nvSpPr>
          <p:spPr>
            <a:xfrm>
              <a:off x="5791320" y="5257800"/>
              <a:ext cx="16164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7543800" y="2895480"/>
              <a:ext cx="162000" cy="16380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4876920" y="2819520"/>
              <a:ext cx="161640" cy="1648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1"/>
            <p:cNvSpPr/>
            <p:nvPr/>
          </p:nvSpPr>
          <p:spPr>
            <a:xfrm>
              <a:off x="6553080" y="990720"/>
              <a:ext cx="16200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5486400" y="2590920"/>
              <a:ext cx="160200" cy="163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324480" y="1523880"/>
              <a:ext cx="162000" cy="165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>
              <a:off x="7086600" y="1371600"/>
              <a:ext cx="192240" cy="196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6858000" y="1905120"/>
              <a:ext cx="193680" cy="1951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6705720" y="1066680"/>
              <a:ext cx="193680" cy="1954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6027840" y="50292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7780320" y="2971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4275000" y="243828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5951520" y="685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4883760" y="2286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5798160" y="1143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30"/>
          <p:cNvGrpSpPr/>
          <p:nvPr/>
        </p:nvGrpSpPr>
        <p:grpSpPr>
          <a:xfrm>
            <a:off x="2895480" y="990720"/>
            <a:ext cx="2057400" cy="847080"/>
            <a:chOff x="2895480" y="990720"/>
            <a:chExt cx="2057400" cy="847080"/>
          </a:xfrm>
        </p:grpSpPr>
        <p:sp>
          <p:nvSpPr>
            <p:cNvPr id="71" name="Rectangle 28"/>
            <p:cNvSpPr/>
            <p:nvPr/>
          </p:nvSpPr>
          <p:spPr>
            <a:xfrm>
              <a:off x="2895480" y="990720"/>
              <a:ext cx="2057400" cy="8380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2971800" y="1371600"/>
              <a:ext cx="152280" cy="1522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2971800" y="1143000"/>
              <a:ext cx="152280" cy="1522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7"/>
            <p:cNvSpPr/>
            <p:nvPr/>
          </p:nvSpPr>
          <p:spPr>
            <a:xfrm>
              <a:off x="3200400" y="1066680"/>
              <a:ext cx="1752480" cy="77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WS Precipitation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SGS Streamflow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RCS Snowpack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29"/>
            <p:cNvSpPr/>
            <p:nvPr/>
          </p:nvSpPr>
          <p:spPr>
            <a:xfrm>
              <a:off x="2971800" y="1600200"/>
              <a:ext cx="182520" cy="182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 Implement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 2001 – Plan completed with USBR gr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for lands in Zuni River Basin in New Mexico since other lands sen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zes long-term mitigation to reduce risk and minimize response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formal committees; Water Resources leads other Tribal, BIA &amp; IHS progra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Monitoring reports started month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federal data in Basin and Plan indices, which use only feder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ndard Palmer Drought Severity Index from NOAA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ized precipitation (3 NOAA stations) &amp; streamflow (1 USGS station) i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 levels and volumes of 10 reservoirs collected by Zu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.S. Drought Monitor &amp; SPI; no forecasting in consideration of drought tabo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to farming, ranching, construction &amp; municipal system from water hau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development of water hauling sites and system restri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2006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mostly to farming and ranching but then record rainfall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improvements at ranch livestock watering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601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 taboo to “plan” for drought; public involvement tr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itivity of water data due to unadjudicated water r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ing collection of monitoring data and updating of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ing the need for a Plan as a worthy investment                (No Tribal contingency plans for other hazard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s needed to help ourselves since minimal assistance is available just for drought, even with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buy-in by all at every step, Plan will remain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typical fate of plans doomed to the booksh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601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increased by Tribal “financial and political” drought;          (lack of water rights, development- esp. groundwater, maintenance, &amp; management policies and resour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magnifies weaknesses in physical infrastructure, natural resources management &amp; governmental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weaknesses have increased risk but also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norm of having little, relying o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 norm of inadequate resources, always re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short-term relief that increases vulnerability, dependence on government, and “new” program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hasize long-term mitigation that supports better resource management, land user self-reliance, &amp; “existing”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eds and Opportun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funding and support for federal basic data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USGS cost-share to 50% for g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place NOAA stations (USHCN-M) on Tribal trust 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ance of “abandoned” stations until find new co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be can provide in-kind services, if trained, to reduce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 and enhance Plan’s customized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stage triggering criteria and usefulness of longer time peri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duction of indices and delivery of monthly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use of Zuni data and other available indices and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collecting precipitation, reservoir, spring &amp; groundwat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cessing and analyzing Zuni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er funding for response; more funding for mit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ources, personnel; allow federal funding for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56:50Z</dcterms:created>
  <dc:creator>Kirk Bemis</dc:creator>
  <dc:description/>
  <dc:language>en-US</dc:language>
  <cp:lastModifiedBy>Tom Iseman</cp:lastModifiedBy>
  <dcterms:modified xsi:type="dcterms:W3CDTF">2010-09-14T16:16:47Z</dcterms:modified>
  <cp:revision>394</cp:revision>
  <dc:subject/>
  <dc:title>PowerPoint Presentation</dc:title>
</cp:coreProperties>
</file>