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6012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46160" y="680760"/>
            <a:ext cx="476568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4A5E-9985-4257-A470-EDA1B64DC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54DB-A016-4395-AF94-07A4E3EF5E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4A03-D12C-46D4-8602-F1D63D5AD3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14641560" y="-11799720"/>
            <a:ext cx="17484840" cy="12488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49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7133-D7B0-4983-8B94-B11625DCDF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A63F-619B-4850-AF7D-2ECF4F15DF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28A7-A0E9-48CB-A073-4278DD08BA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21AF-E5FF-4759-9912-06E075DFE0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B59-46FF-4E3A-988F-FFF41714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B9A-B525-45D4-9BF9-574CF7A1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BD3-8BA8-4AC6-869F-6C8A6DFC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7EA2-69A7-44D0-AD61-1973A6CA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F640-E36D-43B7-97E4-FF25A16B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B52-0ED0-4A7A-AC26-D4FBA2DC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9A45-2693-4442-8CF9-316D5295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D1AA-1A30-4E10-96EE-70C3E141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609120"/>
            <a:ext cx="815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A2CC-BE5A-4095-937B-767BABB4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1CA-EACC-4750-80E7-7B299BFD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7B2-EFC9-41B3-988F-B31FD998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54B-1950-485B-8852-4B977B0A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248520"/>
            <a:ext cx="304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3487-C9F9-4790-8377-AA9288ECF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601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Zuni Drought Contingency Plan</a:t>
            </a:r>
            <a:br>
              <a:rPr sz="4000"/>
            </a:b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00040" y="2209320"/>
            <a:ext cx="5870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rk Bemis, Hydrolog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Resources S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ervation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ni Tribe, New Mex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14480" y="2324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223848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0" y="4210200"/>
            <a:ext cx="960120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ought , Water, and Climate 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estern Governors’ Association and Western States Water Counci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ptember 14-15,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ZuniLocationAZNM_Fisheries"/>
          <p:cNvPicPr/>
          <p:nvPr/>
        </p:nvPicPr>
        <p:blipFill>
          <a:blip r:embed="rId1"/>
          <a:stretch/>
        </p:blipFill>
        <p:spPr>
          <a:xfrm>
            <a:off x="228600" y="-152280"/>
            <a:ext cx="9220320" cy="712476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32"/>
          <p:cNvGrpSpPr/>
          <p:nvPr/>
        </p:nvGrpSpPr>
        <p:grpSpPr>
          <a:xfrm>
            <a:off x="4275000" y="685800"/>
            <a:ext cx="4100400" cy="4735440"/>
            <a:chOff x="4275000" y="685800"/>
            <a:chExt cx="4100400" cy="4735440"/>
          </a:xfrm>
        </p:grpSpPr>
        <p:sp>
          <p:nvSpPr>
            <p:cNvPr id="55" name="Oval 8"/>
            <p:cNvSpPr/>
            <p:nvPr/>
          </p:nvSpPr>
          <p:spPr>
            <a:xfrm>
              <a:off x="5791320" y="5257800"/>
              <a:ext cx="161640" cy="16344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7543800" y="2895480"/>
              <a:ext cx="162000" cy="16380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10"/>
            <p:cNvSpPr/>
            <p:nvPr/>
          </p:nvSpPr>
          <p:spPr>
            <a:xfrm>
              <a:off x="4876920" y="2819520"/>
              <a:ext cx="161640" cy="16488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11"/>
            <p:cNvSpPr/>
            <p:nvPr/>
          </p:nvSpPr>
          <p:spPr>
            <a:xfrm>
              <a:off x="6553080" y="990720"/>
              <a:ext cx="162000" cy="16344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5486400" y="2590920"/>
              <a:ext cx="160200" cy="1634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6324480" y="1523880"/>
              <a:ext cx="162000" cy="165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14"/>
            <p:cNvSpPr/>
            <p:nvPr/>
          </p:nvSpPr>
          <p:spPr>
            <a:xfrm>
              <a:off x="7086600" y="1371600"/>
              <a:ext cx="192240" cy="1969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15"/>
            <p:cNvSpPr/>
            <p:nvPr/>
          </p:nvSpPr>
          <p:spPr>
            <a:xfrm>
              <a:off x="6858000" y="1905120"/>
              <a:ext cx="193680" cy="1951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16"/>
            <p:cNvSpPr/>
            <p:nvPr/>
          </p:nvSpPr>
          <p:spPr>
            <a:xfrm>
              <a:off x="6705720" y="1066680"/>
              <a:ext cx="193680" cy="1954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Text Box 17"/>
            <p:cNvSpPr/>
            <p:nvPr/>
          </p:nvSpPr>
          <p:spPr>
            <a:xfrm>
              <a:off x="6027840" y="50292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7780320" y="29718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 Box 19"/>
            <p:cNvSpPr/>
            <p:nvPr/>
          </p:nvSpPr>
          <p:spPr>
            <a:xfrm>
              <a:off x="4275000" y="243828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Text Box 20"/>
            <p:cNvSpPr/>
            <p:nvPr/>
          </p:nvSpPr>
          <p:spPr>
            <a:xfrm>
              <a:off x="5951520" y="6858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4883760" y="2286000"/>
              <a:ext cx="700560" cy="246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000 af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22"/>
            <p:cNvSpPr/>
            <p:nvPr/>
          </p:nvSpPr>
          <p:spPr>
            <a:xfrm>
              <a:off x="5798160" y="1143000"/>
              <a:ext cx="700560" cy="246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000 af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30"/>
          <p:cNvGrpSpPr/>
          <p:nvPr/>
        </p:nvGrpSpPr>
        <p:grpSpPr>
          <a:xfrm>
            <a:off x="2895480" y="990720"/>
            <a:ext cx="2057400" cy="847080"/>
            <a:chOff x="2895480" y="990720"/>
            <a:chExt cx="2057400" cy="847080"/>
          </a:xfrm>
        </p:grpSpPr>
        <p:sp>
          <p:nvSpPr>
            <p:cNvPr id="71" name="Rectangle 28"/>
            <p:cNvSpPr/>
            <p:nvPr/>
          </p:nvSpPr>
          <p:spPr>
            <a:xfrm>
              <a:off x="2895480" y="990720"/>
              <a:ext cx="2057400" cy="8380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5"/>
            <p:cNvSpPr/>
            <p:nvPr/>
          </p:nvSpPr>
          <p:spPr>
            <a:xfrm>
              <a:off x="2971800" y="1371600"/>
              <a:ext cx="152280" cy="1522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26"/>
            <p:cNvSpPr/>
            <p:nvPr/>
          </p:nvSpPr>
          <p:spPr>
            <a:xfrm>
              <a:off x="2971800" y="1143000"/>
              <a:ext cx="152280" cy="15228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7"/>
            <p:cNvSpPr/>
            <p:nvPr/>
          </p:nvSpPr>
          <p:spPr>
            <a:xfrm>
              <a:off x="3200400" y="1066680"/>
              <a:ext cx="1752480" cy="77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WS Precipitation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USGS Streamflow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RCS Snowpack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AutoShape 29"/>
            <p:cNvSpPr/>
            <p:nvPr/>
          </p:nvSpPr>
          <p:spPr>
            <a:xfrm>
              <a:off x="2971800" y="1600200"/>
              <a:ext cx="182520" cy="182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lan Implement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601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 2001 – Plan completed with USBR gr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ly for lands in Zuni River Basin in New Mexico since other lands sen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hasizes long-term mitigation to reduce risk and minimize response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formal committees; Water Resources leads other Tribal, BIA &amp; IHS progra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2002 – Monitoring reports started month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marizes federal data in Basin and Plan indices, which use only federal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ndard Palmer Drought Severity Index from NOAA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stomized precipitation (3 NOAA stations) &amp; streamflow (1 USGS station) ind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nthly levels and volumes of 10 reservoirs collected by Zu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.S. Drought Monitor &amp; SPI; no forecasting in consideration of drought tabo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2002 – Drought Emergency decl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acts to farming, ranching, construction &amp; municipal system from water hau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ponse focused on development of water hauling sites and system restri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ly 2006 – Drought Emergency decl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acts mostly to farming and ranching but then record rainfall hel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ponse focused on improvements at ranch livestock watering s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ssues, Challenges &amp; Lessons Learn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601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ltural taboo to “plan” for drought; public involvement tric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itivity of water data due to unadjudicated water r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ing collection of monitoring data and updating of i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ling the need for a Plan as a worthy investment                (No Tribal contingency plans for other hazards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is needed to help ourselves since minimal assistance is available just for drought, even with a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out buy-in by all at every step, Plan will remain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ing typical fate of plans doomed to the booksh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ssues, Challenges &amp; Lessons Learn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601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k increased by Tribal “financial and political” drought;          (lack of water rights, development- esp. groundwater, maintenance, &amp; management policies and resourc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ught magnifies weaknesses in physical infrastructure, natural resources management &amp; governmental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weaknesses have increased risk but also endu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norm of having little, relying on gover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ment norm of inadequate resources, always reac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short-term relief that increases vulnerability, dependence on government, and “new” program work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hasize long-term mitigation that supports better resource management, land user self-reliance, &amp; “existing” work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eeds and Opportun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601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funding and support for federal basic data col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 USGS cost-share to 50% for g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place NOAA stations (USHCN-M) on Tribal trust la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ance of “abandoned” stations until find new coope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ibe can provide in-kind services, if trained, to reduce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date and enhance Plan’s customized i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stage triggering criteria and usefulness of longer time peri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stance with production of indices and delivery of monthly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use of Zuni data and other available indices and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ni collecting precipitation, reservoir, spring &amp; groundwater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stance with processing and analyzing Zuni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ier funding for response; more funding for mitig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resources, personnel; allow federal funding for pers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6:56:50Z</dcterms:created>
  <dc:creator>Kirk Bemis</dc:creator>
  <dc:description/>
  <dc:language>en-US</dc:language>
  <cp:lastModifiedBy>Tom Iseman</cp:lastModifiedBy>
  <dcterms:modified xsi:type="dcterms:W3CDTF">2010-09-14T16:16:47Z</dcterms:modified>
  <cp:revision>394</cp:revision>
  <dc:subject/>
  <dc:title>PowerPoint Presentation</dc:title>
</cp:coreProperties>
</file>