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6012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46160" y="680760"/>
            <a:ext cx="476568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6CCC-B160-4189-A6AA-562AA9534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83D7-F9A5-4EA3-8C15-C38E40FE03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F834-1E04-4166-A43F-A749075B13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-14641560" y="-11799720"/>
            <a:ext cx="17484840" cy="12488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496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08F4-BAAA-4627-8DC3-49FCDA357D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B567-96EE-4E1D-ADB3-ACE789AA12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B305-15AF-4CDE-94C4-4899041F84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A3F5-3DDA-4487-8440-0842C46982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2C6C-DE4C-4CBB-A990-5E986249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413064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0ECC-887A-406D-84C5-C19CE6DE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BD63-5197-4CF2-8A05-3877650F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7CAC-8E9C-4DD6-A0CC-3156BE65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69D6-A399-4FB3-ADE2-D2860238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75F6-8F6A-46C0-B571-F551E773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5854-7862-45B1-80DB-23C1D5F8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F6BC-15E8-4CDA-8771-8323F8C4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609120"/>
            <a:ext cx="815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F979-4504-4860-A93D-852B456A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9854-A383-410D-9CCF-25A92123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A35A-607D-4BF2-A7B9-CDD11F38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474F-4220-4459-9E57-D04EBECD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6248520"/>
            <a:ext cx="200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248520"/>
            <a:ext cx="304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248520"/>
            <a:ext cx="200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50E6-B295-4BCE-BC52-55678A4411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601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Zuni Drought Contingency Plan</a:t>
            </a:r>
            <a:br>
              <a:rPr sz="4000"/>
            </a:b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00040" y="2209320"/>
            <a:ext cx="5870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rk Bemis, Hydrolog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 Resources S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ervation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uni Tribe, New Mex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14480" y="23241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2238480" cy="22096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0" y="4210200"/>
            <a:ext cx="960120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ought , Water, and Climate Worksh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estern Governors’ Association and Western States Water Counci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ptember 14-15,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shington, D.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ZuniLocationAZNM_Fisheries"/>
          <p:cNvPicPr/>
          <p:nvPr/>
        </p:nvPicPr>
        <p:blipFill>
          <a:blip r:embed="rId1"/>
          <a:stretch/>
        </p:blipFill>
        <p:spPr>
          <a:xfrm>
            <a:off x="228600" y="-152280"/>
            <a:ext cx="9220320" cy="712476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32"/>
          <p:cNvGrpSpPr/>
          <p:nvPr/>
        </p:nvGrpSpPr>
        <p:grpSpPr>
          <a:xfrm>
            <a:off x="4275000" y="685800"/>
            <a:ext cx="4100400" cy="4735440"/>
            <a:chOff x="4275000" y="685800"/>
            <a:chExt cx="4100400" cy="4735440"/>
          </a:xfrm>
        </p:grpSpPr>
        <p:sp>
          <p:nvSpPr>
            <p:cNvPr id="55" name="Oval 8"/>
            <p:cNvSpPr/>
            <p:nvPr/>
          </p:nvSpPr>
          <p:spPr>
            <a:xfrm>
              <a:off x="5791320" y="5257800"/>
              <a:ext cx="161640" cy="16344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7543800" y="2895480"/>
              <a:ext cx="162000" cy="16380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10"/>
            <p:cNvSpPr/>
            <p:nvPr/>
          </p:nvSpPr>
          <p:spPr>
            <a:xfrm>
              <a:off x="4876920" y="2819520"/>
              <a:ext cx="161640" cy="16488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11"/>
            <p:cNvSpPr/>
            <p:nvPr/>
          </p:nvSpPr>
          <p:spPr>
            <a:xfrm>
              <a:off x="6553080" y="990720"/>
              <a:ext cx="162000" cy="16344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5486400" y="2590920"/>
              <a:ext cx="160200" cy="1634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6324480" y="1523880"/>
              <a:ext cx="162000" cy="1652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AutoShape 14"/>
            <p:cNvSpPr/>
            <p:nvPr/>
          </p:nvSpPr>
          <p:spPr>
            <a:xfrm>
              <a:off x="7086600" y="1371600"/>
              <a:ext cx="192240" cy="1969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AutoShape 15"/>
            <p:cNvSpPr/>
            <p:nvPr/>
          </p:nvSpPr>
          <p:spPr>
            <a:xfrm>
              <a:off x="6858000" y="1905120"/>
              <a:ext cx="193680" cy="1951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AutoShape 16"/>
            <p:cNvSpPr/>
            <p:nvPr/>
          </p:nvSpPr>
          <p:spPr>
            <a:xfrm>
              <a:off x="6705720" y="1066680"/>
              <a:ext cx="193680" cy="1954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Text Box 17"/>
            <p:cNvSpPr/>
            <p:nvPr/>
          </p:nvSpPr>
          <p:spPr>
            <a:xfrm>
              <a:off x="6027840" y="5029200"/>
              <a:ext cx="595080" cy="24624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 in/y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Text Box 18"/>
            <p:cNvSpPr/>
            <p:nvPr/>
          </p:nvSpPr>
          <p:spPr>
            <a:xfrm>
              <a:off x="7780320" y="2971800"/>
              <a:ext cx="595080" cy="24624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 in/y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Text Box 19"/>
            <p:cNvSpPr/>
            <p:nvPr/>
          </p:nvSpPr>
          <p:spPr>
            <a:xfrm>
              <a:off x="4275000" y="2438280"/>
              <a:ext cx="595080" cy="24624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 in/y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Text Box 20"/>
            <p:cNvSpPr/>
            <p:nvPr/>
          </p:nvSpPr>
          <p:spPr>
            <a:xfrm>
              <a:off x="5951520" y="685800"/>
              <a:ext cx="595080" cy="24624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 in/y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Text Box 21"/>
            <p:cNvSpPr/>
            <p:nvPr/>
          </p:nvSpPr>
          <p:spPr>
            <a:xfrm>
              <a:off x="4883760" y="2286000"/>
              <a:ext cx="700560" cy="2462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,000 af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Text Box 22"/>
            <p:cNvSpPr/>
            <p:nvPr/>
          </p:nvSpPr>
          <p:spPr>
            <a:xfrm>
              <a:off x="5798160" y="1143000"/>
              <a:ext cx="700560" cy="2462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,000 af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Group 30"/>
          <p:cNvGrpSpPr/>
          <p:nvPr/>
        </p:nvGrpSpPr>
        <p:grpSpPr>
          <a:xfrm>
            <a:off x="2895480" y="990720"/>
            <a:ext cx="2057400" cy="847080"/>
            <a:chOff x="2895480" y="990720"/>
            <a:chExt cx="2057400" cy="847080"/>
          </a:xfrm>
        </p:grpSpPr>
        <p:sp>
          <p:nvSpPr>
            <p:cNvPr id="71" name="Rectangle 28"/>
            <p:cNvSpPr/>
            <p:nvPr/>
          </p:nvSpPr>
          <p:spPr>
            <a:xfrm>
              <a:off x="2895480" y="990720"/>
              <a:ext cx="2057400" cy="83808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25"/>
            <p:cNvSpPr/>
            <p:nvPr/>
          </p:nvSpPr>
          <p:spPr>
            <a:xfrm>
              <a:off x="2971800" y="1371600"/>
              <a:ext cx="152280" cy="15228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26"/>
            <p:cNvSpPr/>
            <p:nvPr/>
          </p:nvSpPr>
          <p:spPr>
            <a:xfrm>
              <a:off x="2971800" y="1143000"/>
              <a:ext cx="152280" cy="15228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27"/>
            <p:cNvSpPr/>
            <p:nvPr/>
          </p:nvSpPr>
          <p:spPr>
            <a:xfrm>
              <a:off x="3200400" y="1066680"/>
              <a:ext cx="1752480" cy="77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WS Precipitation Station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USGS Streamflow Station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RCS Snowpack Station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AutoShape 29"/>
            <p:cNvSpPr/>
            <p:nvPr/>
          </p:nvSpPr>
          <p:spPr>
            <a:xfrm>
              <a:off x="2971800" y="1600200"/>
              <a:ext cx="182520" cy="182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lan Implement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601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 2001 – Plan completed with USBR gr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ly for lands in Zuni River Basin in New Mexico since other lands sensi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phasizes long-term mitigation to reduce risk and minimize response n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formal committees; Water Resources leads other Tribal, BIA &amp; IHS program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2002 – Monitoring reports started month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marizes federal data in Basin and Plan indices, which use only federal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ndard Palmer Drought Severity Index from NOAA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stomized precipitation (3 NOAA stations) &amp; streamflow (1 USGS station) ind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nthly levels and volumes of 10 reservoirs collected by Zu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.S. Drought Monitor &amp; SPI; no forecasting in consideration of drought tabo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2002 – Drought Emergency decl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acts to farming, ranching, construction &amp; municipal system from water hau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ponse focused on development of water hauling sites and system restri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ly 2006 – Drought Emergency decl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acts mostly to farming and ranching but then record rainfall hel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ponse focused on improvements at ranch livestock watering s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ssues, Challenges &amp; Lessons Learne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601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ltural taboo to “plan” for drought; public involvement tric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itivity of water data due to unadjudicated water righ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ing collection of monitoring data and updating of ind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ling the need for a Plan as a worthy investment                (No Tribal contingency plans for other hazards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is needed to help ourselves since minimal assistance is available just for drought, even with a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out buy-in by all at every step, Plan will remain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ing typical fate of plans doomed to the booksh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ssues, Challenges &amp; Lessons Learne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601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sk increased by Tribal “financial and political” drought;          (lack of water rights, development- esp. groundwater, maintenance, &amp; management policies and resourc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ought magnifies weaknesses in physical infrastructure, natural resources management &amp; governmental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weaknesses have increased risk but also endu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ty norm of having little, relying on gover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vernment norm of inadequate resources, always reac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ize short-term relief that increases vulnerability, dependence on government, and “new” program work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hasize long-term mitigation that supports better resource management, land user self-reliance, &amp; “existing” work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eeds and Opportunit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601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funding and support for federal basic data col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 USGS cost-share to 50% for g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ility to place NOAA stations (USHCN-M) on Tribal trust la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ance of “abandoned” stations until find new cooper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ibe can provide in-kind services, if trained, to reduce c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date and enhance Plan’s customized ind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stage triggering criteria and usefulness of longer time peri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stance with production of indices and delivery of monthly 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use of Zuni data and other available indices and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uni collecting precipitation, reservoir, spring &amp; groundwater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stance with processing and analyzing Zuni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ier funding for response; more funding for mitig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resources, personnel; allow federal funding for perso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16:56:50Z</dcterms:created>
  <dc:creator>Kirk Bemis</dc:creator>
  <dc:description/>
  <dc:language>en-US</dc:language>
  <cp:lastModifiedBy>Tom Iseman</cp:lastModifiedBy>
  <dcterms:modified xsi:type="dcterms:W3CDTF">2010-09-14T16:16:47Z</dcterms:modified>
  <cp:revision>394</cp:revision>
  <dc:subject/>
  <dc:title>PowerPoint Presentation</dc:title>
</cp:coreProperties>
</file>