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91208-9AFE-4919-B4D4-E681058D1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this type of file cabinet be helpful?  Already done? Discuss Sonoran.  AWEA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them add to these two specific lists--flip ch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, have them identify other KEY CATAGORIES--like public engagement--put on flip chart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ut orange stickies (I have--they are 9x6).  Ask them to write down specific items under these categories that would be useful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ste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ering Committee--take volunteers.  Identify contractor?  Go forth and set up specific area and test?  Demo at next meeting?  Demo before go public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the idea?  If so, don’t want to have a detailed conversation on which specific blog software would be best.  (But welcome those sugges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se the key topics?  Dots as they exit on what they would personally participate i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4E86-591F-4C8F-B39F-B2283F5C5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59FB-A9C6-4378-924E-E044ABBF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9C30-A595-46B9-97F6-C5EE44E6D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8088-2689-4312-82F3-6701160A7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99BC4-34F2-4F6C-9347-70FBF20FA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88FCD-4BE9-4017-B7AD-A819C4B7E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9B70D-20E3-4661-AA8B-FFB91538E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526D3-F300-4700-9006-08DF3E42B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ED4B8-4325-475E-B896-FE5F0FAAC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30492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7046E-4BA7-4E62-B8C6-1E1203A1D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12BF7-3CED-4299-9C19-5C1F1402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4543-30D4-46FE-97CA-E7317E023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ED367-CEDC-422A-93FC-77323263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E9A24-24DD-44BC-A1BB-C331D3F70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28B25-F0DE-42F0-BF94-84B0FEE9D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2C472-4FA5-45BA-9E78-C99827A37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93341-B1A4-4A7A-989E-A45108A14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5DC1-5474-4822-8257-23733DDC0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897A-B8BC-4B86-A8C8-FE98331D6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4CCD-8983-40D2-8258-20918D62B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8080" y="30492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D5CC-0520-434D-A61E-6BD17BE94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D620-F325-4B93-9C00-8E32694B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6232-DB2E-42EF-955E-0896CD29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158B-F064-4CFF-911D-BC4CF05F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62120" y="152280"/>
            <a:ext cx="7696080" cy="1067040"/>
            <a:chOff x="762120" y="152280"/>
            <a:chExt cx="7696080" cy="1067040"/>
          </a:xfrm>
        </p:grpSpPr>
        <p:sp>
          <p:nvSpPr>
            <p:cNvPr id="1" name=""/>
            <p:cNvSpPr/>
            <p:nvPr/>
          </p:nvSpPr>
          <p:spPr>
            <a:xfrm>
              <a:off x="762120" y="152280"/>
              <a:ext cx="7696080" cy="106704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153753" dir="2700000" blurRad="0" rotWithShape="0">
                <a:srgbClr val="93939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81720" y="1219320"/>
              <a:ext cx="7243200" cy="0"/>
            </a:xfrm>
            <a:prstGeom prst="line">
              <a:avLst/>
            </a:prstGeom>
            <a:ln w="284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685800" y="1371600"/>
            <a:ext cx="7772400" cy="304920"/>
            <a:chOff x="685800" y="1371600"/>
            <a:chExt cx="7772400" cy="304920"/>
          </a:xfrm>
        </p:grpSpPr>
        <p:sp>
          <p:nvSpPr>
            <p:cNvPr id="4" name=""/>
            <p:cNvSpPr/>
            <p:nvPr/>
          </p:nvSpPr>
          <p:spPr>
            <a:xfrm>
              <a:off x="685800" y="1371600"/>
              <a:ext cx="7772400" cy="304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c5611"/>
                </a:gs>
                <a:gs pos="50000">
                  <a:srgbClr val="ff7518"/>
                </a:gs>
                <a:gs pos="100000">
                  <a:srgbClr val="bc5611"/>
                </a:gs>
              </a:gsLst>
              <a:lin ang="5400000"/>
            </a:gradFill>
            <a:ln w="0">
              <a:noFill/>
            </a:ln>
            <a:effectLst>
              <a:outerShdw dist="10152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>
              <a:off x="828720" y="1390320"/>
              <a:ext cx="7496280" cy="46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7518"/>
                </a:gs>
                <a:gs pos="50000">
                  <a:srgbClr val="ffffff"/>
                </a:gs>
                <a:gs pos="100000">
                  <a:srgbClr val="ff75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99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spcBef>
                <a:spcPts val="799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B7645-0C8C-45A5-8B3A-A298A4AB3F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853380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762120" y="1676520"/>
            <a:ext cx="7696080" cy="1675800"/>
            <a:chOff x="762120" y="1676520"/>
            <a:chExt cx="7696080" cy="1675800"/>
          </a:xfrm>
        </p:grpSpPr>
        <p:sp>
          <p:nvSpPr>
            <p:cNvPr id="50" name=""/>
            <p:cNvSpPr/>
            <p:nvPr/>
          </p:nvSpPr>
          <p:spPr>
            <a:xfrm>
              <a:off x="762120" y="1676520"/>
              <a:ext cx="7696080" cy="167580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153753" dir="2700000" blurRad="0" rotWithShape="0">
                <a:srgbClr val="93939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81720" y="3352320"/>
              <a:ext cx="7243200" cy="0"/>
            </a:xfrm>
            <a:prstGeom prst="line">
              <a:avLst/>
            </a:prstGeom>
            <a:ln w="284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85800" y="3505320"/>
            <a:ext cx="7772400" cy="304560"/>
            <a:chOff x="685800" y="3505320"/>
            <a:chExt cx="7772400" cy="304560"/>
          </a:xfrm>
        </p:grpSpPr>
        <p:sp>
          <p:nvSpPr>
            <p:cNvPr id="53" name=""/>
            <p:cNvSpPr/>
            <p:nvPr/>
          </p:nvSpPr>
          <p:spPr>
            <a:xfrm>
              <a:off x="685800" y="3505320"/>
              <a:ext cx="7772400" cy="30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c5611"/>
                </a:gs>
                <a:gs pos="50000">
                  <a:srgbClr val="ff7518"/>
                </a:gs>
                <a:gs pos="100000">
                  <a:srgbClr val="bc5611"/>
                </a:gs>
              </a:gsLst>
              <a:lin ang="5400000"/>
            </a:gradFill>
            <a:ln w="0">
              <a:noFill/>
            </a:ln>
            <a:effectLst>
              <a:outerShdw dist="10152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828720" y="3522960"/>
              <a:ext cx="7496280" cy="45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7518"/>
                </a:gs>
                <a:gs pos="50000">
                  <a:srgbClr val="ffffff"/>
                </a:gs>
                <a:gs pos="100000">
                  <a:srgbClr val="ff75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20574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56E09-AB99-4055-BF02-EF98B1C8B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853380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7518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20574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Launching a WGA </a:t>
            </a:r>
            <a:br>
              <a:rPr sz="4400"/>
            </a:b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Information Exchange 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tober 2, 20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Likely Tools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ine File Cabi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ine SWAT t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shops/Webinars/Train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380F-C2D6-4364-BCD6-10E5F19153C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Online File Cabinet:</a:t>
            </a:r>
            <a:br>
              <a:rPr sz="4400"/>
            </a:b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Need?  Users?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REGULATORY COMPLI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amples of analysis of socioeconomic benefits and economic benefit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amples of SHPO response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tigation efforts, broken down by category (e.g., plants, specie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ormwater pollution prevention plan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7960" y="18288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UBLIC ENG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Q’s Citizens’ Guide to NEPA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blic fact sheets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amples of effective newsletter sent to communitie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w landowner compensation strategies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D8A2-B221-44A9-A15B-9F9DA05BC1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riteria for Online File Cabinet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fer 20 examples or 2 good ones?  Who pick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ly availab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Group or WGA lead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plicate other sites or links to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criteria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249A-31C8-4AF6-8D00-B9B50A6391E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Next Steps Re: </a:t>
            </a:r>
            <a:br>
              <a:rPr sz="4400"/>
            </a:b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Online File Cabinet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ther input, organize and let you review, and add to list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Committ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act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 at next meet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DEA9-0D60-42B7-9290-F8114D43B8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Online SWAT Team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ic Conce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ck on a problem.  (e.g, NGO wants PROOF that the line will be green.  FERC 890--can’t restrict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tility (or NGO or government) posts summary of problem to diverse group (twitter, list-serve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those with interest and ideas, can click and go to blog on topic.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g starts with more detailed information on problem and allows for conversation and inpu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GA monitors blog for productivity and to pull out any documents or ideas that should go in the on-line file cabinet.  (e.g., Gateway posted online who thei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ikel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ubscribers would be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F962-12D6-4D2D-B12A-55110D2D6EB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Online SWAT Team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?/Audience (public or not)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teria for succes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tea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acto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onstration at next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A6AB-CF6D-47AE-A12B-39A050F7EB1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6960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WGA Workshops, </a:t>
            </a:r>
            <a:br>
              <a:rPr sz="4400"/>
            </a:b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Webinars, and Trainings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9456"/>
                </a:solidFill>
                <a:latin typeface="Arial"/>
              </a:rPr>
              <a:t>Need?  Audience?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e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-yearly calls: Update on RRTT Status, Federal Plan activ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inar: FERC Order 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kshop:  368 Corridor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7960" y="18288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ublic Eng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kshop: Landowner Reimburs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ining:  Electricity 1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inar:  Mechanisms to fund state staff re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kshop or regular webinars:  New Public Outreach Strate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41E0-86DF-402C-B1DE-E34F61D0483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Webinars, Workshops, Trainings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teria for Succes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 Steps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GA propose schedule of events for next calendar ye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icit feedback on dates, speakers, ti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Group by topic or WGA le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6275-BF9C-47EE-B30C-E0D33207818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7T17:09:55Z</dcterms:created>
  <dc:creator>Kristi Celico</dc:creator>
  <dc:description/>
  <dc:language>en-US</dc:language>
  <cp:lastModifiedBy>Kristi Celico</cp:lastModifiedBy>
  <cp:lastPrinted>2012-09-28T21:04:02Z</cp:lastPrinted>
  <dcterms:modified xsi:type="dcterms:W3CDTF">2012-09-28T21:04:22Z</dcterms:modified>
  <cp:revision>3</cp:revision>
  <dc:subject/>
  <dc:title>Launching a WGA  Information Exchange </dc:title>
</cp:coreProperties>
</file>