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7518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61560-5841-4ABF-94C7-6F7BB5A593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uld this type of file cabinet be helpful?  Already done? Discuss Sonoran.  AWEA s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them add to these two specific lists--flip ch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xt, have them identify other KEY CATAGORIES--like public engagement--put on flip charts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ut orange stickies (I have--they are 9x6).  Ask them to write down specific items under these categories that would be useful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sible step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ering Committee--take volunteers.  Identify contractor?  Go forth and set up specific area and test?  Demo at next meeting?  Demo before go public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ke the idea?  If so, don’t want to have a detailed conversation on which specific blog software would be best.  (But welcome those suggestio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these the key topics?  Dots as they exit on what they would personally participate in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2A500-2FEF-42A7-8232-6DA155EA1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85800" y="41770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7C737-EE6A-4006-8D0E-685E93563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770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68480" y="41770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B338B-646F-4DD1-A2E7-DC001CA6E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685800" y="41770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313800" y="41770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941440" y="41770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C7195-A7A1-4841-A4A8-B2F95865A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D88A3-713E-4815-9C36-2CFF52C9B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E7BF7-5AA7-4864-B961-D5B36E615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F98BC-63C2-46A9-B427-8DF5E6807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F8273-1EBC-4B1C-BEBA-D82EFD630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43824-0688-4639-93B5-B4D0C56D9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838080" y="304920"/>
            <a:ext cx="74678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D3787-22BD-4BAC-A7B2-B63A49968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770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36456-2FB2-420F-8197-92A8A6B8F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359DF-DAD0-43FE-8581-707805ECE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68480" y="41770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B7777-41C9-41AB-B268-20D21A86A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1770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B264E-7592-43C0-A409-810F5EE42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800" y="41770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F812F-9A04-4461-AD74-C3D19BA82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800" y="41770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68480" y="41770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210C5-4724-4DFF-9D3F-FFA7B861C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800" y="41770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13800" y="41770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941440" y="41770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28C77-BCA8-4504-B542-8C1FBC610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70E4A-3304-4CBD-8E75-7A63A83C3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A28E3-73B5-4924-9B87-3308443D7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32897-4D4B-4513-B3AB-FFE508525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838080" y="304920"/>
            <a:ext cx="74678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28BEC-9C1F-4FE3-BCBE-5E09C728C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770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016E5-EE89-4BD1-93A9-114AB5A70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68480" y="41770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A07A3-5DD2-4A22-98DA-8011FD957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770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2D4E7-6422-4884-B9BD-D3157F395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762120" y="152280"/>
            <a:ext cx="7696080" cy="1067040"/>
            <a:chOff x="762120" y="152280"/>
            <a:chExt cx="7696080" cy="1067040"/>
          </a:xfrm>
        </p:grpSpPr>
        <p:sp>
          <p:nvSpPr>
            <p:cNvPr id="1" name=""/>
            <p:cNvSpPr/>
            <p:nvPr/>
          </p:nvSpPr>
          <p:spPr>
            <a:xfrm>
              <a:off x="762120" y="152280"/>
              <a:ext cx="7696080" cy="1067040"/>
            </a:xfrm>
            <a:prstGeom prst="roundRect">
              <a:avLst>
                <a:gd name="adj" fmla="val 16667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  <a:effectLst>
              <a:outerShdw dist="153753" dir="2700000" blurRad="0" rotWithShape="0">
                <a:srgbClr val="93939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981720" y="1219320"/>
              <a:ext cx="7243200" cy="0"/>
            </a:xfrm>
            <a:prstGeom prst="line">
              <a:avLst/>
            </a:prstGeom>
            <a:ln w="28440">
              <a:solidFill>
                <a:srgbClr val="eeeee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"/>
          <p:cNvGrpSpPr/>
          <p:nvPr/>
        </p:nvGrpSpPr>
        <p:grpSpPr>
          <a:xfrm>
            <a:off x="685800" y="1371600"/>
            <a:ext cx="7772400" cy="304920"/>
            <a:chOff x="685800" y="1371600"/>
            <a:chExt cx="7772400" cy="304920"/>
          </a:xfrm>
        </p:grpSpPr>
        <p:sp>
          <p:nvSpPr>
            <p:cNvPr id="4" name=""/>
            <p:cNvSpPr/>
            <p:nvPr/>
          </p:nvSpPr>
          <p:spPr>
            <a:xfrm>
              <a:off x="685800" y="1371600"/>
              <a:ext cx="7772400" cy="304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c5611"/>
                </a:gs>
                <a:gs pos="50000">
                  <a:srgbClr val="ff7518"/>
                </a:gs>
                <a:gs pos="100000">
                  <a:srgbClr val="bc5611"/>
                </a:gs>
              </a:gsLst>
              <a:lin ang="5400000"/>
            </a:gradFill>
            <a:ln w="0">
              <a:noFill/>
            </a:ln>
            <a:effectLst>
              <a:outerShdw dist="101520" dir="54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>
              <a:off x="828720" y="1390320"/>
              <a:ext cx="7496280" cy="460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7518"/>
                </a:gs>
                <a:gs pos="50000">
                  <a:srgbClr val="ffffff"/>
                </a:gs>
                <a:gs pos="100000">
                  <a:srgbClr val="ff751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751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99"/>
              </a:spcBef>
              <a:buClr>
                <a:srgbClr val="ff751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51960" indent="-221400">
              <a:spcBef>
                <a:spcPts val="799"/>
              </a:spcBef>
              <a:buClr>
                <a:srgbClr val="ff751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995480" indent="-2214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6A4A9-F826-4D1F-8891-AA03E77F30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0" y="76320"/>
            <a:ext cx="609480" cy="6629400"/>
          </a:xfrm>
          <a:prstGeom prst="flowChartDelay">
            <a:avLst/>
          </a:prstGeom>
          <a:solidFill>
            <a:srgbClr val="aaaaaa">
              <a:alpha val="50000"/>
            </a:srgbClr>
          </a:solidFill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"/>
          <p:cNvSpPr/>
          <p:nvPr/>
        </p:nvSpPr>
        <p:spPr>
          <a:xfrm flipH="1">
            <a:off x="8533800" y="76320"/>
            <a:ext cx="609480" cy="6629400"/>
          </a:xfrm>
          <a:prstGeom prst="flowChartDelay">
            <a:avLst/>
          </a:prstGeom>
          <a:solidFill>
            <a:srgbClr val="aaaaaa">
              <a:alpha val="50000"/>
            </a:srgbClr>
          </a:solidFill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762120" y="1676520"/>
            <a:ext cx="7696080" cy="1675800"/>
            <a:chOff x="762120" y="1676520"/>
            <a:chExt cx="7696080" cy="1675800"/>
          </a:xfrm>
        </p:grpSpPr>
        <p:sp>
          <p:nvSpPr>
            <p:cNvPr id="50" name=""/>
            <p:cNvSpPr/>
            <p:nvPr/>
          </p:nvSpPr>
          <p:spPr>
            <a:xfrm>
              <a:off x="762120" y="1676520"/>
              <a:ext cx="7696080" cy="1675800"/>
            </a:xfrm>
            <a:prstGeom prst="roundRect">
              <a:avLst>
                <a:gd name="adj" fmla="val 16667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  <a:effectLst>
              <a:outerShdw dist="153753" dir="2700000" blurRad="0" rotWithShape="0">
                <a:srgbClr val="93939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981720" y="3352320"/>
              <a:ext cx="7243200" cy="0"/>
            </a:xfrm>
            <a:prstGeom prst="line">
              <a:avLst/>
            </a:prstGeom>
            <a:ln w="28440">
              <a:solidFill>
                <a:srgbClr val="eeeee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85800" y="3505320"/>
            <a:ext cx="7772400" cy="304560"/>
            <a:chOff x="685800" y="3505320"/>
            <a:chExt cx="7772400" cy="304560"/>
          </a:xfrm>
        </p:grpSpPr>
        <p:sp>
          <p:nvSpPr>
            <p:cNvPr id="53" name=""/>
            <p:cNvSpPr/>
            <p:nvPr/>
          </p:nvSpPr>
          <p:spPr>
            <a:xfrm>
              <a:off x="685800" y="3505320"/>
              <a:ext cx="7772400" cy="304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c5611"/>
                </a:gs>
                <a:gs pos="50000">
                  <a:srgbClr val="ff7518"/>
                </a:gs>
                <a:gs pos="100000">
                  <a:srgbClr val="bc5611"/>
                </a:gs>
              </a:gsLst>
              <a:lin ang="5400000"/>
            </a:gradFill>
            <a:ln w="0">
              <a:noFill/>
            </a:ln>
            <a:effectLst>
              <a:outerShdw dist="101520" dir="54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828720" y="3522960"/>
              <a:ext cx="7496280" cy="45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7518"/>
                </a:gs>
                <a:gs pos="50000">
                  <a:srgbClr val="ffffff"/>
                </a:gs>
                <a:gs pos="100000">
                  <a:srgbClr val="ff751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2057400"/>
            <a:ext cx="7391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751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CAAFF-8B19-4ACA-80ED-4FD8D4A361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0" y="76320"/>
            <a:ext cx="609480" cy="6629400"/>
          </a:xfrm>
          <a:prstGeom prst="flowChartDelay">
            <a:avLst/>
          </a:prstGeom>
          <a:solidFill>
            <a:srgbClr val="aaaaaa">
              <a:alpha val="50000"/>
            </a:srgbClr>
          </a:solidFill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8533800" y="76320"/>
            <a:ext cx="609480" cy="6629400"/>
          </a:xfrm>
          <a:prstGeom prst="flowChartDelay">
            <a:avLst/>
          </a:prstGeom>
          <a:solidFill>
            <a:srgbClr val="aaaaaa">
              <a:alpha val="50000"/>
            </a:srgbClr>
          </a:solidFill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7518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2057400"/>
            <a:ext cx="7391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7518"/>
                </a:solidFill>
                <a:latin typeface="Arial"/>
              </a:rPr>
              <a:t>Launching a WGA </a:t>
            </a:r>
            <a:br>
              <a:rPr sz="4400"/>
            </a:br>
            <a:r>
              <a:rPr b="0" lang="en-US" sz="4400" spc="-1" strike="noStrike">
                <a:solidFill>
                  <a:srgbClr val="ff7518"/>
                </a:solidFill>
                <a:latin typeface="Arial"/>
              </a:rPr>
              <a:t>Information Exchange </a:t>
            </a: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ctober 2, 201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7518"/>
                </a:solidFill>
                <a:latin typeface="Arial"/>
              </a:rPr>
              <a:t>Likely Tools</a:t>
            </a: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line File Cabin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line SWAT te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kshops/Webinars/Train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2C7EE-8CF1-48FE-B023-09B8F9E0378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7518"/>
                </a:solidFill>
                <a:latin typeface="Arial"/>
              </a:rPr>
              <a:t>Online File Cabinet:</a:t>
            </a:r>
            <a:br>
              <a:rPr sz="4400"/>
            </a:br>
            <a:r>
              <a:rPr b="0" lang="en-US" sz="4400" spc="-1" strike="noStrike">
                <a:solidFill>
                  <a:srgbClr val="ff7518"/>
                </a:solidFill>
                <a:latin typeface="Arial"/>
              </a:rPr>
              <a:t>Need?  Users?</a:t>
            </a: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REGULATORY COMPLI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xamples of analysis of socioeconomic benefits and economic benefits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xamples of SHPO responses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tigation efforts, broken down by category (e.g., plants, species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tormwater pollution prevention plans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47960" y="182880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PUBLIC ENG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EQ’s Citizens’ Guide to NEPA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blic fact sheets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xamples of effective newsletter sent to communities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ew landowner compensation strategies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1EC9F-8990-4728-B690-DEFE03B925E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7518"/>
                </a:solidFill>
                <a:latin typeface="Arial"/>
              </a:rPr>
              <a:t>Criteria for Online File Cabinet</a:t>
            </a: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fer 20 examples or 2 good ones?  Who pick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blicly availabl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view Group or WGA lead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uplicate other sites or links to?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her criteria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B5F7D-B7E4-433A-95C4-456FE810606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7518"/>
                </a:solidFill>
                <a:latin typeface="Arial"/>
              </a:rPr>
              <a:t>Next Steps Re: </a:t>
            </a:r>
            <a:br>
              <a:rPr sz="4400"/>
            </a:br>
            <a:r>
              <a:rPr b="0" lang="en-US" sz="4400" spc="-1" strike="noStrike">
                <a:solidFill>
                  <a:srgbClr val="ff7518"/>
                </a:solidFill>
                <a:latin typeface="Arial"/>
              </a:rPr>
              <a:t>Online File Cabinet</a:t>
            </a: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ther input, organize and let you review, and add to list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view Committe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racto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mo at next meeting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81F70-B5E7-4231-ABAB-2D89BB2D665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7518"/>
                </a:solidFill>
                <a:latin typeface="Arial"/>
              </a:rPr>
              <a:t>Online SWAT Team</a:t>
            </a: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ic Conce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uck on a problem.  (e.g, NGO wants PROOF that the line will be green.  FERC 890--can’t restrict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tility (or NGO or government) posts summary of problem to diverse group (twitter, list-serve?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those with interest and ideas, can click and go to blog on topic.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log starts with more detailed information on problem and allows for conversation and input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GA monitors blog for productivity and to pull out any documents or ideas that should go in the on-line file cabinet.  (e.g., Gateway posted online who their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likel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ubscribers would be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4E5A7-FE13-47F0-AFB3-1B99D9428A3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7518"/>
                </a:solidFill>
                <a:latin typeface="Arial"/>
              </a:rPr>
              <a:t>Online SWAT Team</a:t>
            </a: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?/Audience (public or not)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iteria for succes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xt Ste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751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view team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751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racto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751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monstration at next mee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09B16-BE71-4270-B740-E4754E22C71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769608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7518"/>
                </a:solidFill>
                <a:latin typeface="Arial"/>
              </a:rPr>
              <a:t>WGA Workshops, </a:t>
            </a:r>
            <a:br>
              <a:rPr sz="4400"/>
            </a:br>
            <a:r>
              <a:rPr b="0" lang="en-US" sz="4400" spc="-1" strike="noStrike">
                <a:solidFill>
                  <a:srgbClr val="ff7518"/>
                </a:solidFill>
                <a:latin typeface="Arial"/>
              </a:rPr>
              <a:t>Webinars, and Trainings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ff9456"/>
                </a:solidFill>
                <a:latin typeface="Arial"/>
              </a:rPr>
              <a:t>Need?  Audience?</a:t>
            </a: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teg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i-yearly calls: Update on RRTT Status, Federal Plan activit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inar: FERC Order 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kshop:  368 Corridor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47960" y="182880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ublic Eng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kshop: Landowner Reimburs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aining:  Electricity 1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inar:  Mechanisms to fund state staff resour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kshop or regular webinars:  New Public Outreach Strate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407D6-B91D-4B73-AFD8-761F125E183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7518"/>
                </a:solidFill>
                <a:latin typeface="Arial"/>
              </a:rPr>
              <a:t>Webinars, Workshops, Trainings</a:t>
            </a: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iteria for Succes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xt Steps: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751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GA propose schedule of events for next calendar yea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751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licit feedback on dates, speakers, ti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751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view Group by topic or WGA lea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90A07-4490-459D-93EA-2B1AA24B780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7T17:09:55Z</dcterms:created>
  <dc:creator>Kristi Celico</dc:creator>
  <dc:description/>
  <dc:language>en-US</dc:language>
  <cp:lastModifiedBy>Kristi Celico</cp:lastModifiedBy>
  <cp:lastPrinted>2012-09-28T21:04:02Z</cp:lastPrinted>
  <dcterms:modified xsi:type="dcterms:W3CDTF">2012-09-28T21:04:22Z</dcterms:modified>
  <cp:revision>3</cp:revision>
  <dc:subject/>
  <dc:title>Launching a WGA  Information Exchange </dc:title>
</cp:coreProperties>
</file>