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B8FE5-C825-4385-8DB9-0B5ECD58A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this type of file cabinet be helpful?  Already done? Discuss Sonoran.  AWEA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them add to these two specific lists--flip ch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, have them identify other KEY CATAGORIES--like public engagement--put on flip chart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ut orange stickies (I have--they are 9x6).  Ask them to write down specific items under these categories that would be useful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ste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ering Committee--take volunteers.  Identify contractor?  Go forth and set up specific area and test?  Demo at next meeting?  Demo before go public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the idea?  If so, don’t want to have a detailed conversation on which specific blog software would be best.  (But welcome those sugges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se the key topics?  Dots as they exit on what they would personally participate i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8790-5B48-447F-A623-5D7CC1526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F29F-1E42-4FBC-8DBD-506B7010C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B354-FF5A-4ABC-8223-6877F7606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6D6F-AC3F-4396-A340-F7CBB36A0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F43D6-8581-46E0-AF87-3C66BFB64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92005-61FE-48C9-937D-535288081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62BD4-C85D-44D0-A37B-87321CD55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AC56B-CA4D-4406-BFB6-587F9A848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8418E-49E9-4C35-8BCE-4F7A217EC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30492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C0703-4F7B-4CC8-8CA7-6C0DDF602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C19EA-C328-49B8-9400-090B2B9F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3316-F172-425C-A04E-D1E16C7FF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BD1DC-BE2E-46CA-8BBD-CA5A6660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2532F-5F7D-46E8-B02E-64FAC6AA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48E81-6684-4119-BB7A-957310BAE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3EC48-947B-4AED-9AF1-06D9EF988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1BDB9-64E7-4FC0-BDE8-104410813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4AF6-0CC8-4C8A-97D2-447F06B43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6A86-3991-4DD2-9AEB-589EFE9D8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EB5E-F493-466E-84F7-336739220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8080" y="30492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0F90-B5A6-4F09-96A6-1A16441F1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7614-B929-4A0F-B7DD-43ACE98F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B0E5-262E-4C3B-8B02-469FCBCE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90E6-62C0-4DC3-B985-2297225C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62120" y="152280"/>
            <a:ext cx="7696080" cy="1067040"/>
            <a:chOff x="762120" y="152280"/>
            <a:chExt cx="7696080" cy="1067040"/>
          </a:xfrm>
        </p:grpSpPr>
        <p:sp>
          <p:nvSpPr>
            <p:cNvPr id="1" name=""/>
            <p:cNvSpPr/>
            <p:nvPr/>
          </p:nvSpPr>
          <p:spPr>
            <a:xfrm>
              <a:off x="762120" y="152280"/>
              <a:ext cx="7696080" cy="106704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153753" dir="2700000" blurRad="0" rotWithShape="0">
                <a:srgbClr val="93939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81720" y="1219320"/>
              <a:ext cx="7243200" cy="0"/>
            </a:xfrm>
            <a:prstGeom prst="line">
              <a:avLst/>
            </a:prstGeom>
            <a:ln w="284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685800" y="1371600"/>
            <a:ext cx="7772400" cy="304920"/>
            <a:chOff x="685800" y="1371600"/>
            <a:chExt cx="7772400" cy="304920"/>
          </a:xfrm>
        </p:grpSpPr>
        <p:sp>
          <p:nvSpPr>
            <p:cNvPr id="4" name=""/>
            <p:cNvSpPr/>
            <p:nvPr/>
          </p:nvSpPr>
          <p:spPr>
            <a:xfrm>
              <a:off x="685800" y="1371600"/>
              <a:ext cx="7772400" cy="304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c5611"/>
                </a:gs>
                <a:gs pos="50000">
                  <a:srgbClr val="ff7518"/>
                </a:gs>
                <a:gs pos="100000">
                  <a:srgbClr val="bc5611"/>
                </a:gs>
              </a:gsLst>
              <a:lin ang="5400000"/>
            </a:gradFill>
            <a:ln w="0">
              <a:noFill/>
            </a:ln>
            <a:effectLst>
              <a:outerShdw dist="10152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>
              <a:off x="828720" y="1390320"/>
              <a:ext cx="7496280" cy="46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7518"/>
                </a:gs>
                <a:gs pos="50000">
                  <a:srgbClr val="ffffff"/>
                </a:gs>
                <a:gs pos="100000">
                  <a:srgbClr val="ff75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99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spcBef>
                <a:spcPts val="799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76A52-6C17-43C4-B3C7-B95A7E1B34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853380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762120" y="1676520"/>
            <a:ext cx="7696080" cy="1675800"/>
            <a:chOff x="762120" y="1676520"/>
            <a:chExt cx="7696080" cy="1675800"/>
          </a:xfrm>
        </p:grpSpPr>
        <p:sp>
          <p:nvSpPr>
            <p:cNvPr id="50" name=""/>
            <p:cNvSpPr/>
            <p:nvPr/>
          </p:nvSpPr>
          <p:spPr>
            <a:xfrm>
              <a:off x="762120" y="1676520"/>
              <a:ext cx="7696080" cy="167580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153753" dir="2700000" blurRad="0" rotWithShape="0">
                <a:srgbClr val="93939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81720" y="3352320"/>
              <a:ext cx="7243200" cy="0"/>
            </a:xfrm>
            <a:prstGeom prst="line">
              <a:avLst/>
            </a:prstGeom>
            <a:ln w="284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85800" y="3505320"/>
            <a:ext cx="7772400" cy="304560"/>
            <a:chOff x="685800" y="3505320"/>
            <a:chExt cx="7772400" cy="304560"/>
          </a:xfrm>
        </p:grpSpPr>
        <p:sp>
          <p:nvSpPr>
            <p:cNvPr id="53" name=""/>
            <p:cNvSpPr/>
            <p:nvPr/>
          </p:nvSpPr>
          <p:spPr>
            <a:xfrm>
              <a:off x="685800" y="3505320"/>
              <a:ext cx="7772400" cy="30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c5611"/>
                </a:gs>
                <a:gs pos="50000">
                  <a:srgbClr val="ff7518"/>
                </a:gs>
                <a:gs pos="100000">
                  <a:srgbClr val="bc5611"/>
                </a:gs>
              </a:gsLst>
              <a:lin ang="5400000"/>
            </a:gradFill>
            <a:ln w="0">
              <a:noFill/>
            </a:ln>
            <a:effectLst>
              <a:outerShdw dist="10152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828720" y="3522960"/>
              <a:ext cx="7496280" cy="45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7518"/>
                </a:gs>
                <a:gs pos="50000">
                  <a:srgbClr val="ffffff"/>
                </a:gs>
                <a:gs pos="100000">
                  <a:srgbClr val="ff75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20574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7455D-0AB9-4823-9842-23C1947931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853380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7518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20574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Launching a WGA </a:t>
            </a:r>
            <a:br>
              <a:rPr sz="4400"/>
            </a:b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Information Exchange 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tober 2, 20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Likely Tools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ine File Cabi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ine SWAT t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shops/Webinars/Train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AB10-3FFE-40F7-A8E3-9F30B39CB3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Online File Cabinet:</a:t>
            </a:r>
            <a:br>
              <a:rPr sz="4400"/>
            </a:b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Need?  Users?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REGULATORY COMPLI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amples of analysis of socioeconomic benefits and economic benefit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amples of SHPO response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tigation efforts, broken down by category (e.g., plants, specie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ormwater pollution prevention plan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7960" y="18288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UBLIC ENG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Q’s Citizens’ Guide to NEPA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blic fact sheets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amples of effective newsletter sent to communitie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w landowner compensation strategies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C159-F667-4E0C-A2E9-088000AF90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riteria for Online File Cabinet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fer 20 examples or 2 good ones?  Who pick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ly availab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Group or WGA lead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plicate other sites or links to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criteria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5E69-0D43-4CC6-9873-19BEABFBD05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Next Steps Re: </a:t>
            </a:r>
            <a:br>
              <a:rPr sz="4400"/>
            </a:b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Online File Cabinet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ther input, organize and let you review, and add to list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Committ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act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 at next meet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D77F-1FD6-42AA-A865-AFA2F2B2D09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Online SWAT Team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ic Conce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ck on a problem.  (e.g, NGO wants PROOF that the line will be green.  FERC 890--can’t restrict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tility (or NGO or government) posts summary of problem to diverse group (twitter, list-serve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those with interest and ideas, can click and go to blog on topic.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g starts with more detailed information on problem and allows for conversation and inpu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GA monitors blog for productivity and to pull out any documents or ideas that should go in the on-line file cabinet.  (e.g., Gateway posted online who thei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ikel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ubscribers would be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54BE-B7C4-4D94-BE6E-AD8C0B428FC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Online SWAT Team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?/Audience (public or not)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teria for succes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tea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acto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onstration at next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EB18-DCDE-4CC0-80C2-50ECF7FAFA7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6960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WGA Workshops, </a:t>
            </a:r>
            <a:br>
              <a:rPr sz="4400"/>
            </a:b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Webinars, and Trainings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9456"/>
                </a:solidFill>
                <a:latin typeface="Arial"/>
              </a:rPr>
              <a:t>Need?  Audience?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e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-yearly calls: Update on RRTT Status, Federal Plan activ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inar: FERC Order 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kshop:  368 Corridor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7960" y="18288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ublic Eng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kshop: Landowner Reimburs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ining:  Electricity 1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inar:  Mechanisms to fund state staff re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kshop or regular webinars:  New Public Outreach Strate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0735-4139-4EB2-B1DE-4FA50544DC6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Webinars, Workshops, Trainings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teria for Succes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 Steps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GA propose schedule of events for next calendar ye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icit feedback on dates, speakers, ti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Group by topic or WGA le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E271-047D-479A-B1F0-98FBFD8F4D3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7T17:09:55Z</dcterms:created>
  <dc:creator>Kristi Celico</dc:creator>
  <dc:description/>
  <dc:language>en-US</dc:language>
  <cp:lastModifiedBy>Kristi Celico</cp:lastModifiedBy>
  <cp:lastPrinted>2012-09-28T21:04:02Z</cp:lastPrinted>
  <dcterms:modified xsi:type="dcterms:W3CDTF">2012-09-28T21:04:22Z</dcterms:modified>
  <cp:revision>3</cp:revision>
  <dc:subject/>
  <dc:title>Launching a WGA  Information Exchange </dc:title>
</cp:coreProperties>
</file>