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3505-FACF-4C84-B475-112FFA168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this type of file cabinet be helpful?  Already done? Discuss Sonoran.  AWEA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hem add to these two specific lists--flip ch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have them identify other KEY CATAGORIES--like public engagement--put on flip chart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ut orange stickies (I have--they are 9x6).  Ask them to write down specific items under these categories that would be usefu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ring Committee--take volunteers.  Identify contractor?  Go forth and set up specific area and test?  Demo at next meeting?  Demo before go publi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he idea?  If so, don’t want to have a detailed conversation on which specific blog software would be best.  (But welcome those sugges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se the key topics?  Dots as they exit on what they would personally participate i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3823-398C-4F93-877C-43011FD90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9830-3088-40BB-BE98-FAECD19C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D0D7-596A-4B21-BB11-3E763419F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0441-61D1-4442-BA50-C889146F2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05D3-8C4B-4AD9-BA96-856C26469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7190-59A4-41EA-A049-4C0C36A1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7E8F-12CC-4E12-8AAB-007B898E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027C-B1B7-4333-B511-B16C854E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6CAD-B7DB-4DF9-8AE4-1662AFF4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68C4-6C3E-493F-BA92-7A8C3A0D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7FF3-5C90-42AF-9EB0-7893E3C2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589B-3E95-4930-98A2-98EE43A0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7863-8E5A-482A-979A-4EFF57D0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95F8-0EB6-43DB-A49C-7B98AA4F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23C6-C420-4266-AFBB-720CE844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09A7-BF2E-401B-8A34-DAF6A01F1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BBB7-4E56-4604-9170-2989AB9FA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C168-4C44-403E-9512-F3C16F3F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2DE6-636A-4E8E-85B8-1144583C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D82C-42AB-4C48-9C0B-312CB8B3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36B9-D548-4389-A535-096764C4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48C2-22CF-4242-9637-E5D38041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B096-44D2-420F-A93D-D6496822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445D-FB01-4E70-8F9D-FEADCA23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2120" y="152280"/>
            <a:ext cx="7696080" cy="1067040"/>
            <a:chOff x="762120" y="152280"/>
            <a:chExt cx="7696080" cy="1067040"/>
          </a:xfrm>
        </p:grpSpPr>
        <p:sp>
          <p:nvSpPr>
            <p:cNvPr id="1" name=""/>
            <p:cNvSpPr/>
            <p:nvPr/>
          </p:nvSpPr>
          <p:spPr>
            <a:xfrm>
              <a:off x="762120" y="152280"/>
              <a:ext cx="7696080" cy="10670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93939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81720" y="1219320"/>
              <a:ext cx="724320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685800" y="1371600"/>
            <a:ext cx="7772400" cy="304920"/>
            <a:chOff x="685800" y="1371600"/>
            <a:chExt cx="7772400" cy="304920"/>
          </a:xfrm>
        </p:grpSpPr>
        <p:sp>
          <p:nvSpPr>
            <p:cNvPr id="4" name=""/>
            <p:cNvSpPr/>
            <p:nvPr/>
          </p:nvSpPr>
          <p:spPr>
            <a:xfrm>
              <a:off x="685800" y="1371600"/>
              <a:ext cx="7772400" cy="304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5611"/>
                </a:gs>
                <a:gs pos="50000">
                  <a:srgbClr val="ff7518"/>
                </a:gs>
                <a:gs pos="100000">
                  <a:srgbClr val="bc5611"/>
                </a:gs>
              </a:gsLst>
              <a:lin ang="5400000"/>
            </a:gradFill>
            <a:ln w="0">
              <a:noFill/>
            </a:ln>
            <a:effectLst>
              <a:outerShdw dist="10152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828720" y="1390320"/>
              <a:ext cx="7496280" cy="46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18"/>
                </a:gs>
                <a:gs pos="50000">
                  <a:srgbClr val="ffffff"/>
                </a:gs>
                <a:gs pos="100000">
                  <a:srgbClr val="ff7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1A7A-4B56-41D3-8314-1A1C326BE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853380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62120" y="1676520"/>
            <a:ext cx="7696080" cy="1675800"/>
            <a:chOff x="762120" y="1676520"/>
            <a:chExt cx="7696080" cy="1675800"/>
          </a:xfrm>
        </p:grpSpPr>
        <p:sp>
          <p:nvSpPr>
            <p:cNvPr id="50" name=""/>
            <p:cNvSpPr/>
            <p:nvPr/>
          </p:nvSpPr>
          <p:spPr>
            <a:xfrm>
              <a:off x="762120" y="1676520"/>
              <a:ext cx="7696080" cy="16758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93939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81720" y="3352320"/>
              <a:ext cx="724320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85800" y="3505320"/>
            <a:ext cx="7772400" cy="304560"/>
            <a:chOff x="685800" y="3505320"/>
            <a:chExt cx="7772400" cy="304560"/>
          </a:xfrm>
        </p:grpSpPr>
        <p:sp>
          <p:nvSpPr>
            <p:cNvPr id="53" name=""/>
            <p:cNvSpPr/>
            <p:nvPr/>
          </p:nvSpPr>
          <p:spPr>
            <a:xfrm>
              <a:off x="685800" y="3505320"/>
              <a:ext cx="7772400" cy="30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5611"/>
                </a:gs>
                <a:gs pos="50000">
                  <a:srgbClr val="ff7518"/>
                </a:gs>
                <a:gs pos="100000">
                  <a:srgbClr val="bc5611"/>
                </a:gs>
              </a:gsLst>
              <a:lin ang="5400000"/>
            </a:gradFill>
            <a:ln w="0">
              <a:noFill/>
            </a:ln>
            <a:effectLst>
              <a:outerShdw dist="10152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828720" y="3522960"/>
              <a:ext cx="7496280" cy="45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18"/>
                </a:gs>
                <a:gs pos="50000">
                  <a:srgbClr val="ffffff"/>
                </a:gs>
                <a:gs pos="100000">
                  <a:srgbClr val="ff7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C3AC-391E-42F0-A35C-3EE4105B7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853380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Launching a WGA </a:t>
            </a:r>
            <a:br>
              <a:rPr sz="4400"/>
            </a:b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Information Exchange 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tober 2, 20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Likely Tool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File Cabi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SWAT 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hops/Webinars/Train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62A6-DC8D-469D-A5E0-AC0769E0CF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nline File Cabinet:</a:t>
            </a:r>
            <a:br>
              <a:rPr sz="4400"/>
            </a:b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Need?  Users?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GULATORY 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amples of analysis of socioeconomic benefits and economic benefit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amples of SHPO respons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tigation efforts, broken down by category (e.g., plants, specie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ormwater pollution prevention plan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UBLIC ENG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Q’s Citizens’ Guide to NEPA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fact sheet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amples of effective newsletter sent to communiti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landowner compensation strategie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3F0B-554A-43AB-8426-E4476D5B40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riteria for Online File Cabine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er 20 examples or 2 good ones?  Who pick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ly availab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Group or WGA lead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other sites or links to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criteria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AF7D-C51F-4C46-ADD3-C59B934727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Next Steps Re: </a:t>
            </a:r>
            <a:br>
              <a:rPr sz="4400"/>
            </a:b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nline File Cabine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her input, organize and let you review, and add to list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Committ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act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 at next meet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CC02-1933-41DA-9872-2DC2486712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nline SWAT Team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 Con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ck on a problem.  (e.g, NGO wants PROOF that the line will be green.  FERC 890--can’t restric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tility (or NGO or government) posts summary of problem to diverse group (twitter, list-serve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hose with interest and ideas, can click and go to blog on topic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g starts with more detailed information on problem and allows for conversation and inpu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GA monitors blog for productivity and to pull out any documents or ideas that should go in the on-line file cabinet.  (e.g., Gateway posted online who thei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ke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ubscribers would be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5DD7-9A52-49BB-B952-79D385B5B1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nline SWAT Team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?/Audience (public or not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for succe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tea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acto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nstration at next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B6FE-FE48-458C-A5CC-C2FAD37D09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WGA Workshops, </a:t>
            </a:r>
            <a:br>
              <a:rPr sz="4400"/>
            </a:b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Webinars, and Training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9456"/>
                </a:solidFill>
                <a:latin typeface="Arial"/>
              </a:rPr>
              <a:t>Need?  Audience?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-yearly calls: Update on RRTT Status, Federal Plan 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inar: FERC Order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shop:  368 Corrido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ublic Eng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shop: Landowner Reimburs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ining:  Electricity 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inar:  Mechanisms to fund state staff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shop or regular webinars:  New Public Outreach Strate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8112-42D8-4449-A80A-1E845901F1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Webinars, Workshops, Training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for Succ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Steps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GA propose schedule of events for next calendar ye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icit feedback on dates, speakers, ti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Group by topic or WGA le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03B8-2469-4517-9CEC-4DB287706B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17:09:55Z</dcterms:created>
  <dc:creator>Kristi Celico</dc:creator>
  <dc:description/>
  <dc:language>en-US</dc:language>
  <cp:lastModifiedBy>Kristi Celico</cp:lastModifiedBy>
  <cp:lastPrinted>2012-09-28T21:04:02Z</cp:lastPrinted>
  <dcterms:modified xsi:type="dcterms:W3CDTF">2012-09-28T21:04:22Z</dcterms:modified>
  <cp:revision>3</cp:revision>
  <dc:subject/>
  <dc:title>Launching a WGA  Information Exchange </dc:title>
</cp:coreProperties>
</file>