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2AC3-E117-4AF0-8373-121C2ADE9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s type of file cabinet be helpful?  Already done? Discuss Sonoran.  AWEA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hem add to these two specific lists--flip 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have them identify other KEY CATAGORIES--like public engagement--put on flip chart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ut orange stickies (I have--they are 9x6).  Ask them to write down specific items under these categories that would be usef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ste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ring Committee--take volunteers.  Identify contractor?  Go forth and set up specific area and test?  Demo at next meeting?  Demo before go publi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idea?  If so, don’t want to have a detailed conversation on which specific blog software would be best.  (But welcome those sugges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se the key topics?  Dots as they exit on what they would personally participate i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151-89C4-4660-A6F9-1FBA561A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4B5-341D-4C52-93AC-BDC7DFA6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908-E591-4449-9381-DB7C95FB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29A-EA0C-4A98-9B55-2F8E11D3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671C-E2D7-4171-816E-866FC9B2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9AE8-2A64-485E-8A3A-1528E39E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6312-41DE-40EA-84A4-4D50AD69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2F38-E70B-4209-9D88-70AA2963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2502-376B-4232-8AA3-B6AE4224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B24E-4772-4385-83AC-B6FEC90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3FFA-C6D0-45C7-AE68-2035CA43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7EEE-9A52-418C-8E3E-8A099004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3AF8-9D69-4B3F-A026-561E791C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D54D-FCA2-417C-B46B-26BF1A77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9D2A-7330-40C1-B151-290D41CB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7041-1CE7-47BD-83D6-99F22A1D7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8CF1-5119-4418-9E21-A4A8B5CC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C0C-4D0E-478F-8BB6-66B118C8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36A0-ABF7-489B-9AD3-4C7B9224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51E-6DC4-4954-A1A3-CE1C19F9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3CE-AC44-4E18-8ADF-14E2111C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47C-AD17-43D1-BCF8-3C191743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A4DE-660A-4109-AABE-FB2231F3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01C-A9AF-4BA7-9462-3A654B6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0579-28D8-461B-A323-D9F837989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c5611"/>
                </a:gs>
                <a:gs pos="50000">
                  <a:srgbClr val="ff7518"/>
                </a:gs>
                <a:gs pos="100000">
                  <a:srgbClr val="bc5611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D9CF-5A18-4C4B-A7D7-AC78B31C2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aunching a WGA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Information Exchange 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 2, 20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Likely Tool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File Cabi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SWA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hops/Webinars/Trai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7B8-345D-4B6A-ABF9-F25B712301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: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ed?  Users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GULATORY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analysis of socioeconomic benefits and economic benefit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SHPO respons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tigation efforts, broken down by category (e.g., plants, specie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ormwater pollution prevention plan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Q’s Citizens’ Guide to NEPA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act sheet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amples of effective newsletter sent to communit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landowner compensation strategies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001-D5AC-4428-B51D-B2900F0E20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riteria for 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 20 examples or 2 good ones?  Who pic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ly availa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Group or WGA lea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plicate other sites or links to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riteria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2A1-B00A-4A2E-B094-4E2A4E3EB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Next Steps Re: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File Cabine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 input, organize and let you review, and add to li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Committ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t next mee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1208-2372-4F17-9C1A-5444418A80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ck on a problem.  (e.g, NGO wants PROOF that the line will be green.  FERC 890--can’t restric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ty (or NGO or government) posts summary of problem to diverse group (twitter, list-serve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ose with interest and ideas, can click and go to blog on topic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g starts with more detailed information on problem and allows for conversation and inpu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GA monitors blog for productivity and to pull out any documents or ideas that should go in the on-line file cabinet.  (e.g., Gateway posted online who the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ke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bscribers would b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E82F-5BA0-4E7F-965C-C3BB16BA4D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Online SWAT Team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?/Audience (public or no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t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nstration at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BF0-E46E-4A34-81E4-C7CED33EF3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GA Workshops, </a:t>
            </a:r>
            <a:br>
              <a:rPr sz="4400"/>
            </a:b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and Training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9456"/>
                </a:solidFill>
                <a:latin typeface="Arial"/>
              </a:rPr>
              <a:t>Need?  Audience?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-yearly calls: Update on RRTT Status, Federal Plan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FERC Order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 368 Corrid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Eng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: Landowner Reimburs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ining:  Electricity 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inar:  Mechanisms to fund state staf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shop or regular webinars:  New Public Outreach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22B-3ABD-43C8-B9BE-FB322D8F31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Webinars, Workshops, Trainings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for Suc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A propose schedule of events for next calendar ye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icit feedback on dates, speakers,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Group by topic or WGA le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E95-4B2B-4CB7-8517-6D89F57784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7T17:09:55Z</dcterms:created>
  <dc:creator>Kristi Celico</dc:creator>
  <dc:description/>
  <dc:language>en-US</dc:language>
  <cp:lastModifiedBy>Kristi Celico</cp:lastModifiedBy>
  <cp:lastPrinted>2012-09-28T21:04:02Z</cp:lastPrinted>
  <dcterms:modified xsi:type="dcterms:W3CDTF">2012-09-28T21:04:22Z</dcterms:modified>
  <cp:revision>3</cp:revision>
  <dc:subject/>
  <dc:title>Launching a WGA  Information Exchange </dc:title>
</cp:coreProperties>
</file>