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2D65-40D1-4F9F-B665-417DAF584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s type of file cabinet be helpful?  Already done? Discuss Sonoran.  AWEA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hem add to these two specific lists--flip 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have them identify other KEY CATAGORIES--like public engagement--put on flip chart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ut orange stickies (I have--they are 9x6).  Ask them to write down specific items under these categories that would be usefu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ring Committee--take volunteers.  Identify contractor?  Go forth and set up specific area and test?  Demo at next meeting?  Demo before go publi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he idea?  If so, don’t want to have a detailed conversation on which specific blog software would be best.  (But welcome those sugges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se the key topics?  Dots as they exit on what they would personally participate i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FF41-E964-4149-B134-FB38FE2A4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F41E-A042-411C-9D5A-1352A655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9A06-40EA-4EBA-856D-B966EF62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B649-674C-4643-A6D3-0DE8F2D0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5609-36B9-458F-B1B9-DFB13DF7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3E8B-38DB-41A3-A9FB-1DF4F681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9327-0F33-45CF-B610-82EE23D2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80D5-C7E4-4906-BD83-68E3F1EE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5823-ADA7-4613-A4FF-E0AF2E16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C411-C2BF-45F9-8ABA-02D407A8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5243-5C25-46F3-B97C-EFA3490E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CD08-65E8-4D06-B110-6E511AED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A79C-D549-4F8E-8E0C-AE82AAB8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8B18-8673-459C-B86D-902AD467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2F60-813D-4637-906C-E522F70F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1DC1-2B71-401E-8667-57C73C780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487C-1E48-45DE-9EDB-0341246B0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530C-2154-44C7-83B2-DAF631E4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6A1A-4FE9-490C-9748-B641E17B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C058-B052-4A0C-BCAA-C512780A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AF72-0C15-4C9B-8DCF-4A76F1FC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92CB-4808-4E27-83A2-B46E1F19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F2B4-232B-4712-8C02-0FED0A0E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8611-3D6B-42FC-A6A7-ECA98AB8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2120" y="152280"/>
            <a:ext cx="7696080" cy="1067040"/>
            <a:chOff x="762120" y="152280"/>
            <a:chExt cx="7696080" cy="1067040"/>
          </a:xfrm>
        </p:grpSpPr>
        <p:sp>
          <p:nvSpPr>
            <p:cNvPr id="1" name=""/>
            <p:cNvSpPr/>
            <p:nvPr/>
          </p:nvSpPr>
          <p:spPr>
            <a:xfrm>
              <a:off x="762120" y="152280"/>
              <a:ext cx="7696080" cy="10670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3939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81720" y="1219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685800" y="1371600"/>
            <a:ext cx="7772400" cy="304920"/>
            <a:chOff x="685800" y="1371600"/>
            <a:chExt cx="7772400" cy="304920"/>
          </a:xfrm>
        </p:grpSpPr>
        <p:sp>
          <p:nvSpPr>
            <p:cNvPr id="4" name=""/>
            <p:cNvSpPr/>
            <p:nvPr/>
          </p:nvSpPr>
          <p:spPr>
            <a:xfrm>
              <a:off x="685800" y="1371600"/>
              <a:ext cx="7772400" cy="30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5611"/>
                </a:gs>
                <a:gs pos="50000">
                  <a:srgbClr val="ff7518"/>
                </a:gs>
                <a:gs pos="100000">
                  <a:srgbClr val="bc5611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828720" y="1390320"/>
              <a:ext cx="7496280" cy="46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6649-F0FB-469F-9C24-90D6417C3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62120" y="1676520"/>
            <a:ext cx="7696080" cy="1675800"/>
            <a:chOff x="762120" y="1676520"/>
            <a:chExt cx="7696080" cy="1675800"/>
          </a:xfrm>
        </p:grpSpPr>
        <p:sp>
          <p:nvSpPr>
            <p:cNvPr id="50" name=""/>
            <p:cNvSpPr/>
            <p:nvPr/>
          </p:nvSpPr>
          <p:spPr>
            <a:xfrm>
              <a:off x="762120" y="1676520"/>
              <a:ext cx="7696080" cy="16758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3939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81720" y="3352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85800" y="3505320"/>
            <a:ext cx="7772400" cy="304560"/>
            <a:chOff x="685800" y="3505320"/>
            <a:chExt cx="7772400" cy="304560"/>
          </a:xfrm>
        </p:grpSpPr>
        <p:sp>
          <p:nvSpPr>
            <p:cNvPr id="53" name=""/>
            <p:cNvSpPr/>
            <p:nvPr/>
          </p:nvSpPr>
          <p:spPr>
            <a:xfrm>
              <a:off x="685800" y="3505320"/>
              <a:ext cx="777240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5611"/>
                </a:gs>
                <a:gs pos="50000">
                  <a:srgbClr val="ff7518"/>
                </a:gs>
                <a:gs pos="100000">
                  <a:srgbClr val="bc5611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28720" y="3522960"/>
              <a:ext cx="7496280" cy="45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37D1-AA25-40A7-8F08-69DA976E8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Launching a WGA 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Information Exchange 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 2, 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Likely Tool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File Cabi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SWAT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hops/Webinars/Train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5DD1-A7C7-424A-92B1-E5B01C7A62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File Cabinet: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Need?  Users?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GULATORY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s of analysis of socioeconomic benefits and economic benefit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s of SHPO respons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tigation efforts, broken down by category (e.g., plants, specie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rmwater pollution prevention plan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BLIC ENG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Q’s Citizens’ Guide to NEPA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fact sheet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s of effective newsletter sent to communiti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landowner compensation strategie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2093-D536-4BE3-8449-A624D8D636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riteria for Online File Cabine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 20 examples or 2 good ones?  Who pick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ly availa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Group or WGA lead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other sites or links to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criteria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DE56-A840-45E8-A291-B402D52B79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Next Steps Re: 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File Cabine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her input, organize and let you review, and add to lis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Committ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ct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 at next mee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75B8-1498-4F80-BF6C-7BB091FA80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SWAT Team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Con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ck on a problem.  (e.g, NGO wants PROOF that the line will be green.  FERC 890--can’t restric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tility (or NGO or government) posts summary of problem to diverse group (twitter, list-serve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ose with interest and ideas, can click and go to blog on topic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g starts with more detailed information on problem and allows for conversation and inpu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GA monitors blog for productivity and to pull out any documents or ideas that should go in the on-line file cabinet.  (e.g., Gateway posted online who thei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ke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bscribers would be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0B83-430F-4BDC-A3E1-3EC74CDF86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SWAT Team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?/Audience (public or not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for succ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tea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act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nstration at next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FCAE-DDE8-43EC-93B6-5A5A16A447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GA Workshops, 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ebinars, and Training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9456"/>
                </a:solidFill>
                <a:latin typeface="Arial"/>
              </a:rPr>
              <a:t>Need?  Audience?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-yearly calls: Update on RRTT Status, Federal Plan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inar: FERC Order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hop:  368 Corrid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ublic Eng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hop: Landowner Reimburs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ining:  Electricity 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inar:  Mechanisms to fund state staff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hop or regular webinars:  New Public Outreach Strate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5AE0-310E-42DF-B406-D7A73FAE33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ebinars, Workshops, Training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for Succ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GA propose schedule of events for next calendar y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icit feedback on dates, speakers, t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Group by topic or WGA le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B97E-AADF-4996-AF45-23A641FEE9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17:09:55Z</dcterms:created>
  <dc:creator>Kristi Celico</dc:creator>
  <dc:description/>
  <dc:language>en-US</dc:language>
  <cp:lastModifiedBy>Kristi Celico</cp:lastModifiedBy>
  <cp:lastPrinted>2012-09-28T21:04:02Z</cp:lastPrinted>
  <dcterms:modified xsi:type="dcterms:W3CDTF">2012-09-28T21:04:22Z</dcterms:modified>
  <cp:revision>3</cp:revision>
  <dc:subject/>
  <dc:title>Launching a WGA  Information Exchange </dc:title>
</cp:coreProperties>
</file>