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9ED0-BB2D-4A5F-972B-536F32939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CA8E-9789-4A6C-AB23-F0E49F2B2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3585-ECE3-4502-A04B-FB0C099EC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DFC7-6347-4F36-BA53-4F62CEB75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7D8A-DAEA-41BA-99D0-142382D36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EE0A-9AAE-47AA-8235-C8B6922B3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3076-C8AA-42A9-A968-EEC3B6386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demand study photo.jp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Drought Impacts and Prepared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5105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in R. Ben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tate Commission on the Potomac River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914400" y="16765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rought Operations and Water Supply Planning in the Poto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gure 2-2.JPG"/>
          <p:cNvPicPr/>
          <p:nvPr/>
        </p:nvPicPr>
        <p:blipFill>
          <a:blip r:embed="rId1"/>
          <a:stretch/>
        </p:blipFill>
        <p:spPr>
          <a:xfrm>
            <a:off x="538200" y="-4680"/>
            <a:ext cx="8067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5"/>
          <p:cNvSpPr/>
          <p:nvPr/>
        </p:nvSpPr>
        <p:spPr>
          <a:xfrm>
            <a:off x="0" y="512640"/>
            <a:ext cx="9144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7"/>
          <p:cNvSpPr/>
          <p:nvPr/>
        </p:nvSpPr>
        <p:spPr>
          <a:xfrm>
            <a:off x="4680" y="517680"/>
            <a:ext cx="9134640" cy="61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9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ought Respo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unrestricted demands for CO-OP system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environmental flow-b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 triggers for daily and hourly monitoring of flow and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 flows based on gauged flow data, stream flow recession predictions, and water supply withdraw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 operational changes to utility withdrawals and reservoir releases to meet demands and flow-b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 Prediction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66720" y="1752480"/>
            <a:ext cx="788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560" y="1752480"/>
            <a:ext cx="422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/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 with current operational conditions an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jurisdictions, utilities, reservoirs, 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ught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nd media information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cceptance of reservoir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6120" y="1752480"/>
            <a:ext cx="422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for predicting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reliable at low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s effect around 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rating cu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l time of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loss: evaporation, groundwater loss, unknown upstream pu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41:39Z</dcterms:created>
  <dc:creator>C</dc:creator>
  <dc:description/>
  <dc:language>en-US</dc:language>
  <cp:lastModifiedBy>kbencala</cp:lastModifiedBy>
  <dcterms:modified xsi:type="dcterms:W3CDTF">2010-09-13T19:47:56Z</dcterms:modified>
  <cp:revision>581</cp:revision>
  <dc:subject/>
  <dc:title>2010 Water Demand Forecast and Reliability Assessment</dc:title>
</cp:coreProperties>
</file>