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61D4-95FB-45CC-BD85-6D2991D29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00F1-5453-4A6D-AFCD-083952BCB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8747-A548-43AF-B40E-9D43BE761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1DE1-A557-46B1-9DC3-992AD1DF7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DE65-7258-4B32-9D93-4943D6418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EFC1-ADA0-48BE-A6F8-690FC82EC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8651-F3DC-450B-8997-CB24E1FC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24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560" y="175248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24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7560" y="4419360"/>
            <a:ext cx="277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7080" y="441936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752480"/>
            <a:ext cx="4201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4419360"/>
            <a:ext cx="86104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demand study photo.jp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Drought Impacts and Preparedn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5105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in R. Ben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state Commission on the Potomac River B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4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914400" y="16765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rought Operations and Water Supply Planning in the Poto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igure 2-2.JPG"/>
          <p:cNvPicPr/>
          <p:nvPr/>
        </p:nvPicPr>
        <p:blipFill>
          <a:blip r:embed="rId1"/>
          <a:stretch/>
        </p:blipFill>
        <p:spPr>
          <a:xfrm>
            <a:off x="538200" y="-4680"/>
            <a:ext cx="80676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5"/>
          <p:cNvSpPr/>
          <p:nvPr/>
        </p:nvSpPr>
        <p:spPr>
          <a:xfrm>
            <a:off x="0" y="512640"/>
            <a:ext cx="9144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7"/>
          <p:cNvSpPr/>
          <p:nvPr/>
        </p:nvSpPr>
        <p:spPr>
          <a:xfrm>
            <a:off x="4680" y="517680"/>
            <a:ext cx="9134640" cy="61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9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ought Respon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unrestricted demands for CO-OP system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et environmental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49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ow triggers for daily and hourly monitoring of flow and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dict flows based on gauged flow data, stream flow recession predictions, and water supply withdraw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 operational changes to utility withdrawals and reservoir releases to meet demands and flow-by recommend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ow Predictio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66720" y="1752480"/>
            <a:ext cx="788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56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/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with current operational conditions and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jurisdictions, utilities, reservoirs, 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ught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nd media information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acceptance of reservoir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6120" y="1752480"/>
            <a:ext cx="4228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for predicting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reliable at low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ss effect around g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rating cu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el time of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loss: evaporation, groundwater loss, unknown upstream pum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41:39Z</dcterms:created>
  <dc:creator>C</dc:creator>
  <dc:description/>
  <dc:language>en-US</dc:language>
  <cp:lastModifiedBy>kbencala</cp:lastModifiedBy>
  <dcterms:modified xsi:type="dcterms:W3CDTF">2010-09-13T19:47:56Z</dcterms:modified>
  <cp:revision>581</cp:revision>
  <dc:subject/>
  <dc:title>2010 Water Demand Forecast and Reliability Assessment</dc:title>
</cp:coreProperties>
</file>