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6012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46160" y="680760"/>
            <a:ext cx="476568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3E1A-8B73-4133-9D34-D00196B26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E36B-9D40-411F-91BB-1605A8DF96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CC94-5ECD-4FF0-B690-000B1D6E0D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14641560" y="-11799720"/>
            <a:ext cx="17484840" cy="12488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49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B60A-B2BF-4876-957D-4713525EA3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0993-8A49-42B6-BE05-A9DF509FBB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77D7-3E4A-42AD-BB02-2DB8AE2092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5E20-5C44-4168-867D-665E9B5173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14DF-B73F-4E47-8926-5A66A166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308-CD88-421C-8A46-C5D60D11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BCE0-74FC-4CE0-8818-767CFD45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DBE-8EC6-41B8-AE18-2A2D49FA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2D8E-E1D0-47A3-AA36-C64AC132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EE4-A749-48B9-AAB7-7B55115F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285-FE57-4057-A98A-528CEEFF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28B8-56F2-4D43-8EEC-C1FE15E1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609120"/>
            <a:ext cx="815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59D2-DECE-4252-8891-B1451C3B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BAD-C139-4BA5-B665-D55A20A3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AF3-76EE-47F8-8218-E0E721DA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58A-7B75-4A6C-A0FC-0DE12EC8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248520"/>
            <a:ext cx="304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4C07-C505-4D8F-A878-5208E1A90A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601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Zuni Drought Contingency Plan</a:t>
            </a:r>
            <a:br>
              <a:rPr sz="4000"/>
            </a:b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00040" y="2209320"/>
            <a:ext cx="5870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rk Bemis, Hydrolog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Resources S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ervation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ni Tribe, New Mex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14480" y="2324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223848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0" y="4210200"/>
            <a:ext cx="960120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ought , Water, and Climate 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estern Governors’ Association and Western States Water Counci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ptember 14-15,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ZuniLocationAZNM_Fisheries"/>
          <p:cNvPicPr/>
          <p:nvPr/>
        </p:nvPicPr>
        <p:blipFill>
          <a:blip r:embed="rId1"/>
          <a:stretch/>
        </p:blipFill>
        <p:spPr>
          <a:xfrm>
            <a:off x="228600" y="-152280"/>
            <a:ext cx="9220320" cy="712476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32"/>
          <p:cNvGrpSpPr/>
          <p:nvPr/>
        </p:nvGrpSpPr>
        <p:grpSpPr>
          <a:xfrm>
            <a:off x="4275000" y="685800"/>
            <a:ext cx="4100400" cy="4735440"/>
            <a:chOff x="4275000" y="685800"/>
            <a:chExt cx="4100400" cy="4735440"/>
          </a:xfrm>
        </p:grpSpPr>
        <p:sp>
          <p:nvSpPr>
            <p:cNvPr id="55" name="Oval 8"/>
            <p:cNvSpPr/>
            <p:nvPr/>
          </p:nvSpPr>
          <p:spPr>
            <a:xfrm>
              <a:off x="5791320" y="5257800"/>
              <a:ext cx="161640" cy="16344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7543800" y="2895480"/>
              <a:ext cx="162000" cy="16380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10"/>
            <p:cNvSpPr/>
            <p:nvPr/>
          </p:nvSpPr>
          <p:spPr>
            <a:xfrm>
              <a:off x="4876920" y="2819520"/>
              <a:ext cx="161640" cy="16488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11"/>
            <p:cNvSpPr/>
            <p:nvPr/>
          </p:nvSpPr>
          <p:spPr>
            <a:xfrm>
              <a:off x="6553080" y="990720"/>
              <a:ext cx="162000" cy="16344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5486400" y="2590920"/>
              <a:ext cx="160200" cy="1634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6324480" y="1523880"/>
              <a:ext cx="162000" cy="165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14"/>
            <p:cNvSpPr/>
            <p:nvPr/>
          </p:nvSpPr>
          <p:spPr>
            <a:xfrm>
              <a:off x="7086600" y="1371600"/>
              <a:ext cx="192240" cy="1969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15"/>
            <p:cNvSpPr/>
            <p:nvPr/>
          </p:nvSpPr>
          <p:spPr>
            <a:xfrm>
              <a:off x="6858000" y="1905120"/>
              <a:ext cx="193680" cy="1951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16"/>
            <p:cNvSpPr/>
            <p:nvPr/>
          </p:nvSpPr>
          <p:spPr>
            <a:xfrm>
              <a:off x="6705720" y="1066680"/>
              <a:ext cx="193680" cy="1954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Text Box 17"/>
            <p:cNvSpPr/>
            <p:nvPr/>
          </p:nvSpPr>
          <p:spPr>
            <a:xfrm>
              <a:off x="6027840" y="50292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7780320" y="29718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 Box 19"/>
            <p:cNvSpPr/>
            <p:nvPr/>
          </p:nvSpPr>
          <p:spPr>
            <a:xfrm>
              <a:off x="4275000" y="243828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Text Box 20"/>
            <p:cNvSpPr/>
            <p:nvPr/>
          </p:nvSpPr>
          <p:spPr>
            <a:xfrm>
              <a:off x="5951520" y="6858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4883760" y="2286000"/>
              <a:ext cx="700560" cy="246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000 af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22"/>
            <p:cNvSpPr/>
            <p:nvPr/>
          </p:nvSpPr>
          <p:spPr>
            <a:xfrm>
              <a:off x="5798160" y="1143000"/>
              <a:ext cx="700560" cy="246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000 af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30"/>
          <p:cNvGrpSpPr/>
          <p:nvPr/>
        </p:nvGrpSpPr>
        <p:grpSpPr>
          <a:xfrm>
            <a:off x="2895480" y="990720"/>
            <a:ext cx="2057400" cy="847080"/>
            <a:chOff x="2895480" y="990720"/>
            <a:chExt cx="2057400" cy="847080"/>
          </a:xfrm>
        </p:grpSpPr>
        <p:sp>
          <p:nvSpPr>
            <p:cNvPr id="71" name="Rectangle 28"/>
            <p:cNvSpPr/>
            <p:nvPr/>
          </p:nvSpPr>
          <p:spPr>
            <a:xfrm>
              <a:off x="2895480" y="990720"/>
              <a:ext cx="2057400" cy="8380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5"/>
            <p:cNvSpPr/>
            <p:nvPr/>
          </p:nvSpPr>
          <p:spPr>
            <a:xfrm>
              <a:off x="2971800" y="1371600"/>
              <a:ext cx="152280" cy="1522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26"/>
            <p:cNvSpPr/>
            <p:nvPr/>
          </p:nvSpPr>
          <p:spPr>
            <a:xfrm>
              <a:off x="2971800" y="1143000"/>
              <a:ext cx="152280" cy="15228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7"/>
            <p:cNvSpPr/>
            <p:nvPr/>
          </p:nvSpPr>
          <p:spPr>
            <a:xfrm>
              <a:off x="3200400" y="1066680"/>
              <a:ext cx="1752480" cy="77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WS Precipitation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USGS Streamflow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RCS Snowpack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AutoShape 29"/>
            <p:cNvSpPr/>
            <p:nvPr/>
          </p:nvSpPr>
          <p:spPr>
            <a:xfrm>
              <a:off x="2971800" y="1600200"/>
              <a:ext cx="182520" cy="182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lan Implement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601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 2001 – Plan completed with USBR gr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ly for lands in Zuni River Basin in New Mexico since other lands sen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hasizes long-term mitigation to reduce risk and minimize response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formal committees; Water Resources leads other Tribal, BIA &amp; IHS progra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2002 – Monitoring reports started month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marizes federal data in Basin and Plan indices, which use only federal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ndard Palmer Drought Severity Index from NOAA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stomized precipitation (3 NOAA stations) &amp; streamflow (1 USGS station) ind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nthly levels and volumes of 10 reservoirs collected by Zu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.S. Drought Monitor &amp; SPI; no forecasting in consideration of drought tabo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2002 – Drought Emergency decl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acts to farming, ranching, construction &amp; municipal system from water hau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ponse focused on development of water hauling sites and system restri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ly 2006 – Drought Emergency decl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acts mostly to farming and ranching but then record rainfall hel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ponse focused on improvements at ranch livestock watering s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ssues, Challenges &amp; Lessons Learn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601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ltural taboo to “plan” for drought; public involvement tric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itivity of water data due to unadjudicated water r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ing collection of monitoring data and updating of i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ling the need for a Plan as a worthy investment                (No Tribal contingency plans for other hazards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is needed to help ourselves since minimal assistance is available just for drought, even with a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out buy-in by all at every step, Plan will remain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ing typical fate of plans doomed to the booksh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ssues, Challenges &amp; Lessons Learn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601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k increased by Tribal “financial and political” drought;          (lack of water rights, development- esp. groundwater, maintenance, &amp; management policies and resourc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ught magnifies weaknesses in physical infrastructure, natural resources management &amp; governmental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weaknesses have increased risk but also endu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norm of having little, relying on gover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ment norm of inadequate resources, always reac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short-term relief that increases vulnerability, dependence on government, and “new” program work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hasize long-term mitigation that supports better resource management, land user self-reliance, &amp; “existing” work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eeds and Opportun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601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funding and support for federal basic data col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 USGS cost-share to 50% for g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place NOAA stations (USHCN-M) on Tribal trust la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ance of “abandoned” stations until find new coope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ibe can provide in-kind services, if trained, to reduce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date and enhance Plan’s customized i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stage triggering criteria and usefulness of longer time peri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stance with production of indices and delivery of monthly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use of Zuni data and other available indices and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ni collecting precipitation, reservoir, spring &amp; groundwater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stance with processing and analyzing Zuni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ier funding for response; more funding for mitig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resources, personnel; allow federal funding for pers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6:56:50Z</dcterms:created>
  <dc:creator>Kirk Bemis</dc:creator>
  <dc:description/>
  <dc:language>en-US</dc:language>
  <cp:lastModifiedBy>Tom Iseman</cp:lastModifiedBy>
  <dcterms:modified xsi:type="dcterms:W3CDTF">2010-09-14T16:16:47Z</dcterms:modified>
  <cp:revision>394</cp:revision>
  <dc:subject/>
  <dc:title>PowerPoint Presentation</dc:title>
</cp:coreProperties>
</file>