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6012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6160" y="680760"/>
            <a:ext cx="476568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746B-D8D7-43EC-B772-6909195F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6606-E88B-4333-A8D7-E31773BE3E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14E7-9A5A-4780-A4DB-6419847B74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-14641560" y="-11799720"/>
            <a:ext cx="17484840" cy="12488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49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84A8-2A35-4EBB-AF9D-F327AF59ED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1681-D2C9-4F25-9318-870E3AF310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E96D-4360-48F0-8577-68B03C7A4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6E05-9864-480F-B52D-88E41F9B4A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46160" y="681120"/>
            <a:ext cx="4765680" cy="3405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4A0-4B08-4E71-BF98-DBCEBB98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4FE-3E04-4239-9292-5734255A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BA6-52DF-40CB-8471-3E885E61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198108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4130640"/>
            <a:ext cx="262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99C-8FA2-4798-A758-138AD40A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C4D5-B176-49B6-9379-E67B35CA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E4F-3572-4B03-9D83-C6161F92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F5ED-28F8-4FCB-AF73-70B02968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0B2-8E0C-461C-8708-AB1360B9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609120"/>
            <a:ext cx="815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B57-02D2-4CAE-A317-F95A76C3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354-B4ED-481A-BEC0-E903701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413064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DF1-B889-4E77-8241-3DE326CF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1981080"/>
            <a:ext cx="398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130640"/>
            <a:ext cx="815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FA8-D965-406F-95D8-FDA8F5B4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609120"/>
            <a:ext cx="815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1981080"/>
            <a:ext cx="815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6248520"/>
            <a:ext cx="304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6248520"/>
            <a:ext cx="200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D292-92A8-4E4C-BBF7-8688D73DF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601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Zuni Drought Contingency Plan</a:t>
            </a:r>
            <a:br>
              <a:rPr sz="4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00040" y="2209320"/>
            <a:ext cx="5870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rk Bemis, Hydrolog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ources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rvation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Tribe, New Me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14480" y="2324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22384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4210200"/>
            <a:ext cx="96012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ought , Water, and Climate Worksh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ern Governors’ Association and Western States Water Counc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ptember 14-15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ZuniLocationAZNM_Fisheries"/>
          <p:cNvPicPr/>
          <p:nvPr/>
        </p:nvPicPr>
        <p:blipFill>
          <a:blip r:embed="rId1"/>
          <a:stretch/>
        </p:blipFill>
        <p:spPr>
          <a:xfrm>
            <a:off x="228600" y="-152280"/>
            <a:ext cx="9220320" cy="71247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2"/>
          <p:cNvGrpSpPr/>
          <p:nvPr/>
        </p:nvGrpSpPr>
        <p:grpSpPr>
          <a:xfrm>
            <a:off x="4275000" y="685800"/>
            <a:ext cx="4100400" cy="4735440"/>
            <a:chOff x="4275000" y="685800"/>
            <a:chExt cx="4100400" cy="4735440"/>
          </a:xfrm>
        </p:grpSpPr>
        <p:sp>
          <p:nvSpPr>
            <p:cNvPr id="55" name="Oval 8"/>
            <p:cNvSpPr/>
            <p:nvPr/>
          </p:nvSpPr>
          <p:spPr>
            <a:xfrm>
              <a:off x="5791320" y="5257800"/>
              <a:ext cx="16164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7543800" y="2895480"/>
              <a:ext cx="162000" cy="16380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876920" y="2819520"/>
              <a:ext cx="161640" cy="1648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1"/>
            <p:cNvSpPr/>
            <p:nvPr/>
          </p:nvSpPr>
          <p:spPr>
            <a:xfrm>
              <a:off x="6553080" y="990720"/>
              <a:ext cx="162000" cy="16344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5486400" y="2590920"/>
              <a:ext cx="160200" cy="1634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6324480" y="1523880"/>
              <a:ext cx="162000" cy="165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>
              <a:off x="7086600" y="1371600"/>
              <a:ext cx="192240" cy="1969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AutoShape 15"/>
            <p:cNvSpPr/>
            <p:nvPr/>
          </p:nvSpPr>
          <p:spPr>
            <a:xfrm>
              <a:off x="6858000" y="1905120"/>
              <a:ext cx="193680" cy="1951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AutoShape 16"/>
            <p:cNvSpPr/>
            <p:nvPr/>
          </p:nvSpPr>
          <p:spPr>
            <a:xfrm>
              <a:off x="6705720" y="1066680"/>
              <a:ext cx="193680" cy="1954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Text Box 17"/>
            <p:cNvSpPr/>
            <p:nvPr/>
          </p:nvSpPr>
          <p:spPr>
            <a:xfrm>
              <a:off x="6027840" y="50292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7780320" y="2971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Text Box 19"/>
            <p:cNvSpPr/>
            <p:nvPr/>
          </p:nvSpPr>
          <p:spPr>
            <a:xfrm>
              <a:off x="4275000" y="243828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Text Box 20"/>
            <p:cNvSpPr/>
            <p:nvPr/>
          </p:nvSpPr>
          <p:spPr>
            <a:xfrm>
              <a:off x="5951520" y="685800"/>
              <a:ext cx="595080" cy="246240"/>
            </a:xfrm>
            <a:prstGeom prst="rect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 in/y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4883760" y="2286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Text Box 22"/>
            <p:cNvSpPr/>
            <p:nvPr/>
          </p:nvSpPr>
          <p:spPr>
            <a:xfrm>
              <a:off x="5798160" y="1143000"/>
              <a:ext cx="700560" cy="2462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,000 af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Group 30"/>
          <p:cNvGrpSpPr/>
          <p:nvPr/>
        </p:nvGrpSpPr>
        <p:grpSpPr>
          <a:xfrm>
            <a:off x="2895480" y="990720"/>
            <a:ext cx="2057400" cy="847080"/>
            <a:chOff x="2895480" y="990720"/>
            <a:chExt cx="2057400" cy="847080"/>
          </a:xfrm>
        </p:grpSpPr>
        <p:sp>
          <p:nvSpPr>
            <p:cNvPr id="71" name="Rectangle 28"/>
            <p:cNvSpPr/>
            <p:nvPr/>
          </p:nvSpPr>
          <p:spPr>
            <a:xfrm>
              <a:off x="2895480" y="990720"/>
              <a:ext cx="2057400" cy="83808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5"/>
            <p:cNvSpPr/>
            <p:nvPr/>
          </p:nvSpPr>
          <p:spPr>
            <a:xfrm>
              <a:off x="2971800" y="1371600"/>
              <a:ext cx="152280" cy="1522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6"/>
            <p:cNvSpPr/>
            <p:nvPr/>
          </p:nvSpPr>
          <p:spPr>
            <a:xfrm>
              <a:off x="2971800" y="1143000"/>
              <a:ext cx="152280" cy="152280"/>
            </a:xfrm>
            <a:prstGeom prst="ellipse">
              <a:avLst/>
            </a:prstGeom>
            <a:solidFill>
              <a:srgbClr val="00ff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Text Box 27"/>
            <p:cNvSpPr/>
            <p:nvPr/>
          </p:nvSpPr>
          <p:spPr>
            <a:xfrm>
              <a:off x="3200400" y="1066680"/>
              <a:ext cx="1752480" cy="77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WS Precipitation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USGS Streamflow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NRCS Snowpack Station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AutoShape 29"/>
            <p:cNvSpPr/>
            <p:nvPr/>
          </p:nvSpPr>
          <p:spPr>
            <a:xfrm>
              <a:off x="2971800" y="1600200"/>
              <a:ext cx="182520" cy="182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lan Implement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 2001 – Plan completed with USBR gr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ly for lands in Zuni River Basin in New Mexico since other lands sen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zes long-term mitigation to reduce risk and minimize response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formal committees; Water Resources leads other Tribal, BIA &amp; IHS progra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Monitoring reports started month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mmarizes federal data in Basin and Plan indices, which use only federal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ndard Palmer Drought Severity Index from NOAA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stomized precipitation (3 NOAA stations) &amp; streamflow (1 USGS station) ind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nthly levels and volumes of 10 reservoirs collected by Zu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.S. Drought Monitor &amp; SPI; no forecasting in consideration of drought tab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y 2002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to farming, ranching, construction &amp; municipal system from water hau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development of water hauling sites and system restri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ly 2006 – Drought Emergency decla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acts mostly to farming and ranching but then record rainfall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ponse focused on improvements at ranch livestock watering s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601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 taboo to “plan” for drought; public involvement tric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itivity of water data due to unadjudicated water r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ing collection of monitoring data and updating of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ling the need for a Plan as a worthy investment                (No Tribal contingency plans for other hazard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s needed to help ourselves since minimal assistance is available just for drought, even with a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out buy-in by all at every step, Plan will remain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ing typical fate of plans doomed to the booksh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sues, Challenges &amp; Lessons Learne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601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k increased by Tribal “financial and political” drought;          (lack of water rights, development- esp. groundwater, maintenance, &amp; management policies and resourc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ought magnifies weaknesses in physical infrastructure, natural resources management &amp; governmental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weaknesses have increased risk but also endu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norm of having little, relying on 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vernment norm of inadequate resources, always reac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short-term relief that increases vulnerability, dependence on government, and “new” program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hasize long-term mitigation that supports better resource management, land user self-reliance, &amp; “existing” work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eeds and Opportun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601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funding and support for federal basic data col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 USGS cost-share to 50% for g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place NOAA stations (USHCN-M) on Tribal trust la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ance of “abandoned” stations until find new cooper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ibe can provide in-kind services, if trained, to reduce co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date and enhance Plan’s customized ind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stage triggering criteria and usefulness of longer time peri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duction of indices and delivery of monthly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use of Zuni data and other available indices and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uni collecting precipitation, reservoir, spring &amp; groundwater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ce with processing and analyzing Zuni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ier funding for response; more funding for mitig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ources, personnel; allow federal funding for pers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16:56:50Z</dcterms:created>
  <dc:creator>Kirk Bemis</dc:creator>
  <dc:description/>
  <dc:language>en-US</dc:language>
  <cp:lastModifiedBy>Tom Iseman</cp:lastModifiedBy>
  <dcterms:modified xsi:type="dcterms:W3CDTF">2010-09-14T16:16:47Z</dcterms:modified>
  <cp:revision>394</cp:revision>
  <dc:subject/>
  <dc:title>PowerPoint Presentation</dc:title>
</cp:coreProperties>
</file>